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D8119-85E9-4F96-A73D-4F3F9BCCD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B7D2C-8A0D-4DB4-BBB6-8D254BDC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BDD1C-3197-483E-BE4F-45C6E3388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CA2E3-7731-469A-BA11-D9DE3B1CD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7A022-150C-4314-8118-ADD2E094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1002-9BC7-49F8-8A3C-EAC21589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5F19-DC19-491C-BA81-95D92B6DE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0DD5-B278-489B-B282-F3AF9E56F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CD38-3C68-40CE-92EF-585EE82EB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656E-66DA-44EE-9CB5-2BDAD76E6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820F-D773-4D44-BBF3-EE9CC44BF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D669-3031-454C-A030-372E73E8C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0956-B38B-4486-A773-703ABA6FF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920000" cy="5832360"/>
          </a:xfrm>
          <a:prstGeom prst="rect">
            <a:avLst/>
          </a:prstGeom>
          <a:ln w="0">
            <a:noFill/>
          </a:ln>
        </p:spPr>
      </p:pic>
      <p:sp>
        <p:nvSpPr>
          <p:cNvPr id="42" name=""/>
          <p:cNvSpPr txBox="1"/>
          <p:nvPr/>
        </p:nvSpPr>
        <p:spPr>
          <a:xfrm rot="21059400">
            <a:off x="2722320" y="2800080"/>
            <a:ext cx="4757760" cy="10587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Fascismo y Nazis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talia fascista: características generales 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b3cbeb"/>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scenso de Mussolini al poder se realiza en medio de una fuerte cri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te endeudamiento por la I G. M. que provocó una creciente subida de precios, aumento del paro y de la tensión social con ocupaciones de tierras y fábric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medias y altas ante esta situación comienzan a prestar apoyo al movimiento fascis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Mussolini crea el Fasci di Combattim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922 convoca una Marcha sobre Roma como respuesta a la convocatoria de una Huelga General por los socialistas y comunistas. Esta medida de presión surtió efecto y el rey Víctor Manuel tras la Marcha le ofreció la formación de gobierno el cual obtuvo plenos pod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talia fascista: características generales II</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solidFill>
            <a:srgbClr val="b3cbeb"/>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gobierno de Mussolini, características del fascis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ideología antidemocrática y anticomun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o totalitario, dirigido por un líder todopoder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o intervencionista en la economía, con el fin de conseguir la autosuficiencia del paí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lso del nacionalismo expansionista y militar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o a la violencia. Se enfrentan con violencia a los rivales políticos. Adoptan usos y estética mili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lemania en la posguerra: Weimar</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bilidad de la República de Weim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 la abdicación del emperador alemán, una Asamblea constituyente reunida en Weimar desarrolló una nueva constitución que convertía a Alemania en una Repúbl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artido Socialdemócrata tenía mayoría en el parlam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eligros para Weimar eran la oposición de los grupos políticos :■ De extrema izquierda, los espartaquistas,  que en 1919 provocan una insurrección. El objetivo era establecer una República de los sóviets. ■ Grupos conservadores y nazis, que no aceptaban el Tratado de Versalles. En 1920 A. Hitler creó el NSDAP, en 1923 intenta un golpe de estado (putsch de Munich) que fracas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ituación económica tras la guerra: -pago de indemnizaciones a Francia, -falta de capital para recuperar la economía,-hiperinflació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risis económica de los años 3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partir de 1924 con el Plan Dawes se produce una recuperación económica. Hindenburg preside el República y los partidos extremistas pierden pe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sde el crack del 29</a:t>
            </a:r>
            <a:r>
              <a:rPr b="0" lang="es-ES_tradnl" sz="1600" spc="-1" strike="noStrike">
                <a:solidFill>
                  <a:srgbClr val="000000"/>
                </a:solidFill>
                <a:latin typeface="Arial"/>
              </a:rPr>
              <a:t> con la extensión de la crisis a </a:t>
            </a:r>
            <a:r>
              <a:rPr b="1" lang="es-ES_tradnl" sz="1600" spc="-1" strike="noStrike">
                <a:solidFill>
                  <a:srgbClr val="000000"/>
                </a:solidFill>
                <a:latin typeface="Arial"/>
              </a:rPr>
              <a:t> </a:t>
            </a:r>
            <a:r>
              <a:rPr b="0" lang="es-ES_tradnl" sz="1600" spc="-1" strike="noStrike">
                <a:solidFill>
                  <a:srgbClr val="000000"/>
                </a:solidFill>
                <a:latin typeface="Arial"/>
              </a:rPr>
              <a:t>Alemania desde Estados Unidos, se produjo el cierre de muchas empresas en Alemania y el aumento del pa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1932 había 6 millones de pa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tler llega al pode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isis económica favoreció la llegada de Hitler al poder por el descontento y la tensión social que generó. Sectores sociales como obreros y clases medias comenzaron a apoyarlo, pero también industriales y financieros ante el temor de una revolución obrera ( el Partido Comunista también aumentó sus vo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s elecciones de 1932 comunistas y nazis son las fuerzas más votadas. Pero ningún partido tiene mayoría absoluta y por lo tanto ninguno puede gobernar en solitar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ndenburg es elegido de nuevo presidente de la República, y tiene que decidir  a quién llamaría a formar gobierno. Presionado por hombres de negocios y grupos conservadores, Hindenburg nombra canciller a Hitler en enero de 193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finales de febrero, tras ser nombrado canciller, ordena incendiar el Reichstag culpando a los comunistas. A partir de aquí inicia una persecución  contra ellos (encarcelándolos  en campos de concentra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1934 se deshace del sector más anticapitalista del nazismo, cúpula de las SA; en la noche de los cuchillos larg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agosto de 1934 Hindenburg muere y Hitler se convirtió en presidente de la República. A partir de ahora en su persona confluyen : la jefatura del Estado, la presidencia del gobierno, y la presidencia del único partido legal el Partido Naz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ología naz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Mein Kampf, Hitler plasma su ideario (escrito en la cárcel). Este se basaba e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ulto al jef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macía del Est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altación de la violencia y de la juventu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a ideología racista que incorpora valores tradiciona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Su rasgo más específico es una concepción racista y racial de la historia (razas inferiores y superiores, colonialism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os alemanes pertenecían a la raza aria, considerada superior, por lo que debían imponerse a los pueblos inferiores como latinos, eslavos, gitanos y sobre todo, judí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Hitler considera una prioridad devolver la pureza racial a la población (elimiar a los que no son perfectos racialmente. Se implantó una politica antisemita. Se prolhibió a los judios ejercer profesiones, en 1935 se prohibieron los matrimonios y relaciones sexuales entre judios y arios. En 1938 la noche de los cristales rotos decenas de judíos fueron asesinados, negocios destruidos y conducidos muchos de ellos a campos de concentración. Esto provocó el exilio de numerosos judíos a otros paí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En 1942 H. aplicó la solución final. Los judíos y gitanos de Alemania y de los países conquistados fueron deportados a campos de exterminio, murieron 5 millones en estos camp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régimen totalitari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llegar al poder H. ilegalizó a todos los partidos políticos. Se convirtió en el líder indiscuti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lantó un estado policial con el que controlaba a la población. Himmler dirigía este aparato policial con las SS y la Gestapo. De 1933 a 1936 1 millón de personas fueron enviadas a los campos de concent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l control de la población también fue fundamental la propaganda, Goebbels fue el encargado de dirigirla. Los medios de comunicación estaban controlados por el partido nazi: prensa, radio, televisión y el cine. En ellos se ensalzaba a H. del que se daba una visión sobrehuman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ducación transmitía la ideología nazi. Los jóvenes tenían que ingresar en la juventudes hitlerianas donde recibían educación militar y polít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de esta represión la oposición fue casi nula. Las elites conservadoras  le agradecían que hubiera terminado con la Republica y el comunismo. Entre las clases populares muchos le apoyaban, pues se sentían estaban orgullosos de sus éxitos en política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olítica exterior : militarismo y expansionismo</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ología nazi era una ideología expansionista, necesitaba que Alemania se expandiera más allá de las fronteras que le había impuesto el Tratado de Versal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se basaba en el pangermanismo y la teoría del espacio vital, según la cual los arios, una raza superior tenían derecho a conquistar territorio a expensas de los eslavos y otras razas inferio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 primero puso en marcha el rearme, reestableciendo el servicio militar obligatorio, Goering organizó el ejército más potente de los años 30. Después comenzó al expansión: en el 38 Austria es anexionada, y la región checoslovaca de los Sudetes. En 1939 H. ocupó el resto de Checoslovaquia. Ninguna potencia se opuso a estos hech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tler puso en marcha una política de grandes obras públicas. La prioridad era apoyar la política exterior. La autarquía se convirtió en el gran objetivo (autoabastecimiento para no importar). Se invirtió mucho en las industrias relacionadas con el ejército. Los grandes grupos industriales Thyssen y Krupp apoyaron al régimen nazi obteniendo enormes benefic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21:08:50Z</dcterms:created>
  <dc:creator>amalia</dc:creator>
  <dc:description/>
  <dc:language>en-US</dc:language>
  <cp:lastModifiedBy>amalia</cp:lastModifiedBy>
  <dcterms:modified xsi:type="dcterms:W3CDTF">2012-04-19T18:27:53Z</dcterms:modified>
  <cp:revision>7</cp:revision>
  <dc:subject/>
  <dc:title>Diapositiva 1</dc:title>
</cp:coreProperties>
</file>