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E9341-E53D-4732-9428-CCB551132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1594-0CB2-4387-89E3-575867130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2F7B3-68A1-4552-983D-6567CF6E2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379EF-4D77-4378-8476-1B0E815BA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62ADB-F4CF-4DD5-AC05-C7AE9B6A7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5326D-646F-4402-A5D3-39AA9464E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67A54-7763-48AA-813C-0A211E25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6D8AA-1255-4604-AD42-18BBE7ADC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D97E5-BA3D-40AD-ADBC-F345A12BF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6B92C-8162-4666-A5B1-47B5DB6DF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DA48D-FCFD-4655-BA59-4995C0689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55EAE-CE3C-4A75-8A14-B3FAD604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5D6F6-F2F5-405D-A96A-FBA0282E5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FE66-886F-493F-B3CF-BD919E3FB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EEEE4-8FD1-4A4A-ADD5-D141041FE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C787B-5AE6-4246-8FDC-F1944B63C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FA6EA-55DB-4E9A-85A6-E47693600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137C0-2CB8-4C32-A559-6721FD95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8E3B-316C-42ED-A9E1-6AE313D4A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9367-4E3E-4238-8D5B-F41ADD4C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04692-040A-43F6-AEE3-8CBECEC1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67DD-311D-4979-96E6-658B7003D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79E6-7092-4881-B829-D2A9B8C9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AFBC-9DAF-40FC-A909-57E3790C9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35F3-3D78-4A21-AAE1-8D7825D3EE4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E338-2E29-44A1-B3F5-26F08A07E09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a Guerra Fría 1945-1991</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iodo que transcurre entre el fin de la II Guerra Mundial y la desaparición de la Unión Soviét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distensión las crisis se sucedieron: en 1961 Berlín se convirtió en protagonista de la G.F. Berlín dividida desde el final de la guerra en dos sectores fue separada mediante un muro por las autoridades de la RDA (Alemania oriental) para evitar la emigración al oeste. Este hecho se convirtió en un símbolo de la G.F.</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isis de los misiles en Cuba, en 1962 la URSS comenzó a instalar rampas de  misiles en Cuba a 80 km de las costas americanas. Kennedy como respuesta decretó el bloqueo naval de la Isla y la tensión internacional se disparó ante la posibilidad de un choque. Finalmente Kruschev desmantelo las rampas y la tensión cedió.</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uerra de Vietnam de 1962-1974 . Vietnam estada dividida en dos estados desde su independencia de Francia en 1954: Vietnam del norte, con un gobierno comunista , y Vietnam del sur, con un régimen anticomunista. En el norte había surgido una guerrilla procomunista (el Vietcong) que pretendía incorporar al país a Vietnam del no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I</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 partir de 1962 Kennedy envió consejeros militares a Vietnam del Sur para evitar la caída del régimen. En los años siguientes el presidente Johnson desplegó numerosos soldados en Vietnam  extendiendo el conflicto a los países vecinos (acabar con el agua para el pez). Esta guerra fue muy impopular en EE.UU., por las bajas y la imposibilidad de derrotar al Vietcong pese a la superioridad militar. Nixon inicia una retirada paulatina que acabó en 1974, tras su marcha un año después cayó el sur y Vietnam se reunific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Guerra Fría 1953-1989</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segunda Guerra Fría (1977-1989)</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l 77 se produce un rebrote de la G. F. En ese año la URSS comienza a desplegar misiles nucleares en sus zonas de influencia en Europa, es lo que se conoce como la crisis de los “euromisiles” . En ese momento es cuando la U.S. inicia su intervención en Afganistá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E.UU. respondió con la instalación de misiles en algunas bases europeas de la OTAN y con el Proyecto de Defensa Estratégica (guerra de las galaxias) del presidente Reagan,  se trataba de un escudo desplegado en el espacio para repeler los ataques de misiles soviéticos.</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relanzamiento de la carrera de misiles incrementó los gastos militares de las superpotencias, a lo que economía soviética no pudo responder.</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la llegada al poder de Mijail Gorbachov se evidenciaron los graves problemas económicos de la URSS. Se precipita el final de la G.F.</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1989 cae el muro de Berlín símbolo de la G.F. y finalmente en 1991 se disolvió el Pacto de Varsovi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os orígenes de la Guerra Fría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é fue la Guerra Frí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iodo que se inicia tras la II Guerra Mundial, el mundo quedó dividido en bloques antagónicos: ● el bloque occidental, liderado por EE.UU.. y reforzado por su aliados de Europa Occidental, y el ●bloque comunista, que encabezaba la Unión Soviética secundada por sus aliados de Eurpa Oriental. Cada bloque se organizaba de una manera diferente con sistemas económicos y politicos opuesto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Fue Churchill quien con el término </a:t>
            </a:r>
            <a:r>
              <a:rPr b="1" lang="es-ES_tradnl" sz="2100" spc="-1" strike="noStrike">
                <a:solidFill>
                  <a:srgbClr val="000000"/>
                </a:solidFill>
                <a:latin typeface="Arial"/>
              </a:rPr>
              <a:t>telón de acero</a:t>
            </a:r>
            <a:r>
              <a:rPr b="0" lang="es-ES_tradnl" sz="2100" spc="-1" strike="noStrike">
                <a:solidFill>
                  <a:srgbClr val="000000"/>
                </a:solidFill>
                <a:latin typeface="Arial"/>
              </a:rPr>
              <a:t> denunció la influencia soviética en el centro de Europa y evidencia que el entendimiento entre rusos y americanos se estaba quebrando. Para reforzar sus respectivas áreas de influencia los americanos llevaron a cabo el Plan Marshall en 1947 (programa de ayudas para reconstruir la economía europea) y los rusos crean el Kominforn para coordinar el apoyo a su política de los partidos comunistas de todo el mund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loqueo de Berlín. El primer enfrentamiento tras la guerra es la crisis de Berlín (dividida en cuatro sectores, uno por cada vencedor, tras la guerra). En 1948 EE.UU. , Francia y Gran Bretaña crean la República Federal alemana. La URSS bloqueó Berlín occidental, en zona soviética, en represalia. Se estableció un puente aéreo y fracasó el bloqueo. La URSS creó la Republica Democrática alemana.  </a:t>
            </a:r>
            <a:endParaRPr b="0" lang="en-US" sz="2200" spc="-1" strike="noStrike">
              <a:solidFill>
                <a:srgbClr val="000000"/>
              </a:solidFill>
              <a:latin typeface="Arial"/>
            </a:endParaRPr>
          </a:p>
        </p:txBody>
      </p:sp>
      <p:pic>
        <p:nvPicPr>
          <p:cNvPr id="155" name="" descr=""/>
          <p:cNvPicPr/>
          <p:nvPr/>
        </p:nvPicPr>
        <p:blipFill>
          <a:blip r:embed="rId1"/>
          <a:stretch/>
        </p:blipFill>
        <p:spPr>
          <a:xfrm>
            <a:off x="4932360" y="1628640"/>
            <a:ext cx="3610080" cy="42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I</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uerra de Corea. En 1949 se produjo el triunfo de Mao Zedong en China, EEUU temió la expansión del comunismo en el mundo. En este ambiente estalla la g. de Corea 1950-1953. Dividida tras la ocupación de Japón por el paralelo 38º, norte con influencia de Moscú y régimen comunista; el sur zona de hegemonía estadounidense. Corea del norte invadió el sur, en respuesta una coalición de naciones lideradas por EE.UU. inició la guerra. China anunció su apoyó a Corea del norte.</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cArthur (general usa) planteó el uso de la bomba atómica lo que provocó su destitució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egua en 1953 que mantenía la división que aún existe</a:t>
            </a:r>
            <a:endParaRPr b="0" lang="en-US" sz="1700" spc="-1" strike="noStrike">
              <a:solidFill>
                <a:srgbClr val="000000"/>
              </a:solidFill>
              <a:latin typeface="Arial"/>
            </a:endParaRPr>
          </a:p>
        </p:txBody>
      </p:sp>
      <p:pic>
        <p:nvPicPr>
          <p:cNvPr id="158" name="" descr=""/>
          <p:cNvPicPr/>
          <p:nvPr/>
        </p:nvPicPr>
        <p:blipFill>
          <a:blip r:embed="rId1"/>
          <a:stretch/>
        </p:blipFill>
        <p:spPr>
          <a:xfrm>
            <a:off x="4788000" y="1773360"/>
            <a:ext cx="388764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26920" y="692280"/>
            <a:ext cx="712800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occidental característic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o parte de su estrategia para frenar la expansión del comunismo establecen una alianza militar la OT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político era el sistema liberal: elecciones, separación de poderes, reconocimiento de derechos y libertades a la ciudadanía y el pluralismo polític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económico es el capitalista: propiedad privada y mercado libre (oferta-deman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s la Guerra se intensifica la intervención del Estado en la economía (Estado de Bienest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comunista</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zona de influencia de los soviéticos tras la Guerra incluía: Polonia, Hungría, Checoslovaquia, Rumania y Bulgaria. Donde se establecieron regímenes comunistas de partido únic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respuesta al pacto militar occidental (OTAN) los soviéticos crean el Pacto de Varsovi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economía era planificada, y la propiedad industrial y de la tierra era del Estad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as armas de la Guerra Fría</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ue un enfrentamiento total a todos los niveles: económico, tecnológico, político e ideológico. Dentro de estos enfrentamientos destaca la carrera armamentística, armas de todo tipo para intentar superar al contrario (armas nucleares, misiles teledirigidos, bombarderos a reacción, aviones supersónicos, submarinos nucleares…)</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e llegó a una situación de equilibrio del terror, situación de paridad de armamentos para impedir que se desencadenara un conflicto por temor a la respuesta del otro, lo que seria la destrucción total.</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carrera espacial también formaba parte de esta competencia, los rusos lanzaron al primer hombre al espacio Yuri Gagarin y los americanos con la primera misión a la Luna.</a:t>
            </a:r>
            <a:endParaRPr b="0" lang="en-US" sz="1500" spc="-1" strike="noStrike">
              <a:solidFill>
                <a:srgbClr val="000000"/>
              </a:solidFill>
              <a:latin typeface="Arial"/>
            </a:endParaRPr>
          </a:p>
        </p:txBody>
      </p:sp>
      <p:sp>
        <p:nvSpPr>
          <p:cNvPr id="166"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Guerra Fría se caracteriza por evitar un enfrentamiento directo entre las potencias, pero un gran aumento de conflictos de baja intensidad</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l control de cada bloque resultó fundamental y en los EE.UU.. En los años 50 se desencadenó lo que se denominó  “caza de brujas”, dirigida por el senador McCarthy, que acusó a numeroso intelectuales y artistas de ser comunista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1953 a 1977 se inicia una etapa de distensión en la que desaparecen los líderes de ambos bloques que presidieron el inicio de la G.F.</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60 llegó a la Presidencia de EE.UU. John F. Kennedy y se inicio una etapa de distensión o coexistencia pacífica, si bien hubo algunas crisis muy significativas como la de los misiles en Cub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uevo ambiente se manifestó con iniciativas como el teléfono rojo (teletipo que comunicaba directamente a los líderes de ambas superpotencia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75 se firmaron los tratados de Helsinki que limitaba las armas nucle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8:44:40Z</dcterms:created>
  <dc:creator>amalia</dc:creator>
  <dc:description/>
  <dc:language>en-US</dc:language>
  <cp:lastModifiedBy>amalia</cp:lastModifiedBy>
  <dcterms:modified xsi:type="dcterms:W3CDTF">2012-06-05T06:49:19Z</dcterms:modified>
  <cp:revision>9</cp:revision>
  <dc:subject/>
  <dc:title>La Guerra Fría 1945-1991</dc:title>
</cp:coreProperties>
</file>