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921B9-7755-45BD-8A9C-157533424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44D69-D0A7-4687-89D8-A5FD1393F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F13BE-A082-4516-8282-51877464C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E826E-47FF-4B18-A328-B576CE437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23E37-88B4-413C-A660-730DF19E1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1F48F-0224-4A26-85BA-411B2D76F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B2B0F-9072-42C6-80F7-25A058C35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A8010-0500-436C-A5A5-DAFD76AA1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69BEA-2A88-4B9D-B0A8-A39EC684F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CE868-C402-42D2-AB13-37BB16593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CEA71-C21A-419A-A27E-0F2F10729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358BB-C3A8-4460-BBB7-60B73886A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180E-77C4-45C2-9536-55E357C222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REVOLUCIÓN RUSA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dc1708"/>
          </a:solid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tuación de Rusia a fines del siglo XIX y principios del XX</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revolución del 1905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primera Guerra Mundial y la Revolución rusa ( febrero y octubre de 19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 calcmode="lin" valueType="num">
                                      <p:cBhvr additive="repl">
                                        <p:cTn id="19"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42">
                                            <p:txEl>
                                              <p:pRg st="2" end="2"/>
                                            </p:txEl>
                                          </p:spTgt>
                                        </p:tgtEl>
                                        <p:attrNameLst>
                                          <p:attrName>style.visibility</p:attrName>
                                        </p:attrNameLst>
                                      </p:cBhvr>
                                      <p:to>
                                        <p:strVal val="visible"/>
                                      </p:to>
                                    </p:set>
                                    <p:anim calcmode="lin" valueType="num">
                                      <p:cBhvr additive="repl">
                                        <p:cTn id="25"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FORMACIÓN DEL ESTADO SOVIÉTICO</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NE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1921 se establece la Nueva Política económica. Se dejó a los agricultores cultivar la tierra y vender libremente, se autorizó el comercio interior y se permitió la propiedad privada de pequeñas y medianas empresas industriales. El Estado mantuvo su control de los transportes, del comercio exterior, la banca y las grandes empres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s medidas provocaron un aumento de la producción, y un enriquecimiento de propietarios industriales y campesinos. Ello produjo el resurgimiento de una nueva burguesía. Generando un amplio debate interno en el parti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826920" y="404640"/>
            <a:ext cx="7490160" cy="604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URSS: un nuevo Estad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22 nació la URSS. Se trataba de un Estado plurinacional y multiétnico, casi tan grande como el antiguo imperio de los za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23 se elaboró la Constitución en ella se recono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e las repúblicas tenían autonomía en política interna en temas como organización judicial, enseñanza, sanidad y uso de lenguas y costumbres propi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órgano supremo legislativo era el Soviét Supremo, el cual nombraba al Presidium cuyo presidente era el jefe del Estado , y al Consejo de Comisarios del Pueblo, una especie de consejo de ministr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artido comunista era la organización más importante y el Comité Central era el principal órgano dirigido por el Secretario Gener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19 se creó la Tercera Internacional o KOMINTERN era un instrumento para extender la revolución, se integró a los partidos comunistas de otros países. Que seguían el modelo del PCUS un partido centralizado y basado en el centralismo democrático. Las líneas del Partido venían de arriba hacia aba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dictadura estalinista (1929-1953)</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enin muere en 1924 y se abre un periodo de luchas internas por el poder en el PCUS (Partido Comunista de la Unión soviética). Diversos dirigentes como Kamenev, Zinoviev, Stalin, Trotsky… protagonizan estas luchas y enfrentamientos. Se impone Stalin tras eliminar a sus oposito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talin defiende la idea del “socialismo en un solo país”, habia que abandonar la idea de la revolución mundial y en esto se oponía a Trotsky. Para Stalin, los esfuerzos debían concentrarse en consolidar y fortalecer la revolución en la UR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talin implanta una dictadura totalitaria instaurando el culto a la personalidad del líder, que se presenta como un benefactor, como un “padre” para todos los rus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refuerza el poder del Partido Comunista, los sóviets dejaron de ser asambleas libres y popula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instaura el terror, ejercido tanto dentro del partido como sobre el conjunto de la sociedad. El NKVD (policía política) será el brazo ejecutor de este terror. Las purgas más intensas se desarrollaron entre 1933 y 1939. Fueron célebres los procesos de Moscú en los que se condenaron a antiguos dirigentes del partido. Miles de personas fueron enviados a campos de concentración (gulags) la mayoría en Sib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dictadura estalinista (1929-1953)</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ultura y el arte perdió el carácter vanguardista de la primera etapa de la revolución y se convirtió en un instrumento para formar buenos comunistas. De hecho, a partir de 1932 numerosos artistas de vanguardia fueron perseguidos y se les acusó de contrarrevolucionarios. La tendencia oficial artística será el realismo socialista que se caracteriza por un estilo tradicional que ensalzan la  revolución y  sus líde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24000" y="333360"/>
            <a:ext cx="8569080" cy="619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strucción de una gran potencia económica</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talin creó el Gosplan, organismo encargo de la preparación y diseño de elaborar la planificación de la economía. Los planes eran quinquenales y en ellos se fijaban objetivos económicos y recursos para lograrl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ásicamente pretendían industrializar la economía soviética y hacerla autosuficiente a nivel agrícola y milit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tierra fue colectivizada , los campesinos que habían prosperado con la NEP fueron reprimidos y con ellos descendió la producción agrícola. Dos tipos de explotaciones se pusieron en marcha los koljoses (granjas en régimen de cooperativas) y los sovjoses (granjas estatales que utilizaban mano de obra asalaria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esarrollo industria estalinista dio prioridad a la industria pesada y la producción de energía. Los resultado de los tres primeros planes fueron espectaculares y convirtieron la URSS en una potencia industrial, pero sacrificando la producción de bienes de consu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826920" y="907920"/>
            <a:ext cx="770580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348000" y="404640"/>
            <a:ext cx="5040360" cy="6166080"/>
          </a:xfrm>
          <a:prstGeom prst="rect">
            <a:avLst/>
          </a:prstGeom>
          <a:ln w="0">
            <a:noFill/>
          </a:ln>
        </p:spPr>
      </p:pic>
      <p:sp>
        <p:nvSpPr>
          <p:cNvPr id="45" name=""/>
          <p:cNvSpPr/>
          <p:nvPr/>
        </p:nvSpPr>
        <p:spPr>
          <a:xfrm>
            <a:off x="539640" y="310824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ódchen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luvita lluvia caes en v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aída del zarismo 1905-febrero de 1917</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fin del zarism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principios del XX Rusia mantenía la autocracia. El zar concentraba todos los poderes del Estado y lo ejercía sin lími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libertades políticas eran  inexistentes y los opositores perseguidos por la policía polít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economía si bien seguía siendo básicamente agraria se había iniciado una industrialización desde la última década del siglo XIX. Se habían instalado industrial pesadas e iniciado la construcción del ferrocarril lo que había hecho crecer la población obrera en los dos principales núcleos urbanos Moscú y San Petersburgo. La burguesía empresarial seguía siendo débil, pues el desarrollo industrial se debía al capital extranjero y a la iniciativa del Esta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fuerzas políticas desde los últimos años del s. XIX había partidos burgueses, partidos campesinos y partidos obreros revolucionarios, como el POSDR (Partido Obrero Socialdemócrata ruso) dividido  en mencheviques que eran  moderados, y los bolcheviques que eran los  radicales, liderados por Len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revolución de 1905</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1905 el ejército ruso había sido derrotado por los japoneses (guerra por la expansión rusa en Asia, el descontento por la derrota generó disturb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9 de enero de 1905 las masas populares se dirigieron al Palacio de Invierno para hacer llegar sus peticiones al zar. Querían denunciar el mal gobierno y forzar reformas políticas. La respuesta fue una violenta represión que ocasionó numerosos muertos y heridos. Se conoce como el domingo sangri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oleada de protestas duró varios meses y en octubre vuelven las manifestaciones masivas y se organizan en sóviets (consejos o asambleas populares). El primer soviet que se crea es el San Petersburgo. A partir de octubre el zar se ve obligado a hacer concesiones y se crea una Duma elegida por sufragio universal.  Aparentemente al contar con un Parlamento y una Constitución el zar había limitado su poder absoluto. Pero, lo que realmente se inicia es una época  de falso constitucionalismo, el zar incumplió sus compromisos y volvió a gobernar sin contar con la Du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revolución de febrero de 1917</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14 Rusia entró en la I Guerra Mundial, las derrotas militares y la falta de medios de las tropas y el desabastecimiento en la retaguardia crearon un gran malestar que provocó huelgas y manifestaciones reprimidas con dureza.</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revolución de febrero del 1917 comenzó tras la manifestación el 23 de febrero en San Petersburgo, cuyo lema es “paz y pan” . El 25 estalló una huelga general y el 26 se produjeron motines en los cuarteles y las tropas se negaron a disparar a los huelguistas, había empezado la revolúción. El zar abdicó</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creó un Gobierno Provisional con Kerensky como figura destacada. El objetivo de este gobierno era instaurar un sistema político liberal.</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o el Gobierno Provisional no controlaba la situación, los sóviets formados por obreros, campesinos y soldados controlaban la calle y pedían el abandono de la participación de Rusia en la I. G.M. El Gobierno Provisional decidido a continuar en ella terminará encontrándose sin apoyos. Los bolcheviques desde el regreso de Lenin del exilio en abril, se dedican a hacer propaganda contra la guerra niegan cualquier colaboración con el gobierno provisional. El objetivo de los bolcheviques es la revolución comunista y no una revolución liberal como la que pretende el Gobierno Provision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zar Nicolás II de la dinastía de los Romanov </a:t>
            </a:r>
            <a:endParaRPr b="0" lang="en-US" sz="2800" spc="-1" strike="noStrike">
              <a:solidFill>
                <a:srgbClr val="000000"/>
              </a:solidFill>
              <a:latin typeface="Arial"/>
            </a:endParaRPr>
          </a:p>
        </p:txBody>
      </p:sp>
      <p:pic>
        <p:nvPicPr>
          <p:cNvPr id="54" name="" descr=""/>
          <p:cNvPicPr/>
          <p:nvPr/>
        </p:nvPicPr>
        <p:blipFill>
          <a:blip r:embed="rId1"/>
          <a:stretch/>
        </p:blipFill>
        <p:spPr>
          <a:xfrm>
            <a:off x="395280" y="1700280"/>
            <a:ext cx="3672000" cy="439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revolución bolchevique o de octubre  1917-1921</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revolución de octubre de 1917</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Gobierno Provisional no logró estabilizar la situación, estaba decidido a continuar la guerra y las derrotas siguieron, lo que debilitó aún más al gobiern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enin regresó del exilio y con las llamadas </a:t>
            </a:r>
            <a:r>
              <a:rPr b="0" i="1" lang="es-ES_tradnl" sz="1600" spc="-1" strike="noStrike">
                <a:solidFill>
                  <a:srgbClr val="000000"/>
                </a:solidFill>
                <a:latin typeface="Arial"/>
              </a:rPr>
              <a:t>tesis de abril </a:t>
            </a:r>
            <a:r>
              <a:rPr b="0" lang="es-ES_tradnl" sz="1600" spc="-1" strike="noStrike">
                <a:solidFill>
                  <a:srgbClr val="000000"/>
                </a:solidFill>
                <a:latin typeface="Arial"/>
              </a:rPr>
              <a:t>estableció un programa basado en : la retirada de la guerra, redistribución de la tierra, control de fábricas por los comités obreros, autonomía para las nacionalidades y entrega del poder a los sovié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 el intento del insurrección de los bolcheviques en julio Lenin tuvo que exiliarse de nuevo. En septiembre el general Kornilov intenta un golpe de Estado que fue frenado por las milicias armadas de los bolcheviques. El Gobierno Provisional no tuvo capacidad de frenar el golpe. Esto demostró la debilidad el Gobierno y la organización de los bolcheviqu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octubre los bolcheviques intentan derrocar al gobierno  y la noche del 24 de octubre los soviéts controlados por los bolcheviques se apoderaron de los puntos estratégicos y se asalto el Palacio de Inviern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ápidamente el nuevo gobierno revolucionario firmó la paz por separado con Alemania (Brest-Litovsk). Decretó el reparto de la tierra sin indemnización para los antiguos propietarios y se reconocieron las minorías nacion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Guerra civil y el “comunismo de guerra”</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principios de 1918 la revolución había triunfado. Los partidarios del zarismo (terratenientes, militares de alta graduación, Iglesia ortodoxa) y los defensores del sistema político liberal intentaron acabar con la revolución por la fuerz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partidarios de la contrarrevolución crearon el ejército blanco, y los bolcheviques que crearon el ejército rojo. Los contrarrevolucionarios contaban con la ayuda de las potencias extranjera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guerra civil duró tres años 1919-1921 y terminó con la victoria de los bolcheviqu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olítica económica que organizan los bolcheviques fue el “comunismo de guerra”. Consistió en la nacionalizaciónde la industria, colectivización del campo y las requidas de grano a los campesin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s duras medidas económicas provocaron el descontento y desataron el hambre. Huelgas y revueltas hicieron temer la por la pérdida de la base social de la revolución , destaca sublevación de la marinería de Kronstad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0:44:54Z</dcterms:created>
  <dc:creator>amalia</dc:creator>
  <dc:description/>
  <dc:language>en-US</dc:language>
  <cp:lastModifiedBy>amalia</cp:lastModifiedBy>
  <dcterms:modified xsi:type="dcterms:W3CDTF">2012-03-07T20:21:45Z</dcterms:modified>
  <cp:revision>13</cp:revision>
  <dc:subject/>
  <dc:title>LA REVOLUCIÓN RUSA </dc:title>
</cp:coreProperties>
</file>