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jpeg" ContentType="image/jpeg"/>
  <Override PartName="/ppt/media/image1.wmf" ContentType="image/x-wmf"/>
  <Override PartName="/ppt/media/coin.wav" ContentType="audio/x-wav"/>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AD445-3027-4A35-B282-05ECE8F3C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F45F-0975-4C61-B89C-358CDA8E4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EE5B4-02DB-4664-A696-51B800B46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4C125-CE9A-4D24-A034-A757DD0EC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5276E-09EA-4A53-A14C-3DEA879A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F858-BF46-4EB5-B4E4-58B6268E4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17D35-A37A-4E8A-8026-7C41F7353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7D772-D301-4EB9-AA5C-7F89DD99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F469B-540C-488E-9492-CA2A71621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080F-75D8-42EE-8A7D-EDDE1E19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9463-4249-4655-8180-14BB3CDCA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0CA22-2AED-4E09-B1AA-6DFD592EB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D05C-44E2-4ED4-870E-B057F1DDA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ZuEzK0pLEcM"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jvgZqprb0Mw"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bbe0e3"/>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LA REVOLUCIÓN INDUSTR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bbe0e3"/>
          </a:solidFill>
          <a:ln w="9360">
            <a:solidFill>
              <a:srgbClr val="333399"/>
            </a:solidFill>
            <a:miter/>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iniciado en Europa a mediados del siglo XVIII, que supuso  el uso de nuevas  técnicas, nuevas fuentes de energía y formas de organización del trabajo, con un constante crecimiento de la producción mecanizada. Se modifica a la vez la sociedad y la vida cotidiana y se produce una separación creciente entre capital y trabaj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vos sistemas de p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fines del XIX  se ponen en marcha nuevos sistemas de trabajo, para mejorar la productividad de las empre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ylorismo: Taylor divide el trabajo en una serie de tareas pequeñas, cronometrando el tiempo de duración de las mismas. Después se elabora una secuencia que se enseña al obrero a realiza, para que repita el movimiento de modo automáti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nry Ford introduce el fordismo (producción en serie) en las cadenas de montaj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mento del proceso de concentración empresarial, porque las inversiones cada vez mayores y el dese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lace con un fragmento de la película Tiempos modernos de Chap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tad atención a aspectos como el reloj, pensad el significado que puede tener, o a las ovejas y la comparación con la gente saliendo de la fábrica y el metro…. </a:t>
            </a:r>
            <a:r>
              <a:rPr b="0" lang="es-ES_tradnl" sz="3200" spc="-1" strike="noStrike" u="sng">
                <a:solidFill>
                  <a:srgbClr val="009999"/>
                </a:solidFill>
                <a:uFillTx/>
                <a:latin typeface="Arial"/>
                <a:hlinkClick r:id="rId1"/>
              </a:rPr>
              <a:t>http://www.youtube.com/watch?v=ZuEzK0pLEc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s efectos de la industrialización en la</a:t>
            </a:r>
            <a:r>
              <a:rPr b="1" lang="es-ES_tradnl" sz="4000" spc="-1" strike="noStrike">
                <a:solidFill>
                  <a:srgbClr val="000000"/>
                </a:solidFill>
                <a:latin typeface="Arial"/>
              </a:rPr>
              <a:t> POBLACION</a:t>
            </a:r>
            <a:r>
              <a:rPr b="0" lang="es-ES_tradnl" sz="4000" spc="-1" strike="noStrike">
                <a:solidFill>
                  <a:srgbClr val="000000"/>
                </a:solidFill>
                <a:latin typeface="Arial"/>
              </a:rPr>
              <a:t> y las ciudad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recimiento demográfico en el siglo XIX:</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acelerado, más de 400 millones de habitantes en 19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Descenso brusco de la mortalidad, por la higiene y la alimentación, así como por la mejora de los avances médic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Incremento de la fecundidad nacidos vivos en relación con el número de mujeres en edad fértil (15-49). Las parejas se casan más jóvenes con menos de 25 año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IGRACIONES interiores e intercontinentale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revolución industrial se concentró la producción en las ciudades. Se produce un intenso </a:t>
            </a:r>
            <a:r>
              <a:rPr b="0" lang="es-ES_tradnl" sz="2400" spc="-1" strike="noStrike">
                <a:solidFill>
                  <a:srgbClr val="ff0000"/>
                </a:solidFill>
                <a:latin typeface="Arial"/>
              </a:rPr>
              <a:t>proceso de urbanización, </a:t>
            </a:r>
            <a:r>
              <a:rPr b="0" lang="es-ES_tradnl" sz="2400" spc="-1" strike="noStrike">
                <a:solidFill>
                  <a:srgbClr val="000000"/>
                </a:solidFill>
                <a:latin typeface="Arial"/>
              </a:rPr>
              <a:t>a finales del siglo XIX el 40% vivía en ciudades. Muchas ciudades prosperan en torno a las fábricas como Manchester y Liverpool; o al comercio como Marsella en Fran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migración a las ciudades fue:- masiva y desordenada,-con hacinamiento de los pobres, y –falta de servi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segunda mitad del XIX se crean los ensanches, áreas donde vivirá la burguesía y las clases med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emás del éxodo campesino tienen lugar las migraciones transoceánic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gran hasta 1870 británicos y escandina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ociedad  de clases. Las clases alt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ciedad industrial se dividía en clases, que se distinguen por su posición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ueva soc8iedad se caracteriza por la igualdad jurídica y la meritocra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 desigualdad subsistía:- las mujeres siguieron  subordinadas a los varones, -las clases se diferenciaban por su riquez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4648320" y="1916280"/>
            <a:ext cx="4244760" cy="38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clases altas 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demos distinguir entre clase alta, media y ba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ristocracia perdió su preeminencia perdió los derechos feudales y pagaba impuestos, tuvo que vender sus tierras para mantener su ritmo de vida. Pero hasta bien entrado el XIX siguió ocupando los puestos más prestigiosos en la política, la justicia, el ejército y la diplomac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burguesía se convirtió en la nueva clase poseedora de la sociedad industrial. La componían: empresarios, rentistas, altos funcionarios, militares y profesionales liber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vian en las ciudades, en los nuevos barrios, ensanches. Sus valores llegaron a ser predominantes: culto al trabajo, el ahorro, “la fiebre del saber”, la sobriedad, exaltación de la familia y del hogar  </a:t>
            </a:r>
            <a:endParaRPr b="0" lang="en-US" sz="16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ses medias</a:t>
            </a:r>
            <a:endParaRPr b="0" lang="en-US" sz="1800" spc="-1" strike="noStrike">
              <a:solidFill>
                <a:srgbClr val="000000"/>
              </a:solidFill>
              <a:latin typeface="Arial"/>
            </a:endParaRPr>
          </a:p>
        </p:txBody>
      </p:sp>
      <p:pic>
        <p:nvPicPr>
          <p:cNvPr id="76" name="" descr=""/>
          <p:cNvPicPr/>
          <p:nvPr/>
        </p:nvPicPr>
        <p:blipFill>
          <a:blip r:embed="rId1"/>
          <a:stretch/>
        </p:blipFill>
        <p:spPr>
          <a:xfrm>
            <a:off x="4643280" y="2143080"/>
            <a:ext cx="4032360" cy="3230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s medias y baja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media o pequeña burguesía: Su posición económica y nivel educativo eran superiores a los de las clases bajas, pero inferiores a los de la alta burguesía y la aristocracia. Era un grupo compuesto por artesanos, pequeños comerciantes, puestos intermedios de la administración y el ejército, propietarios rurales y profesores. Ahorraban e invertían en la educación de sus hijos para facilitarles el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obrera, trabajaban en fábricas, y los marxistas los definen como proletariado. Su trabajo era poco cualificado, escasos salarios en largas jornadas de 12 horas en ambientes insalubres, sin seguridad social, paro o jubilación. Sus hijos apenas recibían instrucción pues empezaban desde niños a trabajar, ello limitaba las posibilidades de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ampesinos, seguían siendo la mayoría de la población pese a la industrialización. Se dividían en pequeños propietarios, en el norte y oeste de Europa. En el sur dado la extensión de los latifundios muchos campesinos eran jornaleros sin tierra, con jornal escaso. En el centro y su de Europa muchos seguían siendo sierv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lo largo del XIX su número descendió y muchos emigraron a las ciudad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n las iniciativas colectivas que llevan a cabo los trabajadores asalariados para mejorar sus condiciones laborales y polític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rimeras protestas son acciones de sabotaje contra las máquinas y la propiedad de los empresarios, es el movimiento ludi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secución del ludismo llevó a la ejecución de sus participantes y la prohibición de los sindicatos. Será a partir de 1824 cuando se restauré la libertad de asociación y se crearan los sindica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instrumento de lucha era la huelga (el cese de la producción), por la mejora de las condiciones laborales y salariales. Pero el convencimiento de que sin cambios políticos no podrían mejorar sus condiciones les llevo a pedir el sufragio universal para desde la realización del las leyes (Parlamento) poder cambiar las condiciones de explotación, será el movimiento cartis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deologías del movimiento obrero Marxismo y anarquismo, surgen antes de las revoluciones de 184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marxismo d be su nombre a Karl Marx y sostiene que toda la historia es la historia de la lucha de clases, en el proceso industrial entre la burguesía que tiene los medios de producción (fábricas y capital) y los obreros que no poseen mas que su fuerza de trabajo para vend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x defendió la intervención de las organizaciones y partidos obreros en la lucha política y a partir de 1875 se desarrollaron los partidos socialis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narquistas se oponían al Estado y aspiraban a sustituirlo por la asociación voluntaria de personas, rechazaban la política, los partidos políticos y participar en las eleccione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 II</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internacionales obreras: Son organizaciones obreras del mundo que intentan unir sus fuerzas mediante el internacionalismo proletario (la unión todos los obr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64 se funda la AIT que desapareció poco después por divisiones entre marxistas y anarquis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89 se funda la II Internacional, integrada por partidos socialistas l. Las luchas de la II Internacional serán por conseguir la jornada de 8 horas. Con ella surgirán algunos de los símbolos de identidad del movimiento obrero. </a:t>
            </a:r>
            <a:endParaRPr b="0" lang="en-US" sz="1800" spc="-1" strike="noStrike">
              <a:solidFill>
                <a:srgbClr val="000000"/>
              </a:solidFill>
              <a:latin typeface="Arial"/>
            </a:endParaRPr>
          </a:p>
        </p:txBody>
      </p:sp>
      <p:pic>
        <p:nvPicPr>
          <p:cNvPr id="83" name="" descr=""/>
          <p:cNvPicPr/>
          <p:nvPr/>
        </p:nvPicPr>
        <p:blipFill>
          <a:blip r:embed="rId1"/>
          <a:stretch/>
        </p:blipFill>
        <p:spPr>
          <a:xfrm>
            <a:off x="4648320" y="1916280"/>
            <a:ext cx="4038480" cy="388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primera revolución industrial(1780-1860)</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ienza en Inglaterra a fines del siglo XVII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talleres artesanales son sustituidos por las fábricas .que funcionan con una nueva fuente de energía, máquina de vapor  de James Watt, 176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consecuencias se derivan de la aparición de la fábrica: -</a:t>
            </a:r>
            <a:r>
              <a:rPr b="1" lang="es-ES_tradnl" sz="1800" spc="-1" strike="noStrike">
                <a:solidFill>
                  <a:srgbClr val="000000"/>
                </a:solidFill>
                <a:latin typeface="Arial"/>
              </a:rPr>
              <a:t>concentración</a:t>
            </a:r>
            <a:r>
              <a:rPr b="0" lang="es-ES_tradnl" sz="1800" spc="-1" strike="noStrike">
                <a:solidFill>
                  <a:srgbClr val="000000"/>
                </a:solidFill>
                <a:latin typeface="Arial"/>
              </a:rPr>
              <a:t> industrial,- se modificó la organización del trabajo, una </a:t>
            </a:r>
            <a:r>
              <a:rPr b="1" lang="es-ES_tradnl" sz="1800" spc="-1" strike="noStrike">
                <a:solidFill>
                  <a:srgbClr val="000000"/>
                </a:solidFill>
                <a:latin typeface="Arial"/>
              </a:rPr>
              <a:t>especialización con división del trabaj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ivisión del trabajo aumentó la productividad, se abarataron los costes (por los escasos salarios) con lo que disminuyeron los precios</a:t>
            </a:r>
            <a:endParaRPr b="0" lang="en-US" sz="1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 se convierte en el primer país que se industrializa debido a una serie de condi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o de obra sufici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mercado interior ampl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s primas y fuentes de energía: hierro y carb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nsión de la  nueva mentalidad libera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uevos leading sectors de esta Revolución industrial serán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extil y la siderurgi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 los transportes la revolución necesitaba nuevos medios de transporte: más veloces</a:t>
            </a:r>
            <a:r>
              <a:rPr b="0" lang="es-ES_tradnl" sz="4400" spc="-1" strike="noStrike">
                <a:solidFill>
                  <a:srgbClr val="000000"/>
                </a:solidFill>
                <a:latin typeface="Arial"/>
              </a:rPr>
              <a:t> 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avegació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lton impulsó la primera línea comercial con barcos propulsados a vapor, tardaban un tercio del tiempo que los barcos de ve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1830 a 1880 incorporaron cascos de hierro, comenzaron a usar hélices para la propul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flotas se especializaron en 1870 primer barco con cámaras frigoríf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pertura del Canal de Suez en 1869 (Mediterráneo /Mar Rojo)</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quina de vapor</a:t>
            </a:r>
            <a:endParaRPr b="0" lang="en-US" sz="4400" spc="-1" strike="noStrike">
              <a:solidFill>
                <a:srgbClr val="000000"/>
              </a:solidFill>
              <a:latin typeface="Arial"/>
            </a:endParaRPr>
          </a:p>
        </p:txBody>
      </p:sp>
      <p:pic>
        <p:nvPicPr>
          <p:cNvPr id="49" name="" descr=""/>
          <p:cNvPicPr/>
          <p:nvPr/>
        </p:nvPicPr>
        <p:blipFill>
          <a:blip r:embed="rId1"/>
          <a:stretch/>
        </p:blipFill>
        <p:spPr>
          <a:xfrm>
            <a:off x="492120" y="1693800"/>
            <a:ext cx="8159760" cy="4337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í ha hay un enlace sobre los inventores del siglo XVIII. Los llamados lunáticos. Está relacionado con la Revolución industrial ingl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9999"/>
                </a:solidFill>
                <a:uFillTx/>
                <a:latin typeface="Arial"/>
                <a:hlinkClick r:id="rId1"/>
              </a:rPr>
              <a:t>http://www.youtube.com/watch?v=jvgZqprb0M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s: Ferrocarril II</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do de la adaptación de la máquina de vapor para la propulsión de la locomotora, y del desarrollo de la siderurgia (hier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ephenson en 1814 construyó la primera locomotora. La primera línea en 1830 entre Liverpool y Manche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El ferrocarril se convirtió en  un medio rápido, seguro y barato que aceleraba la industrialización por donde</a:t>
            </a:r>
            <a:r>
              <a:rPr b="0" lang="es-ES_tradnl" sz="2000" spc="-1" strike="noStrike">
                <a:solidFill>
                  <a:srgbClr val="000000"/>
                </a:solidFill>
                <a:latin typeface="Arial"/>
              </a:rPr>
              <a:t> </a:t>
            </a:r>
            <a:r>
              <a:rPr b="1" lang="es-ES_tradnl" sz="2000" spc="-1" strike="noStrike">
                <a:solidFill>
                  <a:srgbClr val="000000"/>
                </a:solidFill>
                <a:latin typeface="Arial"/>
              </a:rPr>
              <a:t>pasab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señan líneas intercontinentales: Transiberiano, EEUU, Orient Ex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ecuencias de la revolución de los transpo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odujo un fuerte crecimiento del comerc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Permitió una especialización del comercio mundi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Modificaron la vida cotidiana, mejoraron la dieta y facilitaron la emigración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os de transporte</a:t>
            </a:r>
            <a:endParaRPr b="0" lang="en-US" sz="4400" spc="-1" strike="noStrike">
              <a:solidFill>
                <a:srgbClr val="000000"/>
              </a:solidFill>
              <a:latin typeface="Arial"/>
            </a:endParaRPr>
          </a:p>
        </p:txBody>
      </p:sp>
      <p:sp>
        <p:nvSpPr>
          <p:cNvPr id="55" name=""/>
          <p:cNvSpPr/>
          <p:nvPr/>
        </p:nvSpPr>
        <p:spPr>
          <a:xfrm>
            <a:off x="468360" y="162864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250920" y="1989000"/>
            <a:ext cx="4244760" cy="3527640"/>
          </a:xfrm>
          <a:prstGeom prst="rect">
            <a:avLst/>
          </a:prstGeom>
          <a:ln w="0">
            <a:noFill/>
          </a:ln>
        </p:spPr>
      </p:pic>
      <p:pic>
        <p:nvPicPr>
          <p:cNvPr id="57" name="" descr=""/>
          <p:cNvPicPr/>
          <p:nvPr/>
        </p:nvPicPr>
        <p:blipFill>
          <a:blip r:embed="rId2"/>
          <a:stretch/>
        </p:blipFill>
        <p:spPr>
          <a:xfrm>
            <a:off x="4648320" y="1989000"/>
            <a:ext cx="4495680" cy="352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nda Revolución industrial: nace la gran industria: nuevas industrias, nuevas potencias industriales, aparece la gran empresa y se modificó la producción</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uevas fuentes de energía aparecerán junto al carbón: electricidad y petróle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extil, industria pionera, perdió su papel de liderazgo, y será  ocupado  ahora  por el sector siderúrgico, la industria eléctrica y la industrial quím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Bretaña perdió la supremacía industrial, por nuevos países se industrializan como son EEUU y Alema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gran empresa la banca modern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revolución industrial inglesa las empresas eran negocios familiares . A medida que avanza la industrialización en el siglo XIX la fábrica crece de tamaño, y el negocio familiar resulta demasiado pequeño para hacer frente a los gastos de incorporar nueva tecnología, nuevas máquinas y contratar más obrer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harán los empresarios? Crear sociedades anónimas. El capital de la empresa se divide en acciones y los que compran esas acciones se convierten en socios de las empresas. Estas acciones se venden u compran en la </a:t>
            </a:r>
            <a:r>
              <a:rPr b="1" lang="es-ES_tradnl" sz="2000" spc="-1" strike="noStrike">
                <a:solidFill>
                  <a:srgbClr val="000000"/>
                </a:solidFill>
                <a:latin typeface="Arial"/>
              </a:rPr>
              <a:t>bolsa,</a:t>
            </a:r>
            <a:r>
              <a:rPr b="0" lang="es-ES_tradnl" sz="2000" spc="-1" strike="noStrike">
                <a:solidFill>
                  <a:srgbClr val="000000"/>
                </a:solidFill>
                <a:latin typeface="Arial"/>
              </a:rPr>
              <a:t> dando derecho a tener un porcentaje de beneficios en función del numero de acciones que se posee. Siempre que la empresa tenga benefic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bancos, </a:t>
            </a:r>
            <a:r>
              <a:rPr b="0" lang="es-ES_tradnl" sz="2000" spc="-1" strike="noStrike">
                <a:solidFill>
                  <a:srgbClr val="000000"/>
                </a:solidFill>
                <a:latin typeface="Arial"/>
              </a:rPr>
              <a:t>Se convierten en un elemento clave de la economía. Conceden préstamos a particulares y empresas. Los ahorradores (clientes) guardan su dinero en el banco y éste lo presta a su vez a otros industria y negocio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3:13:18Z</dcterms:created>
  <dc:creator>amalia</dc:creator>
  <dc:description/>
  <dc:language>en-US</dc:language>
  <cp:lastModifiedBy>amalia</cp:lastModifiedBy>
  <dcterms:modified xsi:type="dcterms:W3CDTF">2012-01-27T19:55:08Z</dcterms:modified>
  <cp:revision>16</cp:revision>
  <dc:subject/>
  <dc:title>LA REVOLUCIÓN INDUSTRIAL</dc:title>
</cp:coreProperties>
</file>