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E2CCC-9F1A-42EB-9374-D857A97F3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415C8-D8A5-4E35-B901-AF7525335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87F81-2E9C-4C95-A10F-CEA8EED8C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435FA-F464-4C94-B6B0-09E9EFEF8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6D64-8EFC-43A0-A349-D5904870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38DD-E2EC-4D63-8763-1879EBF20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A26B4-5533-412E-91E4-27E9048F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14E7-EC19-4406-A85A-D7514707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81BB-4FE8-4780-B0D7-0068D7EE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F759-C5CE-4966-A196-A420DB09F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28838-B4C7-421A-AB0D-21352E54C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8133D-4893-4CFE-9385-17217DF51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2052-7727-4BB4-9C30-6ECB47563AB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REVOLUCIONES </a:t>
            </a:r>
            <a:br>
              <a:rPr sz="4400"/>
            </a:br>
            <a:r>
              <a:rPr b="0" lang="es-ES_tradnl" sz="4400" spc="-1" strike="noStrike">
                <a:solidFill>
                  <a:srgbClr val="000000"/>
                </a:solidFill>
                <a:latin typeface="Arial"/>
              </a:rPr>
              <a:t>1776-184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5e7a9"/>
          </a:solid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America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frances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erio napoleónico</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auració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leadas revolucionarias de 1820,1830,184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ependencia de Hispano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volución se radicalizó, guerra y crisis económica favorecen ese radicalism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vocan nuevas elecciones y se crea la Convención, controlada por los girondinos (representantes del departamento de la Gironda, burguesía de negocios) en un primer momento. La guerra y el ambiente que crea favorece  posteriormente el control de la Convención por  los  jacobinos (burguesía pequeña y median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jacobinos decretan la leva en masa y se creó un Tribunal Revolucionario para juzgar a los contrarrevolucionarios y el Comité de Salvación dirigía la polític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obespierre instala el Terror como forma de frenar el peligro contrarrevolucionario. Se redacta una nueva constitución que no llegó a promulgarse en 1793, más democrática que la de 1791 reconocía el sufragio univers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nero de 1793 el rey es ejecutado acusado de traició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tapa los jacobinos cuentan con el apoyo en la calle de los sans-culottes que presionan constantemente por la situación de crisis económica y la subida constante de precios. Es esta situación de crisis y  la indecisión de Robespierre con respecto a los precios y los salarios lo que privará finalmente a Robespierre del apoyo de los sans-culot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apoyos Robespierre, caerá siendo arrestado, tras el golpe de estado de thermidor (27 de julio de 179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nicia el una etapa de gobierno modera volviendo a la fase moderada de la revolución. El poder ejecutivo recaerá en un Directorio compuesto de 5 miembros. Pero la inestabilidad política interna continuo hasta la llegada de Napoleón al pod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imperio napoleónico I</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el golpe de estado del 18 de brumario, Napoleón se convirtió en cónsul primero y posteriormente en emper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ulado era un régimen personalista donde Bonaparte tenía todo el pod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la victoria en Italia se autonombró cónsul vitalicio. Inicio una serie de reformas  que consolidaron el liberalismo en Francia. Modernizó las leyes, mediante el código civil, reformó la economía francesa creando el Banco de Francia y el código de comercio. Promovió la educación púb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hegemonía francesa causa temor en Gran Bretaña, que crea una coalición con Austria y Rusia para luchar contra Francia . En esta campaña Francia cuenta con el apoyo de España. En 1804 se proclama emperad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una nueva coalición contra Francia (la cuarta) por los mismo países que la anterior, Napoleón alcanza el cenit de su poder en 18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Napoleón actuará en dos direcciones: aislar a Gran Bretaña (bloqueo continental, no comerciar con ella) y alianza con Ru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su expansión por Europa invade España en 1808 con la excusa de pasar hacia Portugal que había roto el bloque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812 intenta la invasión de Rusia que había vuelto a comerciar con Gran Bretañ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olítica expansionista de Napoleón era una política imperialista que terminó generando una nueva coalición contra él. El 6 de abril de 1814 será derrotado, exiliándose en la isla de Elba, vuelve al poder durante cien días siendo derrotado definitivamente en Waterloo 1815, muere en la isla de Santa El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 </a:t>
            </a:r>
            <a:r>
              <a:rPr b="0" lang="es-ES_tradnl" sz="4000" spc="-1" strike="noStrike">
                <a:solidFill>
                  <a:srgbClr val="000000"/>
                </a:solidFill>
                <a:latin typeface="Arial"/>
              </a:rPr>
              <a:t>Restauración</a:t>
            </a:r>
            <a:br>
              <a:rPr sz="4000"/>
            </a:br>
            <a:r>
              <a:rPr b="0" lang="es-ES_tradnl" sz="4000" spc="-1" strike="noStrike">
                <a:solidFill>
                  <a:srgbClr val="000000"/>
                </a:solidFill>
                <a:latin typeface="Arial"/>
              </a:rPr>
              <a:t>y  revoluciones burguesas I</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derrota de Napoleón, vuelve de nuevo a restaurarse el absolutismo. Las potencias europeas  vencedoras de Napoleón y reunidas en el Congreso de Viena en 1815 modelan y reorganizan el mapa europeo tras las convulsiones ocasionadas por las invasiones napoleónicas en los países invadi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bases de la Restauración residen en los principios del Antiguo Régimen que quieren volver a imponerse y que son tres: tierra, orden y legitimidad. Tierra como base del poder de la nobleza. El orden feudal, y la legitimidad se refiere a la monarquía absolu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bjetivo del Congreso era evitar que volviera a estallar la revolución en cualquier país , por ello perseguirán a las ideas revolucionarias y a los revolucionarios . Se trataba de impedir que el liberalismo y la soberanía nacional se volvieran a desplegarse por Euro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 II</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ese a los intentos de restaurar el absolutismo, la ideología liberal se había afianzado como ideología de la burguesía, y volverá a emerger de nuevo en los  ciclos revolucionarios que estallaran en Europa en 1820, 1830 y 1848 son las llamadas revoluciones burgue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tas revoluciones se basaban en el liberalismo y el nacionalismo. El liberalismo pretendía recuperar los derechos y libertades que había reconocido la Revolución francesa. El nacionalismo, tenía su origen en la expansión napoleónica que había exacerbado los sentimientos de pertenencia a una nación. Pueblos pertenecientes a imperios como el austriaco o el ruso reclamaran su independencia u otros como el italiano y el alemán que no constituían una nación reclamaran su unidad nacion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a:t>
            </a:r>
            <a:endParaRPr b="0" lang="en-US" sz="4000" spc="-1" strike="noStrike">
              <a:solidFill>
                <a:srgbClr val="000000"/>
              </a:solidFill>
              <a:latin typeface="Arial"/>
            </a:endParaRPr>
          </a:p>
        </p:txBody>
      </p:sp>
      <p:sp>
        <p:nvSpPr>
          <p:cNvPr id="79" name="PlaceHolder 2"/>
          <p:cNvSpPr>
            <a:spLocks noGrp="1"/>
          </p:cNvSpPr>
          <p:nvPr>
            <p:ph/>
          </p:nvPr>
        </p:nvSpPr>
        <p:spPr>
          <a:xfrm>
            <a:off x="468360" y="162864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20 y 18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de 1820 es la primera oleada revolucionaria, estalla en España, dando origen al trienio liberal, y en Grecia donde los griegos se sublevan contra la dominación tur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830 se produce la segunda oleada con centro en Francia que expulsa del país al rey Carlos X de Borbón (se había restaurado la monarquía borbónica tras las Restauración). En Bruselas se produce un levantamiento que conduce a la independencia de Bélgica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48, presentan además un componente de revolución social y obrera . Lo más interesante es que  la burguesía que había dirigido estos procesos revolucionarios percibe que el peligro para su posición de hegemonía ya no venía del temor a volver a un Antiguo Régimen que quedaba ya muy lejano. Ahora un nuevo a grupo social cuestiona su poder, será el proletariado. Éste ya no será una masa manipulable al servicio de los intereses de la burguesía, sino que tendrá sus propios intereses , los cuales entraran en conflicto con los de la burgues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abre con 1848 una nueva etapa política que será el punto de partida de las unificaciones de Italia y Alemania, además supone un avance para la democracia pues en algunos países se amplió el derecho a voto, y sobre todo, es el punto de partida para una organización del movimiento obre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independencia Hispanoamericana</a:t>
            </a:r>
            <a:endParaRPr b="0" lang="en-US" sz="4000" spc="-1" strike="noStrike">
              <a:solidFill>
                <a:srgbClr val="000000"/>
              </a:solidFill>
              <a:latin typeface="Arial"/>
            </a:endParaRPr>
          </a:p>
        </p:txBody>
      </p:sp>
      <p:sp>
        <p:nvSpPr>
          <p:cNvPr id="81" name="PlaceHolder 2"/>
          <p:cNvSpPr>
            <a:spLocks noGrp="1"/>
          </p:cNvSpPr>
          <p:nvPr>
            <p:ph/>
          </p:nvPr>
        </p:nvSpPr>
        <p:spPr>
          <a:xfrm>
            <a:off x="611280" y="1773000"/>
            <a:ext cx="7942320" cy="4452840"/>
          </a:xfrm>
          <a:prstGeom prst="rect">
            <a:avLst/>
          </a:prstGeom>
          <a:gradFill rotWithShape="0">
            <a:gsLst>
              <a:gs pos="0">
                <a:srgbClr val="cfdac4"/>
              </a:gs>
              <a:gs pos="100000">
                <a:srgbClr val="ffffff"/>
              </a:gs>
            </a:gsLst>
            <a:lin ang="5400000"/>
          </a:gra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iberalismo se extiende por la América española. Como resultado, entre 1814 y 1824 se produjeron</a:t>
            </a:r>
            <a:r>
              <a:rPr b="0" lang="es-ES_tradnl" sz="2800" spc="-1" strike="noStrike">
                <a:solidFill>
                  <a:srgbClr val="000000"/>
                </a:solidFill>
                <a:latin typeface="Arial"/>
              </a:rPr>
              <a:t> </a:t>
            </a:r>
            <a:r>
              <a:rPr b="0" lang="es-ES_tradnl" sz="1800" spc="-1" strike="noStrike">
                <a:solidFill>
                  <a:srgbClr val="000000"/>
                </a:solidFill>
                <a:latin typeface="Arial"/>
              </a:rPr>
              <a:t>los procesos de independencia que acabaron con la dominación española en Amér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ociedad estaba compuesta por españoles, criollos, indios</a:t>
            </a:r>
            <a:r>
              <a:rPr b="0" lang="es-ES_tradnl" sz="2800" spc="-1" strike="noStrike">
                <a:solidFill>
                  <a:srgbClr val="000000"/>
                </a:solidFill>
                <a:latin typeface="Arial"/>
              </a:rPr>
              <a:t>, </a:t>
            </a:r>
            <a:r>
              <a:rPr b="0" lang="es-ES_tradnl" sz="1800" spc="-1" strike="noStrike">
                <a:solidFill>
                  <a:srgbClr val="000000"/>
                </a:solidFill>
                <a:latin typeface="Arial"/>
              </a:rPr>
              <a:t>negros y mestiz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riollos formaban el grupo que protagonizó la independencia. Como en Europa el liberalismo y el nacionalismo fueron sus bases ideológicas. Éstos conocían los procesos revolucionarios franceses y la Constitución de Cádiz. El nacionalismo plasmó una conciencia criolla diferente a la español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os, mestizos y negros apoyarán la independencia en  las fases más avanzadas del proceso cuando estuvo unido a reivindicaciones 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volución Americana: primera en que el liberalismo se puso en práctica, origen de un nuevo país, modelo de futuras revoluciones</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flicto entre los colonos de Nueva Inglaterra y Gran Bretaña culminó con la independencia de los prim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lonos ven a G B como un obstáculo para su desarroll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cto colonial concedía bastante autonomía a los colonos. Pero el verdadero conflicto procedía del pago de impuestos de los colonos a GB a lo que éstos se negaban, mientras no pudieran elegir diputados al Parlamento inglé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773 el gobierno inglés estableció el Tea Acts, por las que pretendían monopolizar el comercio del te.  </a:t>
            </a:r>
            <a:endParaRPr b="0" lang="en-US" sz="1800" spc="-1" strike="noStrike">
              <a:solidFill>
                <a:srgbClr val="000000"/>
              </a:solidFill>
              <a:latin typeface="Arial"/>
            </a:endParaRPr>
          </a:p>
        </p:txBody>
      </p:sp>
      <p:pic>
        <p:nvPicPr>
          <p:cNvPr id="45" name="" descr=""/>
          <p:cNvPicPr/>
          <p:nvPr/>
        </p:nvPicPr>
        <p:blipFill>
          <a:blip r:embed="rId1"/>
          <a:stretch/>
        </p:blipFill>
        <p:spPr>
          <a:xfrm>
            <a:off x="4643280" y="1916280"/>
            <a:ext cx="403884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americana I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774, se redactó en Filadelfia, la Declaración de Derech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homas Jefferson redactó la Declaración de derechos de Virginia, en ella se enunciaban los principios de soberanía nacional, división de poderes y sufragio. Fue la base de la D. de Independencia de 177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u enfrentamiento con GB. los colonos contaron con la ayuda militar de Francia y España. En 1783 se firma la Paz de Versalles y GB. reconoció la independencia de los Estados Unidos. </a:t>
            </a:r>
            <a:endParaRPr b="0" lang="en-US" sz="20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qué fue decisiva la revolución america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stitución de 1787 representa un nuevo orden polít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nuevo </a:t>
            </a:r>
            <a:r>
              <a:rPr b="1" lang="es-ES_tradnl" sz="2000" spc="-1" strike="noStrike">
                <a:solidFill>
                  <a:srgbClr val="000000"/>
                </a:solidFill>
                <a:latin typeface="Arial"/>
              </a:rPr>
              <a:t>Estado </a:t>
            </a:r>
            <a:r>
              <a:rPr b="0" lang="es-ES_tradnl" sz="2000" spc="-1" strike="noStrike">
                <a:solidFill>
                  <a:srgbClr val="000000"/>
                </a:solidFill>
                <a:latin typeface="Arial"/>
              </a:rPr>
              <a:t> tenía una estructura </a:t>
            </a:r>
            <a:r>
              <a:rPr b="1" lang="es-ES_tradnl" sz="2000" spc="-1" strike="noStrike">
                <a:solidFill>
                  <a:srgbClr val="000000"/>
                </a:solidFill>
                <a:latin typeface="Arial"/>
              </a:rPr>
              <a:t>feder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idente tiene el poder ejecutivo, elegido por cuatro años por sufragio indirec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legislativo recaía en el Congreso, compuesto por la Cámara de Representantes y el Sen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judicial en el Tribunal Suprem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rancia a comienzos del 1789 era una gran potencia y rival de GB, pero aquejada por graves proble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La sociedad era estam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Crisis económica que afectaba al precio del pan y ocasionaba gran males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La Hacienda real estaba quebr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Crisis política, el avance de las ideas ilustradas, la imagen de los reyes era cada vez peor, por el despilfarro en el que viví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financieros hacían necesaria una reforma profunda para que los privilegiados pagaran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7 se convoca una asamblea de notables, pero éstos se negaron a pagar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8 se declaró la bancarrota, y el rey convoca los Estados Generales. Para acudir a dicha convocatoria  cada Estamento redacta unos Cuadernos de Quej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burguesía se organiza en clubes políticos. Se fundaron periódicos para difundir sus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II</a:t>
            </a:r>
            <a:endParaRPr b="0" lang="en-US" sz="4400" spc="-1" strike="noStrike">
              <a:solidFill>
                <a:srgbClr val="000000"/>
              </a:solidFill>
              <a:latin typeface="Arial"/>
            </a:endParaRPr>
          </a:p>
        </p:txBody>
      </p:sp>
      <p:sp>
        <p:nvSpPr>
          <p:cNvPr id="54" name="PlaceHolder 2"/>
          <p:cNvSpPr>
            <a:spLocks noGrp="1"/>
          </p:cNvSpPr>
          <p:nvPr>
            <p:ph/>
          </p:nvPr>
        </p:nvSpPr>
        <p:spPr>
          <a:xfrm>
            <a:off x="395280" y="1484280"/>
            <a:ext cx="403848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Estados Generales el voto era por estamento. Pero el Tercer Estado defendió el voto por persona, lo que les daba la mayorí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rey y los privilegiados trataron de expulsarles de la sala, pero los diputados se trasladaron al salón de Juego de Pelota y se autoproclamaron Asamblea Constituyente, es decir, los legítimos representantes de la soberanía nacio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14 de julio de 1789 la   subida del precio del pan y los rumores de las tropas desplegadas en París por el rey, producen el estallido revolucionario y el asalto a la Bastilla  </a:t>
            </a:r>
            <a:endParaRPr b="0" lang="en-US" sz="1800" spc="-1" strike="noStrike">
              <a:solidFill>
                <a:srgbClr val="000000"/>
              </a:solidFill>
              <a:latin typeface="Arial"/>
            </a:endParaRPr>
          </a:p>
        </p:txBody>
      </p:sp>
      <p:pic>
        <p:nvPicPr>
          <p:cNvPr id="55" name="" descr=""/>
          <p:cNvPicPr/>
          <p:nvPr/>
        </p:nvPicPr>
        <p:blipFill>
          <a:blip r:embed="rId1"/>
          <a:stretch/>
        </p:blipFill>
        <p:spPr>
          <a:xfrm>
            <a:off x="4648320" y="1773360"/>
            <a:ext cx="402732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V</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amblea Constituyente tiene como finalidad: desmontar el Antiguo Régimen y redactar una Constitu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rimeros decretos antes de que la Constitución este promulgada son: Decreto de abolición de los derechos feudales y Declaración de los derechos del hombre y del ciudad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791(septiembre) se promulga la Constitución que contiene las siguientes definiciones: monarquía parlamentaria, soberanía nacional y derechos fundamentales, división de poderes, sufragio censitario y descentralización de la administr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Constitución del 91 triunfan los planteamientos de la alta burguesía que consideraba que en este punto la revolución ya estaba realiz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s masas populares (sans-culottes) pretendían cambios más radicales en la sociedad y en la propiedad </a:t>
            </a:r>
            <a:endParaRPr b="0" lang="en-US" sz="2400" spc="-1" strike="noStrike">
              <a:solidFill>
                <a:srgbClr val="000000"/>
              </a:solidFill>
              <a:latin typeface="Arial"/>
            </a:endParaRPr>
          </a:p>
        </p:txBody>
      </p:sp>
      <p:pic>
        <p:nvPicPr>
          <p:cNvPr id="60" name="" descr=""/>
          <p:cNvPicPr/>
          <p:nvPr/>
        </p:nvPicPr>
        <p:blipFill>
          <a:blip r:embed="rId1"/>
          <a:stretch/>
        </p:blipFill>
        <p:spPr>
          <a:xfrm>
            <a:off x="4859280" y="1628640"/>
            <a:ext cx="3600360" cy="2160720"/>
          </a:xfrm>
          <a:prstGeom prst="rect">
            <a:avLst/>
          </a:prstGeom>
          <a:ln w="0">
            <a:noFill/>
          </a:ln>
        </p:spPr>
      </p:pic>
      <p:pic>
        <p:nvPicPr>
          <p:cNvPr id="61" name="" descr=""/>
          <p:cNvPicPr/>
          <p:nvPr/>
        </p:nvPicPr>
        <p:blipFill>
          <a:blip r:embed="rId2"/>
          <a:stretch/>
        </p:blipFill>
        <p:spPr>
          <a:xfrm>
            <a:off x="4854600" y="3938760"/>
            <a:ext cx="362412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 la aprobación de la Constitución se celebran elecciones y se constituye una nueva Asamblea (1791-1792) con predominio de los moder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onarquías europeas asustadas por la extensión de la revolución a sus países declaran la guerra a Francia en 17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amilia real intenta huir de Francia y es detenida en Varennes y conducidos a Par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aíses aliados contra Francia llegan a las puertas de París y el 10 de agosto de 1792 las masas populares asaltan el Palacio de las Tullerías donde residían los reyes que se refugian en la Asamblea Nacion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fin de la monarquía y el establecimiento de la Repúb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1:42:38Z</dcterms:created>
  <dc:creator>amalia</dc:creator>
  <dc:description/>
  <dc:language>en-US</dc:language>
  <cp:lastModifiedBy>amalia</cp:lastModifiedBy>
  <dcterms:modified xsi:type="dcterms:W3CDTF">2011-11-04T12:37:31Z</dcterms:modified>
  <cp:revision>14</cp:revision>
  <dc:subject/>
  <dc:title>LAS REVOLUCIONES  1776-1848</dc:title>
</cp:coreProperties>
</file>