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F7F-11BE-4275-9768-E3166D92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322-9084-480B-AA59-09C9349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307-986A-4489-B6AC-0EAF1E58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5F4-F271-4130-8307-55E8C990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13E-1246-45F1-8126-4968918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788-3EBF-4123-8D56-DB651489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98B-BB7C-47FF-89A1-A395D8B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EDA-F03C-4508-9A1C-677D716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E4B-B6CB-4027-B06E-EE8B0F9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FCF-7203-4A49-B4F5-3345F59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818-199E-4383-9FD5-19B394B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57E-13D7-4570-9896-7160AE74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8D59-D08E-41A9-8337-85D7E3EC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5a3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ciones e Imperi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1850-19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El triunfo del nacionalismo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a construcción de EE.U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iberalismo y autorit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orígenes del imperialismo eur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grandes imperios colon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Administración y vida en las 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riunfo del nacionalismo en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el liberalismo se inicia el proceso   creación de los estados nacionales tal como los conoc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labra nación designaba: grupo de personas nacidas en un mismo lugar y bajo el poder del mismo monarca. En el siglo XIX el término nación adquiere una dimensión política y se hacen coincidir las fronteras de una estado con las fronteras raciales, lingüísticas, histó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s concepciones de nacionalismo: a) la romántica alemana que defiende la concepción cultural de la nación. b) la francesa que plantea una concepción política, los ciudadanos son sujetos de derecho y deberes como miembros de la 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Estados desarrollan el sentimiento nacional en el XIX mediante la educación y la implantación de una lengua nacional, banderas y tradiciones se convierten en símbolos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ovimientos nacionalistas en Europa tendrás un doble carác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nacionalismo centrífugo o disgregador: casos de Bélgica o del Imperio austro-húngaro. 2) nacionalismo centrípeto o unificador casos de Alemania e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nstrucción de EE.U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50000">
                <a:srgbClr val="624b73"/>
              </a:gs>
              <a:gs pos="100000">
                <a:srgbClr val="d5a3f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E.UU.. Se convierte en una gran po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800 a 1850 pasa de 5 a 23 millones de h. debido a la inmig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 mediados del XIX se produce la expansión hacia el Oeste (la frontera) que proporcionó tierra y fijó la ident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iferenciaran tres grandes regiones: noreste: industrial y urbano; sur: economía agraria (algodón y tabaco) explotadas por esclavos; oeste: pequeños g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uerra de secesión (1861-1864) entre abolicionistas, (estados del norte y oeste), y esclavistas, ( los estados del sur que la necesitaban para la explotación del algodón y el tabaco), finaliza con la victoria del nort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eriodo posterior se conoce como Reconstrucción, época de prosperidad económica, EE.UU. Inicia un implacable desarrollo económico. En este periodo la vida política empezó a organizarse en torno a dos partidos, republicanos y demócra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eralismo y autoritar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5d7fd"/>
              </a:gs>
              <a:gs pos="100000">
                <a:srgbClr val="7063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ales del siglo XIX se comienza a aprobar el sufragio universal masculino, se desarrolló la libertad religiosa, y de expresión, surgiendo los partidos políticos mod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artidos socialistas serán partidos de masas dirigidos a un electorado numeroso, compuesto básicamente por trabajadores. Ahora, su participación en las elecciones les obliga a movilizar recursos e incrementar sus afiliados y mil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o que las mujeres seguían careciendo de derechos, como el del sufragio, comienza a desarrollarse el movimiento sufrag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e al sufragio universal masculino, y la participación de los partidos socialistas en las elecciones, la manipulación electoral era una constante (caciquismo), fundamentalmente por el temor de la burguesía a que ahora con el sufragio universal la situación pudiera írsele de las manos. Por lo tanto estos sistemas liberales no son todavía sistemas democráticos aunque tengan partidos y elecciones, porque el fraude electoral es lo habi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es imperialismo?: el dominio de un país sobre otro. Metrópoli el  colonizador y colonia el colon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Es un nuevo fenómeno?: no, ya había existido en los siglos XVI y XVII España y Portugal construyen grandes imperios colon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países protagonizan en el XIX el imperialismo?: Gran Bretaña y Francia  sobre todo, pero también Bélgica, Italia y Alemania. Y Japón y EE.UU.. que son países extra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Tarda mucho este proceso de expansión?, no prácticamente en 10 años en la década de 1870 toda África esta repartida, ello es posible por la superioridad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Motivos de estas expansión?, son de diverso t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económ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úsqueda de mercados para la producción, y de espacios de inversión de capitales mediante la construcción de puertos ferrocarriles, concesión de prestamos. Y, por último necesidad de materias primas bar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las potencias conquistan lugares estratégicos para controlar rutas marítimas y terrestres (G. Bretaña-Egipto) Ello les permite aumentar su prestigio y fortalecer el orgull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demo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El gran aumento de la población en Europa en el siglo XIX encontró una válvula de escape con el imperialismo, pues muchos emigraron a las colonias. Ello aminoró los problemas del paro y malestar en las metrópo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ideológ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superioridad de la raza blanca  y el derecho a dominar otros pueblos, vinculaba las ideologías racistas con la misión civilizadora sobre los demás pueblos que se hallaban en un nivel de desarroll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estaba la curiosidad científica que llevó a realizar viajes exploratorios. En 1870 se crearon las Sociedades Geográficas que se lanzaron a recorrer el desierto del Sahara, las selvas, buscar las fuentes del Nilo... El país que había organizado la exploración tenía derecho a conquistarlo y explo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grandes imperios colon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de 1870 el proceso de colonización se aceleró. En la conferencia de Berlín 1885 el continente africano pasó a manos de los principales paíse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principios del XX la expansión había terminado, solo quedaban dos estados independientes: Etiopía y Liberia. En Asia, los occidentales cada vez controlaban más territorios. A. Latina se convirtió en un área controlada por el imperialismo estadounid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grandes imperios coloniales serán: El británico que llegó a unir sus territorios en un eje desde El Cabo a El Cairo. Controlaba puntos estratégicos del 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rancés controlaba África oeste y en Asia la península de Indo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imperios no tan extensos serán: el belga, el alemán, el italian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rrera colonial aumentará las tensiones entre las potencias europeas,  amenazando la paz entre ellas. Alemania estaba descontenta pues creía que su imperio no estaba a la altura de su importancia como país, y planteó constantes demandas para controlar nuevos territori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an tres formas de organización en los territorios colon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olonias, sometidas directamente a la soberanía de la potencia coloniz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Protectorado, las potencias coloniales controlan la política exterior y explotación de riquezas de la colonia, y las autoridades nativas se hacen cargo de la política i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Concesiones, territorios que pertenecen a un país independiente pero en el que las potencias occidentales conseguían ventajas comer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explotación 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colonos se apropiaron de la tierra y la convirtieron en grandes plantaciones donde cultivaban productos que exportaban a Europa. Las riquezas del subsuelo (oro, carbón, diamantes…) fueron también explotadas a beneficio de la metróp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no de obra nativa resultaba barata y en muchos casos era maltratado y sometida casi a esclavit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autoridades occidentales no fomentaban la industrialización de sus colonias, se limitaban a explotar sus recursos en beneficio de las metrópol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sociedad rac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indígenas desposeídos de sus tierras se convirtieron al algunas colonias como Australia, Nueva Zelanda, Sudáfrica  y Argelia en minorías marginadas, llegando en algunos casos a una política de extermi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onizados y colonizadores vivían realidades separadas, la mezcla era imposible. La población occidental era un grupo pequeño, que ocupaba los principales cargos (ejercito, administración, grandes propietarios agrícolas, directivos de empresas…) y controlaba la económía. Los blancos vivian apartados, en barrios lujosos. La población nativa vivía en la pobreza y sin derech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expansión colonial impuso la civilización occidental mientras que las culturas autóctonas fueron minusvaloradas lo que junto a la marginación provocó el resent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7:26:11Z</dcterms:created>
  <dc:creator>amalia</dc:creator>
  <dc:description/>
  <dc:language>en-US</dc:language>
  <cp:lastModifiedBy>amalia</cp:lastModifiedBy>
  <dcterms:modified xsi:type="dcterms:W3CDTF">2012-01-27T19:54:27Z</dcterms:modified>
  <cp:revision>9</cp:revision>
  <dc:subject/>
  <dc:title>Naciones e Imperios (1850-1914)</dc:title>
</cp:coreProperties>
</file>