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172-474B-44C1-94EF-ECEEFC73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B5D-4ED1-4938-B14C-82E0AE7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8D9-A52D-4E46-9C95-13368C8C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0AC-F8B7-4348-8170-6B9C67F0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A4E-0905-487D-9067-7562681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6E2-AA7F-4C25-AC8E-A7CE1C42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06C-011E-49FD-B7F3-86CF7B07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A7A-620E-4D77-A82D-8A414B8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464-5D30-4D67-A791-91087AE9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A62-5103-48E9-AEA3-B8A4A1B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0FA-7EC8-4B90-9775-CD8D449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103-64ED-425B-90CA-B9934A3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E9D-D8DC-4AB2-8A5E-89BA3DCA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5a3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ciones e Imperi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1850-19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El triunfo del nacionalismo en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a construcción de EE.UU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iberalismo y autorit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orígenes del imperialismo euro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Los grandes imperios colon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Administración y vida en las 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riunfo del nacionalismo en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100000">
                <a:srgbClr val="624b7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el liberalismo se inicia el proceso   creación de los estados nacionales tal como los conoc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labra nación designaba: grupo de personas nacidas en un mismo lugar y bajo el poder del mismo monarca. En el siglo XIX el término nación adquiere una dimensión política y se hacen coincidir las fronteras de una estado con las fronteras raciales, lingüísticas, histór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os concepciones de nacionalismo: a) la romántica alemana que defiende la concepción cultural de la nación. b) la francesa que plantea una concepción política, los ciudadanos son sujetos de derecho y deberes como miembros de la 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Estados desarrollan el sentimiento nacional en el XIX mediante la educación y la implantación de una lengua nacional, banderas y tradiciones se convierten en símbolos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ovimientos nacionalistas en Europa tendrás un doble carác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nacionalismo centrífugo o disgregador: casos de Bélgica o del Imperio austro-húngaro. 2) nacionalismo centrípeto o unificador casos de Alemania e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nstrucción de EE.UU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5a3fb"/>
              </a:gs>
              <a:gs pos="50000">
                <a:srgbClr val="624b73"/>
              </a:gs>
              <a:gs pos="100000">
                <a:srgbClr val="d5a3f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E.UU.. Se convierte en una gran po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800 a 1850 pasa de 5 a 23 millones de h. debido a la inmig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 mediados del XIX se produce la expansión hacia el Oeste (la frontera) que proporcionó tierra y fijó la ident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iferenciaran tres grandes regiones: noreste: industrial y urbano; sur: economía agraria (algodón y tabaco) explotadas por esclavos; oeste: pequeños granj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uerra de secesión (1861-1864) entre abolicionistas, (estados del norte y oeste), y esclavistas, ( los estados del sur que la necesitaban para la explotación del algodón y el tabaco), finaliza con la victoria del nort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eriodo posterior se conoce como Reconstrucción, época de prosperidad económica, EE.UU. Inicia un implacable desarrollo económico. En este periodo la vida política empezó a organizarse en torno a dos partidos, republicanos y demócra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eralismo y autoritar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5d7fd"/>
              </a:gs>
              <a:gs pos="100000">
                <a:srgbClr val="7063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ales del siglo XIX se comienza a aprobar el sufragio universal masculino, se desarrolló la libertad religiosa, y de expresión, surgiendo los partidos políticos mod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artidos socialistas serán partidos de masas dirigidos a un electorado numeroso, compuesto básicamente por trabajadores. Ahora, su participación en las elecciones les obliga a movilizar recursos e incrementar sus afiliados y mil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o que las mujeres seguían careciendo de derechos, como el del sufragio, comienza a desarrollarse el movimiento sufrag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e al sufragio universal masculino, y la participación de los partidos socialistas en las elecciones, la manipulación electoral era una constante (caciquismo), fundamentalmente por el temor de la burguesía a que ahora con el sufragio universal la situación pudiera írsele de las manos. Por lo tanto estos sistemas liberales no son todavía sistemas democráticos aunque tengan partidos y elecciones, porque el fraude electoral es lo habi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es imperialismo?: el dominio de un país sobre otro. Metrópoli el  colonizador y colonia el colon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Es un nuevo fenómeno?: no, ya había existido en los siglos XVI y XVII España y Portugal construyen grandes imperios colon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Qué países protagonizan en el XIX el imperialismo?: Gran Bretaña y Francia  sobre todo, pero también Bélgica, Italia y Alemania. Y Japón y EE.UU.. que son países extra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Tarda mucho este proceso de expansión?, no prácticamente en 10 años en la década de 1870 toda África esta repartida, ello es posible por la superioridad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Motivos de estas expansión?, son de diverso t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económ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úsqueda de mercados para la producción, y de espacios de inversión de capitales mediante la construcción de puertos ferrocarriles, concesión de prestamos. Y, por último necesidad de materias primas bar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las potencias conquistan lugares estratégicos para controlar rutas marítimas y terrestres (G. Bretaña-Egipto) Ello les permite aumentar su prestigio y fortalecer el orgullo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ígenes del imperial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demo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El gran aumento de la población en Europa en el siglo XIX encontró una válvula de escape con el imperialismo, pues muchos emigraron a las colonias. Ello aminoró los problemas del paro y malestar en las metrópo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tores ideológ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superioridad de la raza blanca  y el derecho a dominar otros pueblos, vinculaba las ideologías racistas con la misión civilizadora sobre los demás pueblos que se hallaban en un nivel de desarrollo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estaba la curiosidad científica que llevó a realizar viajes exploratorios. En 1870 se crearon las Sociedades Geográficas que se lanzaron a recorrer el desierto del Sahara, las selvas, buscar las fuentes del Nilo... El país que había organizado la exploración tenía derecho a conquistarlo y explo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s grandes imperios colon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de 1870 el proceso de colonización se aceleró. En la conferencia de Berlín 1885 el continente africano pasó a manos de los principales paíse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 principios del XX la expansión había terminado, solo quedaban dos estados independientes: Etiopía y Liberia. En Asia, los occidentales cada vez controlaban más territorios. A. Latina se convirtió en un área controlada por el imperialismo estadounid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grandes imperios coloniales serán: El británico que llegó a unir sus territorios en un eje desde El Cabo a El Cairo. Controlaba puntos estratégicos del 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francés controlaba África oeste y en Asia la península de Indo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imperios no tan extensos serán: el belga, el alemán, el italian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arrera colonial aumentará las tensiones entre las potencias europeas,  amenazando la paz entre ellas. Alemania estaba descontenta pues creía que su imperio no estaba a la altura de su importancia como país, y planteó constantes demandas para controlar nuevos territori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an tres formas de organización en los territorios colon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olonias, sometidas directamente a la soberanía de la potencia coloniz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Protectorado, las potencias coloniales controlan la política exterior y explotación de riquezas de la colonia, y las autoridades nativas se hacen cargo de la política i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Concesiones, territorios que pertenecen a un país independiente pero en el que las potencias occidentales conseguían ventajas comer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administración y la vida en las colon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9b8fc"/>
              </a:gs>
              <a:gs pos="100000">
                <a:srgbClr val="6b547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explotación 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colonos se apropiaron de la tierra y la convirtieron en grandes plantaciones donde cultivaban productos que exportaban a Europa. Las riquezas del subsuelo (oro, carbón, diamantes…) fueron también explotadas a beneficio de la metróp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no de obra nativa resultaba barata y en muchos casos era maltratado y sometida casi a esclavit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autoridades occidentales no fomentaban la industrialización de sus colonias, se limitaban a explotar sus recursos en beneficio de las metrópol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sociedad rac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indígenas desposeídos de sus tierras se convirtieron al algunas colonias como Australia, Nueva Zelanda, Sudáfrica  y Argelia en minorías marginadas, llegando en algunos casos a una política de extermi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onizados y colonizadores vivían realidades separadas, la mezcla era imposible. La población occidental era un grupo pequeño, que ocupaba los principales cargos (ejercito, administración, grandes propietarios agrícolas, directivos de empresas…) y controlaba la económía. Los blancos vivian apartados, en barrios lujosos. La población nativa vivía en la pobreza y sin derech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expansión colonial impuso la civilización occidental mientras que las culturas autóctonas fueron minusvaloradas lo que junto a la marginación provocó el resent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7:26:11Z</dcterms:created>
  <dc:creator>amalia</dc:creator>
  <dc:description/>
  <dc:language>en-US</dc:language>
  <cp:lastModifiedBy>amalia</cp:lastModifiedBy>
  <dcterms:modified xsi:type="dcterms:W3CDTF">2012-01-27T19:54:27Z</dcterms:modified>
  <cp:revision>9</cp:revision>
  <dc:subject/>
  <dc:title>Naciones e Imperios (1850-1914)</dc:title>
</cp:coreProperties>
</file>