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42.png" ContentType="image/png"/>
  <Override PartName="/ppt/media/image5.jpeg" ContentType="image/jpeg"/>
  <Override PartName="/ppt/media/image33.jpeg" ContentType="image/jpeg"/>
  <Override PartName="/ppt/media/image27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32.jpeg" ContentType="image/jpeg"/>
  <Override PartName="/ppt/media/image38.jpeg" ContentType="image/jpeg"/>
  <Override PartName="/ppt/media/image44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1AF868-EBA6-4E3C-9737-7FD29C096EF1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D06658-6E1D-4DB4-98D6-E9AD75A161F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1675724-824F-4E00-9123-4D19C8B51EF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9ADC8F-7C9E-46B8-8D2E-8227D4E3665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290CB6-203D-4225-A0A3-67743139EB3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F39290-A457-4904-9B26-7A4E13C4C93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274FE7-0B26-434C-AF56-7FBBBEFE234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AA16A6-CCC6-4A6A-B72D-068226C446D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E9E0A9A-64EC-4B98-8892-F33F45DEBA2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E390CCA-695B-4D93-B6DE-76C07A0BA35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4494459-707A-4945-AA79-B66A6D27064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5556FFD-694E-4165-9F97-221FAF647CF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65B7D1-09D5-4DAB-B6C3-8E9B6ACCA91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B752D53-102B-427A-85B8-832ADEF220D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20DE2D-BF74-4B85-8635-B4622F340A5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802EDC-C3F9-48FE-AC5B-91919C35300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2488F6-A915-4CF4-9B44-56EF1C4C6AF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0BB451-7AE2-4D53-8C29-84AC3D3F0F6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2143C8-2404-43D6-98C1-1F61941E479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A90032C-DC32-4432-9E59-64FBF6122DD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AAD19E5-94D9-490A-84BB-BADBAFAB0E5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C21370-6BE3-4A4F-B3AC-F616CA1A9B0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51B0D1-B7D3-43BA-9394-276BC64EBFE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4BF47-393B-472F-8FD9-1C3F4A2F63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636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49F8B-7155-4111-95D5-40A95F65C7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8640" y="17521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636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8640" y="39636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C277E-4230-4CF7-8776-2EAA5E3310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320" y="17521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1600" y="17521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636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320" y="39636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1600" y="39636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87166-E02A-4B19-986E-940D26F315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A1417-944D-466B-B648-A304613526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1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3848F-46B6-4E94-848C-26A09656BD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C03AA-E959-44B5-B141-E75F4C8EF1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8640" y="17521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728CC-D15B-4D5A-B104-A2DC4013E9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92195-A78B-4087-BD52-15B7431C6C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2350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DF879-1CF5-41CE-98F6-75A8767EE7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8640" y="17521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636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2E965-6D1D-45BA-B626-424CBFFE64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1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7225A-1872-4923-B1F6-AA177FBF86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8640" y="17521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8640" y="39636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EA605-A61B-44FA-8C89-8FA821E570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8640" y="17521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636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C3DD4-A160-4EAA-BE00-4D939C3004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636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2823E-1188-4276-B6A0-611108EEDE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8640" y="17521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636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8640" y="39636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F1F68-1077-4A36-A9B0-30EEB48267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320" y="17521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1600" y="17521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636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320" y="39636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1600" y="39636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DB427-9D1C-4B33-BB32-6D564DF62D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DC3C5-06B1-4B60-9FA7-CD0FDCB647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8640" y="17521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13D18-8503-4574-8410-D32E2C9CE8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47C07-169F-4775-A158-B49B9C4648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2350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A9BDF-7D47-4E41-9AFD-8C152F99EA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8640" y="17521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636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BDDAC-A37C-4BEE-ABD3-29EA7363F5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8640" y="17521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8640" y="39636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1780B-FBD8-4F05-A653-EC617DC14F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8640" y="17521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636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0C6D9-D7F8-4664-822F-BFCAB29C0D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913960" cy="6856560"/>
            <a:chOff x="0" y="0"/>
            <a:chExt cx="8913960" cy="685656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43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914400" y="228600"/>
              <a:ext cx="7999560" cy="6170760"/>
            </a:xfrm>
            <a:prstGeom prst="rect">
              <a:avLst/>
            </a:prstGeom>
            <a:solidFill>
              <a:srgbClr val="ffffff"/>
            </a:solidFill>
            <a:ln cap="sq"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1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70102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C834C74-DD9D-428E-9D14-7014050F843E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6361200" cy="6856560"/>
            <a:chOff x="0" y="0"/>
            <a:chExt cx="6361200" cy="685656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4360" cy="68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5880" cy="9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6680" y="17521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80808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3AD9A48-24AD-4C04-B4EE-69F51F3C12E1}" type="slidenum">
              <a:rPr b="0" lang="es-ES" sz="1400" spc="-1" strike="noStrike">
                <a:solidFill>
                  <a:srgbClr val="80808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52480" y="990720"/>
            <a:ext cx="6400800" cy="2514600"/>
          </a:xfrm>
          <a:prstGeom prst="rect">
            <a:avLst/>
          </a:prstGeom>
          <a:solidFill>
            <a:srgbClr val="ffffff"/>
          </a:solidFill>
          <a:ln cap="sq" w="763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TEMA 3:</a:t>
            </a:r>
            <a:br>
              <a:rPr sz="4400"/>
            </a:b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LA CLASIFICACIÓN DE LOS SERES VIVOS (I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14560" y="3860640"/>
            <a:ext cx="1234800" cy="1617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057480" y="4221000"/>
            <a:ext cx="2670120" cy="2278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300720" y="3789360"/>
            <a:ext cx="2084400" cy="17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66680" y="3808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187280" y="476280"/>
            <a:ext cx="4321440" cy="3632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796000" y="2133720"/>
            <a:ext cx="2981160" cy="2047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6732720" y="4292640"/>
            <a:ext cx="2025360" cy="20415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936760" y="3716280"/>
            <a:ext cx="15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Arial"/>
              </a:rPr>
              <a:t>Treponema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ffff00"/>
                </a:solidFill>
                <a:latin typeface="Arial"/>
              </a:rPr>
              <a:t>pallid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042920" y="4292640"/>
            <a:ext cx="2592360" cy="20476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238400" y="5754600"/>
            <a:ext cx="12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Arial"/>
              </a:rPr>
              <a:t>Vibrio choler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3851280" y="4292640"/>
            <a:ext cx="2735280" cy="2038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148000" y="443700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Arial"/>
              </a:rPr>
              <a:t>Streptomyces</a:t>
            </a:r>
            <a:r>
              <a:rPr b="0" lang="es-ES" sz="1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7"/>
          <a:srcRect l="0" t="9085" r="0" b="9085"/>
          <a:stretch/>
        </p:blipFill>
        <p:spPr>
          <a:xfrm>
            <a:off x="5796000" y="260280"/>
            <a:ext cx="2952720" cy="18129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664040" y="333360"/>
            <a:ext cx="88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Arial"/>
              </a:rPr>
              <a:t>Anaba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Arqueobacter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on organismos extremófilos. Tienen metabolismos poco habituales. Grup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Halófilas: En aguas hipersali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etanógenas: En zonas pantanosas o en tubo digestivo de anim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ermoacidófilas: En ambientes ácidos y muy calientes (fuentes termales sulfuros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Reino protoctis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1752480"/>
            <a:ext cx="777240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ucariotas, unicelulares o pluricelulares, de ambientes húmedos. Autótrofos o heterótrof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Grup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lgas (autótrof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rotozoos (heterótrof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ohos (filamentosos, saprófitos o parási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Alg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 u="sng">
                <a:solidFill>
                  <a:srgbClr val="990000"/>
                </a:solidFill>
                <a:uFillTx/>
                <a:latin typeface="Times New Roman"/>
              </a:rPr>
              <a:t>Dinoflagelad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Acuáticos, con dos flagelos, algunos fabrican tox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 u="sng">
                <a:solidFill>
                  <a:srgbClr val="990000"/>
                </a:solidFill>
                <a:uFillTx/>
                <a:latin typeface="Times New Roman"/>
              </a:rPr>
              <a:t>Diatome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Algas unicelulares con conchas silíceas de formas simétr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1752480"/>
            <a:ext cx="3809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29200" y="3886200"/>
            <a:ext cx="3809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5076720" y="692280"/>
            <a:ext cx="3760920" cy="2815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5076720" y="3565440"/>
            <a:ext cx="3735360" cy="27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Algas (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 u="sng">
                <a:solidFill>
                  <a:srgbClr val="990000"/>
                </a:solidFill>
                <a:uFillTx/>
                <a:latin typeface="Times New Roman"/>
              </a:rPr>
              <a:t>Euglenoid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de agua dulce, unicelulares con flagelo, fotosintéticos faculta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 u="sng">
                <a:solidFill>
                  <a:srgbClr val="990000"/>
                </a:solidFill>
                <a:uFillTx/>
                <a:latin typeface="Times New Roman"/>
              </a:rPr>
              <a:t>Algas roj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Pluricelulares con pigmentos roj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1752480"/>
            <a:ext cx="3809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3886200"/>
            <a:ext cx="3809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932360" y="333360"/>
            <a:ext cx="3924360" cy="2992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4932360" y="3392640"/>
            <a:ext cx="3887640" cy="29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Algas (I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 u="sng">
                <a:solidFill>
                  <a:srgbClr val="990000"/>
                </a:solidFill>
                <a:uFillTx/>
                <a:latin typeface="Times New Roman"/>
              </a:rPr>
              <a:t>Algas pard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Pluricelulares de gran tam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 u="sng">
                <a:solidFill>
                  <a:srgbClr val="990000"/>
                </a:solidFill>
                <a:uFillTx/>
                <a:latin typeface="Times New Roman"/>
              </a:rPr>
              <a:t>Algas verd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Unicelulares o pluricelulares. Posiblemente sean los antepasados de las plantas terrest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29200" y="1752480"/>
            <a:ext cx="3809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29200" y="3886200"/>
            <a:ext cx="3809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788000" y="333360"/>
            <a:ext cx="4049640" cy="3040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5364000" y="3429000"/>
            <a:ext cx="2951280" cy="28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Protozo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1752480"/>
            <a:ext cx="38102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3886200"/>
            <a:ext cx="38102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29200" y="1125360"/>
            <a:ext cx="380988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 u="sng">
                <a:solidFill>
                  <a:srgbClr val="990000"/>
                </a:solidFill>
                <a:uFillTx/>
                <a:latin typeface="Times New Roman"/>
              </a:rPr>
              <a:t>Zooflagelad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se desplazan mediante flage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 u="sng">
                <a:solidFill>
                  <a:srgbClr val="990000"/>
                </a:solidFill>
                <a:uFillTx/>
                <a:latin typeface="Times New Roman"/>
              </a:rPr>
              <a:t>Sarcodin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Mediante pseudópo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 u="sng">
                <a:solidFill>
                  <a:srgbClr val="990000"/>
                </a:solidFill>
                <a:uFillTx/>
                <a:latin typeface="Times New Roman"/>
              </a:rPr>
              <a:t>Esporozo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Sin medios de locomoción. Parási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 u="sng">
                <a:solidFill>
                  <a:srgbClr val="990000"/>
                </a:solidFill>
                <a:uFillTx/>
                <a:latin typeface="Times New Roman"/>
              </a:rPr>
              <a:t>Ciliad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Por cil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395280" y="1413000"/>
            <a:ext cx="1925640" cy="2232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2411280" y="1413000"/>
            <a:ext cx="2590920" cy="2238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395280" y="3716280"/>
            <a:ext cx="1976400" cy="2952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rcRect l="14621" t="0" r="14621" b="0"/>
          <a:stretch/>
        </p:blipFill>
        <p:spPr>
          <a:xfrm>
            <a:off x="2484360" y="3716280"/>
            <a:ext cx="247176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Mohos muco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752480"/>
            <a:ext cx="3810240" cy="45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 u="sng">
                <a:solidFill>
                  <a:srgbClr val="990000"/>
                </a:solidFill>
                <a:uFillTx/>
                <a:latin typeface="Times New Roman"/>
              </a:rPr>
              <a:t>Oomice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filamentosos. Algunos son patógenos de plantas. Phytopht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 u="sng">
                <a:solidFill>
                  <a:srgbClr val="990000"/>
                </a:solidFill>
                <a:uFillTx/>
                <a:latin typeface="Times New Roman"/>
              </a:rPr>
              <a:t>Mixomice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Plasmodios (no tabica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 u="sng">
                <a:solidFill>
                  <a:srgbClr val="990000"/>
                </a:solidFill>
                <a:uFillTx/>
                <a:latin typeface="Times New Roman"/>
              </a:rPr>
              <a:t>Acrasiomice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Células independientes, a veces se agrupan para formar falsos plasmod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1752480"/>
            <a:ext cx="3809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029200" y="3886200"/>
            <a:ext cx="3809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5003640" y="1700280"/>
            <a:ext cx="3929400" cy="2628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5580000" y="4149720"/>
            <a:ext cx="2857680" cy="2181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7"/>
          <a:stretch/>
        </p:blipFill>
        <p:spPr>
          <a:xfrm>
            <a:off x="5651640" y="333360"/>
            <a:ext cx="266688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Reino Hong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SzPct val="11726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ucarióticos heterótrofos, la mayoría saprófi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SzPct val="11726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ormados por una masa de filamentos (hifas) llamada micelio. Las células tienen pared celular de quit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SzPct val="11726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gregan enzimas digestivas  que digieren materia orgánica, y absorben el jugo result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SzPct val="11726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ienen reproducción asexual por esporas, y sexual por fusión de hif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Reino Hongos: Clas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Div. Quitridiomicet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Acuáticos, con esporas móviles por flage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Div. Cigomicet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Hongos descomponedores, viven en el suelo o sobre materia viva. Moho del p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651640" y="4005360"/>
            <a:ext cx="2539800" cy="2254320"/>
            <a:chOff x="5651640" y="4005360"/>
            <a:chExt cx="2539800" cy="2254320"/>
          </a:xfrm>
        </p:grpSpPr>
        <p:pic>
          <p:nvPicPr>
            <p:cNvPr id="175" name="" descr=""/>
            <p:cNvPicPr/>
            <p:nvPr/>
          </p:nvPicPr>
          <p:blipFill>
            <a:blip r:embed="rId4"/>
            <a:stretch/>
          </p:blipFill>
          <p:spPr>
            <a:xfrm>
              <a:off x="5651640" y="4005360"/>
              <a:ext cx="2539800" cy="22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5651640" y="4005360"/>
              <a:ext cx="2539800" cy="22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580000" y="1752480"/>
            <a:ext cx="2602080" cy="2062440"/>
            <a:chOff x="5580000" y="1752480"/>
            <a:chExt cx="2602080" cy="2062440"/>
          </a:xfrm>
        </p:grpSpPr>
        <p:pic>
          <p:nvPicPr>
            <p:cNvPr id="178" name="" descr=""/>
            <p:cNvPicPr/>
            <p:nvPr/>
          </p:nvPicPr>
          <p:blipFill>
            <a:blip r:embed="rId5"/>
            <a:stretch/>
          </p:blipFill>
          <p:spPr>
            <a:xfrm>
              <a:off x="5580000" y="1752480"/>
              <a:ext cx="2602080" cy="206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5580000" y="1752480"/>
              <a:ext cx="2602080" cy="20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La taxonom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iencia que se ocupa de la clasificación de los seres vivos que presentan semejanzas en grupos, llamados </a:t>
            </a:r>
            <a:r>
              <a:rPr b="0" lang="es-ES" sz="2000" spc="-1" strike="noStrike">
                <a:solidFill>
                  <a:srgbClr val="482400"/>
                </a:solidFill>
                <a:latin typeface="Times New Roman"/>
              </a:rPr>
              <a:t>taxone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os taxones principales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min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e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Filo (vegetales), tipo o división (anima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l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r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Fami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Gén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Espec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án ordenados jerárquicamente: Cada nivel engloba a los inferi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27640" y="2781360"/>
            <a:ext cx="2066760" cy="26956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Reino Hongos: Clas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1752480"/>
            <a:ext cx="3456000" cy="46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Div. Ascomice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Producen esporas sexuales en el interior de sacos llamados ascas. Colmenilla, truf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Div. Basidiomice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Producen esporas en estructuras llamadas basidios (setas). Boletus, Amani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1268280"/>
            <a:ext cx="2639880" cy="1979640"/>
            <a:chOff x="6156360" y="1268280"/>
            <a:chExt cx="2639880" cy="1979640"/>
          </a:xfrm>
        </p:grpSpPr>
        <p:pic>
          <p:nvPicPr>
            <p:cNvPr id="184" name="" descr=""/>
            <p:cNvPicPr/>
            <p:nvPr/>
          </p:nvPicPr>
          <p:blipFill>
            <a:blip r:embed="rId5"/>
            <a:stretch/>
          </p:blipFill>
          <p:spPr>
            <a:xfrm>
              <a:off x="6156360" y="1268280"/>
              <a:ext cx="263988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6156360" y="1268280"/>
              <a:ext cx="2639880" cy="19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940360" y="4365720"/>
            <a:ext cx="2854440" cy="1979640"/>
            <a:chOff x="5940360" y="4365720"/>
            <a:chExt cx="2854440" cy="1979640"/>
          </a:xfrm>
        </p:grpSpPr>
        <p:pic>
          <p:nvPicPr>
            <p:cNvPr id="187" name="" descr=""/>
            <p:cNvPicPr/>
            <p:nvPr/>
          </p:nvPicPr>
          <p:blipFill>
            <a:blip r:embed="rId6"/>
            <a:stretch/>
          </p:blipFill>
          <p:spPr>
            <a:xfrm>
              <a:off x="5940360" y="4365720"/>
              <a:ext cx="285444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5940360" y="4365720"/>
              <a:ext cx="2854440" cy="19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008000" y="404640"/>
            <a:ext cx="3527640" cy="29530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4967280" y="360360"/>
            <a:ext cx="3816360" cy="31701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2411280" y="3789360"/>
            <a:ext cx="4051440" cy="24940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126800" y="3357720"/>
            <a:ext cx="21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6b4794"/>
                </a:solidFill>
                <a:latin typeface="Comic Sans MS"/>
              </a:rPr>
              <a:t>Quitridiomic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45400" y="3500280"/>
            <a:ext cx="165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6b2394"/>
                </a:solidFill>
                <a:latin typeface="Comic Sans MS"/>
              </a:rPr>
              <a:t>Cigomic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34000" y="5759280"/>
            <a:ext cx="16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4b1f6f"/>
                </a:solidFill>
                <a:latin typeface="Comic Sans MS"/>
              </a:rPr>
              <a:t>Ascomic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584360" y="795240"/>
            <a:ext cx="3333600" cy="22291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1655640" y="3887640"/>
            <a:ext cx="2951280" cy="2151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5759280" y="1800360"/>
            <a:ext cx="2325960" cy="3095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871640" y="33116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4b1f6f"/>
                </a:solidFill>
                <a:latin typeface="Comic Sans MS"/>
              </a:rPr>
              <a:t>Basiodiomic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Reino Pla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utótrofos fotosintéticos pluricelulares. Clasific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Div. Briófit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Organización talofítica, sin auténticos órganos. Musgos y hep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Div. Pteridófit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Plantas vasculares sin semillas. Licopodios, equisetos, helech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Div. Gimnosperm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Plantas con semillas al descubierto. Cicas, Ginkgo, conífe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Div. Angiosperm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Plantas con semillas encerradas en un fruto (con flores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936720" y="287280"/>
            <a:ext cx="7966080" cy="6100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Reino pla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042920" y="1628640"/>
            <a:ext cx="2640240" cy="1979640"/>
            <a:chOff x="1042920" y="1628640"/>
            <a:chExt cx="2640240" cy="1979640"/>
          </a:xfrm>
        </p:grpSpPr>
        <p:pic>
          <p:nvPicPr>
            <p:cNvPr id="204" name="" descr=""/>
            <p:cNvPicPr/>
            <p:nvPr/>
          </p:nvPicPr>
          <p:blipFill>
            <a:blip r:embed="rId2"/>
            <a:stretch/>
          </p:blipFill>
          <p:spPr>
            <a:xfrm>
              <a:off x="1042920" y="1628640"/>
              <a:ext cx="264024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1042920" y="1628640"/>
              <a:ext cx="2640240" cy="19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084720" y="1557360"/>
            <a:ext cx="2394000" cy="1979640"/>
            <a:chOff x="6084720" y="1557360"/>
            <a:chExt cx="2394000" cy="1979640"/>
          </a:xfrm>
        </p:grpSpPr>
        <p:pic>
          <p:nvPicPr>
            <p:cNvPr id="207" name="" descr=""/>
            <p:cNvPicPr/>
            <p:nvPr/>
          </p:nvPicPr>
          <p:blipFill>
            <a:blip r:embed="rId3"/>
            <a:stretch/>
          </p:blipFill>
          <p:spPr>
            <a:xfrm>
              <a:off x="6084720" y="1557360"/>
              <a:ext cx="239400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084720" y="1557360"/>
              <a:ext cx="2394000" cy="19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042920" y="4005360"/>
            <a:ext cx="2619360" cy="1797120"/>
            <a:chOff x="1042920" y="4005360"/>
            <a:chExt cx="2619360" cy="1797120"/>
          </a:xfrm>
        </p:grpSpPr>
        <p:pic>
          <p:nvPicPr>
            <p:cNvPr id="210" name="" descr=""/>
            <p:cNvPicPr/>
            <p:nvPr/>
          </p:nvPicPr>
          <p:blipFill>
            <a:blip r:embed="rId4"/>
            <a:stretch/>
          </p:blipFill>
          <p:spPr>
            <a:xfrm>
              <a:off x="1042920" y="4005360"/>
              <a:ext cx="2619360" cy="17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042920" y="4005360"/>
              <a:ext cx="2619360" cy="179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084720" y="3860640"/>
            <a:ext cx="2640240" cy="1979640"/>
            <a:chOff x="6084720" y="3860640"/>
            <a:chExt cx="2640240" cy="1979640"/>
          </a:xfrm>
        </p:grpSpPr>
        <p:pic>
          <p:nvPicPr>
            <p:cNvPr id="213" name="" descr=""/>
            <p:cNvPicPr/>
            <p:nvPr/>
          </p:nvPicPr>
          <p:blipFill>
            <a:blip r:embed="rId5"/>
            <a:stretch/>
          </p:blipFill>
          <p:spPr>
            <a:xfrm>
              <a:off x="6084720" y="3860640"/>
              <a:ext cx="264024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084720" y="3860640"/>
              <a:ext cx="2640240" cy="19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>
            <a:off x="3851280" y="2421000"/>
            <a:ext cx="2098800" cy="30067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166760" y="309096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Briófito: Marchant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67120" y="539424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Gimnosperma: Cy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80200" y="30909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imes New Roman"/>
              </a:rPr>
              <a:t>Pteridófito: Helec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81800" y="5013360"/>
            <a:ext cx="23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fenófito: Equiset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39080" y="5394240"/>
            <a:ext cx="24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Angiosperma: Arbu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La especie y su nomencla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junto de organismos capaces de producir descendencia fértil (E. May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990000"/>
                </a:solidFill>
                <a:latin typeface="Times New Roman"/>
              </a:rPr>
              <a:t>Nomenclatur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es la parte de la taxonomía que se encarga de nombrar a los organism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s especies se nombran por un </a:t>
            </a:r>
            <a:r>
              <a:rPr b="0" lang="es-ES" sz="2000" spc="-1" strike="noStrike">
                <a:solidFill>
                  <a:srgbClr val="990000"/>
                </a:solidFill>
                <a:latin typeface="Times New Roman"/>
              </a:rPr>
              <a:t>sistema binomial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Para los nombres de las especies, de las dos palabras, la primera corresponde al nombre del </a:t>
            </a:r>
            <a:r>
              <a:rPr b="0" lang="es-ES" sz="2000" spc="-1" strike="noStrike">
                <a:solidFill>
                  <a:srgbClr val="990000"/>
                </a:solidFill>
                <a:latin typeface="Times New Roman"/>
              </a:rPr>
              <a:t>géner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al que pertenece y se escribe siempre con la inicial en mayúscula; la segunda palabra es el nombre </a:t>
            </a:r>
            <a:r>
              <a:rPr b="0" lang="es-ES" sz="2000" spc="-1" strike="noStrike">
                <a:solidFill>
                  <a:srgbClr val="990000"/>
                </a:solidFill>
                <a:latin typeface="Times New Roman"/>
              </a:rPr>
              <a:t>específic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y debe escribirse enteramente en minúscula y debe concordar gramaticalmente con el nombre genérico. Ambas son 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latinas o latinizada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sí, en 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Mantis religios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 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Manti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 es el nombre genérico, 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religios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 el nombre específico y el binomen 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Mantis religios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 es el "nombre científico“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3995640" y="5013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La especie y su nomencla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1752480"/>
            <a:ext cx="7772400" cy="42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l nombre específico nunca debe ir aislado del genérico ya que carece de identidad propia y puede coincidir en especies diferentes. Si se ha citado previamente el nombre completo y no cabe ninguna duda de a qué género se refiere, el nombre del género puede abreviarse a su inicial (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M. religios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 recomienda indicar, tras el binomen, el 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nombre del autor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que lo describió, y el 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año de su publica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separados por una coma. Por ejemplo, 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Mantis religiosa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innaeus, 175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i el descriptor de una especie la colocó en un género diferente del que se le asigna actualmente, su nombre y la fecha deben ir 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entre paréntesi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 Así, el nombre científico de la tórtola común debe escribirse 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Streptopelia turtur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 (Linnaeus, 1758); con este paréntesis se indica que la especie no fue originalmente descrita dentro del género 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Streptopeli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en el cual actualmente se halla; en efecto, Carlos Linneo colocó esta especie en el género 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Columb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 cuando la describi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843280" y="2060640"/>
            <a:ext cx="4762440" cy="356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La especie y su nomencla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1752480"/>
            <a:ext cx="777240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persona que describe la especie por primera vez tiene el honor de nombrar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nombres pueden aludir a alguna </a:t>
            </a: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característic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l organismo (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Man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religios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) o de su modo de vida, o bien honrar a una </a:t>
            </a: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person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por ejemplo a un colega, amigo o familiar, en forma latinizada; se considera de mal gusto y signo de egocentrismo que el autor se dedique la especie a sí mismo. (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Rhinoderma darwinii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Ran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perezi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084720" y="50101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258920" y="5018040"/>
            <a:ext cx="2158920" cy="183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Historia de la clas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Times New Roman"/>
              </a:rPr>
              <a:t>Aristótele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(s. I a.C.): Introduce el sistema jerárqu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Times New Roman"/>
              </a:rPr>
              <a:t>Linne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(s. XVIII): Fundador de la taxonomía moderna. Dos reinos: 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Animal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vegetal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Times New Roman"/>
              </a:rPr>
              <a:t>Darwi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(s. XIX): Defiende el parentesco de todos los seres vivos. La clasificación debe realizarse por parentesco, no por parec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Times New Roman"/>
              </a:rPr>
              <a:t>Haeckel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Propone un reino aparte para los organismos unicelulares (procariotas y eucariotas): Reino 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protist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Times New Roman"/>
              </a:rPr>
              <a:t>Whittaker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Cinco reinos: 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Animal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vegetal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hongo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protist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(protozoos) y 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moner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(bacteri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Times New Roman"/>
              </a:rPr>
              <a:t>Margulis y Schwartz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Reino 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protoctist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incluye protistas, algas y hongos primi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Times New Roman"/>
              </a:rPr>
              <a:t>Woes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Descubre diferencias entre dos grupos de bacterias. Propone tres dominios: Archaea (Arqueobacterias), Bacteria (Eubacterias) y Eukarya (Eucariot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Reino Mon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ormado por organismos procariotas, unicelulares, microscóp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producción por biparti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ienen mecanismos parasexuales: conjugación, transformación, trans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etabolismos muy variados: fotoautótrofos, quimioautótrofos, fotoheterótrofos, quimioheterótrof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gunos son patóge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scomponedores. Reciclado de nutrientes en los ecosiste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os grandes grupos: </a:t>
            </a:r>
            <a:r>
              <a:rPr b="1" lang="es-ES" sz="2400" spc="-1" strike="noStrike">
                <a:solidFill>
                  <a:srgbClr val="800000"/>
                </a:solidFill>
                <a:latin typeface="Times New Roman"/>
              </a:rPr>
              <a:t>Arqueobacteri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1" lang="es-ES" sz="2400" spc="-1" strike="noStrike">
                <a:solidFill>
                  <a:srgbClr val="800000"/>
                </a:solidFill>
                <a:latin typeface="Times New Roman"/>
              </a:rPr>
              <a:t>Eubacteri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Tienen grandes diferencias genét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Tinción de 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1484280"/>
            <a:ext cx="777240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Las bacterias se pueden dividir en dos grupos sobre las bases de su tinción de Gram. Las bacterias </a:t>
            </a:r>
            <a:r>
              <a:rPr b="0" lang="es-ES" sz="1600" spc="-1" strike="noStrike">
                <a:solidFill>
                  <a:srgbClr val="000099"/>
                </a:solidFill>
                <a:latin typeface="Times New Roman"/>
              </a:rPr>
              <a:t>gram positiva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se quedan teñidas con cristal violeta después de lavar y las </a:t>
            </a:r>
            <a:r>
              <a:rPr b="0" lang="es-ES" sz="1600" spc="-1" strike="noStrike">
                <a:solidFill>
                  <a:srgbClr val="000099"/>
                </a:solidFill>
                <a:latin typeface="Times New Roman"/>
              </a:rPr>
              <a:t>gram negativa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n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Todas las bacterias tienen una membrana celular donde ocurre la fosforilación oxidativa (ya que no tienen mitocondrias).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Al exterior de la membrana celular, está la pared celular, que es  rígida y protege a la célula de la lisis celular. En las bacterias gram positivas, la capa de peptidoglicano de su pared celular es una capa mucho más gruesa que en las  bacterias gram negativ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5">
            <a:lum contrast="20000"/>
          </a:blip>
          <a:stretch/>
        </p:blipFill>
        <p:spPr>
          <a:xfrm>
            <a:off x="2050920" y="3284640"/>
            <a:ext cx="5761080" cy="300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Eubacterias: grup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17524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Bacterias ver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Fotoautótrofas, no generan oxíge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Proteobacteri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Algunas son patógenas, como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Legionell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Vibrio cholera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Espiroquet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Forma de sacacorchos.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Treponema pallidum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sífil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Cianobacteri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Fotosintéticas, generan oxígeno. Muchas fijan el N atmosfér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Clamidi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Parásitos intracelulares.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Chlamydi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Bacterias Gram-positiv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Heterótrofas.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Lactobacillu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fabricación de ácido láctico),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Streptomyc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antibióticos),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Mycobacterium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tuberculosis),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Clostridium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botulis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7:51:39Z</dcterms:created>
  <dc:creator>Daniel</dc:creator>
  <dc:description/>
  <dc:language>en-US</dc:language>
  <cp:lastModifiedBy>Ciencias Naturales</cp:lastModifiedBy>
  <dcterms:modified xsi:type="dcterms:W3CDTF">2011-01-11T09:29:56Z</dcterms:modified>
  <cp:revision>29</cp:revision>
  <dc:subject/>
  <dc:title>TEMA 10: LA CLASIFICACIÓN DE LOS SERES VIVOS</dc:title>
</cp:coreProperties>
</file>