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EB588-3592-470D-8C9E-3B110FF6E03E}" type="slidenum">
              <a:rPr b="0" lang="es-E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046F0-8B90-453A-986E-4D0E7812CD5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325FC2-5C5E-4469-A566-4945961EC5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9227B7-36A5-4007-97EA-583B510B33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E14172-DCE3-4853-A2F2-9DFD28DC10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E55F50-301E-4E71-A25F-53374B8472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DAC1CF-689A-4DBA-9FDA-570CBFA6A4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4DB2AD-87BE-4436-8A08-4F0955CD1E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E07EF-FEEE-4731-95C9-8577B54D17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0A3E99-0D6A-4E3C-BEE8-1AC940D94D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C3BDF-ABDF-4A1E-80F2-C17DC8FA9D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2E3691-8343-48DE-ABEF-248BBFAC4E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1F55E1-9473-427F-8E8E-CDBBF5B98B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6AB276-6AA8-4941-BC1E-024AEA6099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51E622-4117-41E5-A7E5-E1B37701E9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BE1A88-AD7B-401F-843C-626F7137EC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C5D6C-7E25-488E-8BFF-60249F0B43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B916C5-45CC-4249-A50F-83AE8831F1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6F46D7-0F2B-4EF5-865D-7C9438DDAA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309D61-C56F-439B-B2CE-8DCB192BB7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40FEF5-892E-4FCB-8855-4326266BB0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F479AA-B09E-4ED7-AC91-E19193155A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777863-A58B-4E6A-8320-DCAA9ECB7B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17FA-D937-4546-8E9E-E1859F3F8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F026-F4F0-4737-B55E-55CD5709F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E908-687F-4EAB-B971-18F187240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6F52-9287-4A3B-8D04-75E64DCB9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531B-3F53-480D-B9ED-D1AF875C33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7C04-7F51-4BBC-9D13-BE5DCD250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0009-4A3B-4FDD-8749-F2B4D9187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8444-F00A-485C-9C61-1D43A8F69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42C0-977B-4FE0-A4E2-9C8A87F333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98B3-E95B-4319-955F-698780A44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AB7D-1353-4A16-85DC-48A978634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AA96-ADC8-42C4-B604-503A3D426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007F-9251-45A3-B62D-504B1DF17B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6221-A8FF-488E-893B-422C5F3B71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C0FC1-74A8-4030-B953-AC3FD6C114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3D1A-2498-4DCD-A93C-E3E452536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32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1600" y="17521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32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1600" y="39636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21CD-DE3D-47B1-97FC-12B6854D6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8A34-63A1-4C09-B9B1-63B201D9F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1AC9-2EB7-4444-892A-9E0F808F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A405-6D45-437F-9EE9-A03A59B51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2350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6622-57C7-4457-A560-528341996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1C66-A1D4-449D-9BE3-3C9F1108B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8640" y="39636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D874-8438-442F-B6AA-19236C38C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8640" y="17521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636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2725-8328-4422-9CE0-583BF1F08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3960" cy="6856560"/>
            <a:chOff x="0" y="0"/>
            <a:chExt cx="8913960" cy="68565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7999560" cy="6170760"/>
            </a:xfrm>
            <a:prstGeom prst="rect">
              <a:avLst/>
            </a:prstGeom>
            <a:solidFill>
              <a:srgbClr val="ffffff"/>
            </a:solidFill>
            <a:ln cap="sq"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2C3DAC-783B-46A3-8C91-5746EF39199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92BBB8-FF8B-451F-A9F2-7CC3996B9D3E}" type="slidenum">
              <a:rPr b="0" lang="es-ES" sz="1400" spc="-1" strike="noStrike">
                <a:solidFill>
                  <a:srgbClr val="80808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990720"/>
            <a:ext cx="6400800" cy="251460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EMA 3:</a:t>
            </a:r>
            <a:br>
              <a:rPr sz="4400"/>
            </a:b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CLASIFICACIÓN DE LOS SERES VIVOS (I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14560" y="3860640"/>
            <a:ext cx="1234800" cy="1617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57480" y="4221000"/>
            <a:ext cx="2670120" cy="227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3789360"/>
            <a:ext cx="2084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4321440" cy="363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796000" y="2133720"/>
            <a:ext cx="2981160" cy="20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2025360" cy="2041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36760" y="371628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Treponema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allid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42920" y="4292640"/>
            <a:ext cx="2592360" cy="204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38400" y="57546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Vibrio chole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851280" y="4292640"/>
            <a:ext cx="2735280" cy="203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48000" y="443700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Streptomyces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rcRect l="0" t="9085" r="0" b="9085"/>
          <a:stretch/>
        </p:blipFill>
        <p:spPr>
          <a:xfrm>
            <a:off x="5796000" y="260280"/>
            <a:ext cx="295272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64040" y="33336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Anaba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rqueobacte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n organismos extremófilos. Tienen metabolismos poco habituales. 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alófilas: En aguas hipersali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tanógenas: En zonas pantanosas o en tubo digestivo de ani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moacidófilas: En ambientes ácidos y muy calientes (fuentes termales sulfuro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rotoct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752480"/>
            <a:ext cx="77724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ucariotas, unicelulares o pluricelulares, de ambientes húmedos. Autótrofos o heterótrof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u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gas (autótrof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ozoos (heterót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hos (filamentosos, saprófitos o parási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n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dos flagelos, algunos fabrican tox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Diatome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lgas unicelulares con conchas silíceas de formas simétr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076720" y="692280"/>
            <a:ext cx="3760920" cy="281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076720" y="3565440"/>
            <a:ext cx="373536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uglenoi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de agua dulce, unicelulares con flagelo, fotosintéticos facul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roj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con pigmentos ro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932360" y="333360"/>
            <a:ext cx="3924360" cy="2992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932360" y="339264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Algas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pard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uricelulares de gran tam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lgas ver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Unicelulares o pluricelulares. Posiblemente sean los antepasados de las plantas terrest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88000" y="333360"/>
            <a:ext cx="4049640" cy="304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364000" y="3429000"/>
            <a:ext cx="295128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Protozo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752480"/>
            <a:ext cx="3810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86200"/>
            <a:ext cx="3810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125360"/>
            <a:ext cx="380988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Zooflagel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desplazan mediante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Sarcodi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ediante pseudóp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sporozo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in medios de locomoción.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ilia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or ci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95280" y="1413000"/>
            <a:ext cx="192564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2411280" y="1413000"/>
            <a:ext cx="2590920" cy="2238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95280" y="3716280"/>
            <a:ext cx="19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rcRect l="14621" t="0" r="14621" b="0"/>
          <a:stretch/>
        </p:blipFill>
        <p:spPr>
          <a:xfrm>
            <a:off x="2484360" y="3716280"/>
            <a:ext cx="2471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Mohos muc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38102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O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ilamentosos. Algunos son patógenos de plantas. Phytopht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Mix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lasmodios (no tabic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990000"/>
                </a:solidFill>
                <a:uFillTx/>
                <a:latin typeface="Times New Roman"/>
              </a:rPr>
              <a:t>Acras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élulas independientes, a veces se agrupan para formar falsos plasmo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1752480"/>
            <a:ext cx="3809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862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5003640" y="1700280"/>
            <a:ext cx="3929400" cy="262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2857680" cy="21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5651640" y="333360"/>
            <a:ext cx="2666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ucarióticos heterótrofos, la mayoría sapróf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ormados por una masa de filamentos (hifas) llamada micelio. Las células tienen pared celular de qui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regan enzimas digestivas  que digieren materia orgánica, y absorben el jugo resul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1726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n reproducción asexual por esporas, y sexual por fusión de hif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Quitridi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Acuáticos, con esporas móviles por flage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Cigomice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Hongos descomponedores, viven en el suelo o sobre materia viva. Moho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651640" y="4005360"/>
            <a:ext cx="2539800" cy="2254320"/>
            <a:chOff x="5651640" y="4005360"/>
            <a:chExt cx="2539800" cy="225432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651640" y="4005360"/>
              <a:ext cx="253980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651640" y="4005360"/>
              <a:ext cx="2539800" cy="22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580000" y="1752480"/>
            <a:ext cx="2602080" cy="2062440"/>
            <a:chOff x="5580000" y="1752480"/>
            <a:chExt cx="2602080" cy="2062440"/>
          </a:xfrm>
        </p:grpSpPr>
        <p:pic>
          <p:nvPicPr>
            <p:cNvPr id="178" name="" descr=""/>
            <p:cNvPicPr/>
            <p:nvPr/>
          </p:nvPicPr>
          <p:blipFill>
            <a:blip r:embed="rId5"/>
            <a:stretch/>
          </p:blipFill>
          <p:spPr>
            <a:xfrm>
              <a:off x="5580000" y="1752480"/>
              <a:ext cx="2602080" cy="20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580000" y="1752480"/>
              <a:ext cx="2602080" cy="20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taxonom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que se ocupa de la clasificación de los seres vivos que presentan semejanzas en grupos, llamados </a:t>
            </a:r>
            <a:r>
              <a:rPr b="0" lang="es-ES" sz="2000" spc="-1" strike="noStrike">
                <a:solidFill>
                  <a:srgbClr val="482400"/>
                </a:solidFill>
                <a:latin typeface="Times New Roman"/>
              </a:rPr>
              <a:t>taxon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taxones principal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ilo (vegetales), tipo o división (ani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án ordenados jerárquicamente: Cada nivel engloba a los inf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206676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Hongos: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752480"/>
            <a:ext cx="345600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Asc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sexuales en el interior de sacos llamados ascas. Colmenilla, truf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Div. Basidiomice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roducen esporas en estructuras llamadas basidios (setas). Boletus, Aman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1268280"/>
            <a:ext cx="2639880" cy="1979640"/>
            <a:chOff x="6156360" y="1268280"/>
            <a:chExt cx="2639880" cy="1979640"/>
          </a:xfrm>
        </p:grpSpPr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6156360" y="1268280"/>
              <a:ext cx="26398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156360" y="1268280"/>
              <a:ext cx="263988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940360" y="4365720"/>
            <a:ext cx="2854440" cy="1979640"/>
            <a:chOff x="5940360" y="4365720"/>
            <a:chExt cx="2854440" cy="1979640"/>
          </a:xfrm>
        </p:grpSpPr>
        <p:pic>
          <p:nvPicPr>
            <p:cNvPr id="187" name="" descr=""/>
            <p:cNvPicPr/>
            <p:nvPr/>
          </p:nvPicPr>
          <p:blipFill>
            <a:blip r:embed="rId6"/>
            <a:stretch/>
          </p:blipFill>
          <p:spPr>
            <a:xfrm>
              <a:off x="5940360" y="4365720"/>
              <a:ext cx="28544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940360" y="4365720"/>
              <a:ext cx="28544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08000" y="404640"/>
            <a:ext cx="3527640" cy="2953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967280" y="360360"/>
            <a:ext cx="3816360" cy="317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4051440" cy="2494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26800" y="33577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4794"/>
                </a:solidFill>
                <a:latin typeface="Comic Sans MS"/>
              </a:rPr>
              <a:t>Quitridi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45400" y="35002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b2394"/>
                </a:solidFill>
                <a:latin typeface="Comic Sans MS"/>
              </a:rPr>
              <a:t>Cig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34000" y="575928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4b1f6f"/>
                </a:solidFill>
                <a:latin typeface="Comic Sans MS"/>
              </a:rPr>
              <a:t>Ascomic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584360" y="795240"/>
            <a:ext cx="3333600" cy="2229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655640" y="3887640"/>
            <a:ext cx="2951280" cy="215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759280" y="1800360"/>
            <a:ext cx="2325960" cy="309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71640" y="3311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4b1f6f"/>
                </a:solidFill>
                <a:latin typeface="Comic Sans MS"/>
              </a:rPr>
              <a:t>Basiodiomic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utótrofos fotosintéticos pluricelulares. Clasif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Bri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Organización talofítica, sin auténticos órganos. Musgos y hep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Pteridóf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vasculares sin semillas. Licopodios, equisetos, helec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Gimn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al descubierto. Cicas, Ginkgo, conífe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Div. Angiospe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Plantas con semillas encerradas en un fruto (con flor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36720" y="287280"/>
            <a:ext cx="7966080" cy="6100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pla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42920" y="1628640"/>
            <a:ext cx="2640240" cy="1979640"/>
            <a:chOff x="1042920" y="1628640"/>
            <a:chExt cx="2640240" cy="19796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042920" y="1628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042920" y="1628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84720" y="1557360"/>
            <a:ext cx="2394000" cy="1979640"/>
            <a:chOff x="6084720" y="1557360"/>
            <a:chExt cx="2394000" cy="197964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84720" y="1557360"/>
              <a:ext cx="23940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084720" y="1557360"/>
              <a:ext cx="23940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42920" y="4005360"/>
            <a:ext cx="2619360" cy="1797120"/>
            <a:chOff x="1042920" y="4005360"/>
            <a:chExt cx="2619360" cy="179712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1042920" y="4005360"/>
              <a:ext cx="261936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042920" y="4005360"/>
              <a:ext cx="2619360" cy="17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84720" y="3860640"/>
            <a:ext cx="2640240" cy="1979640"/>
            <a:chOff x="6084720" y="3860640"/>
            <a:chExt cx="2640240" cy="1979640"/>
          </a:xfrm>
        </p:grpSpPr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084720" y="3860640"/>
              <a:ext cx="264024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084720" y="3860640"/>
              <a:ext cx="264024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851280" y="2421000"/>
            <a:ext cx="2098800" cy="300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66760" y="309096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Briófito: Marchan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67120" y="539424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Gimnosperma: Cy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0200" y="3090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imes New Roman"/>
              </a:rPr>
              <a:t>Pteridófito: Hel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800" y="501336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fenófito: Equise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39080" y="539424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giosperma: Arbu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junto de organismos capaces de producir descendencia fértil (E. May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Nomenclatu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s la parte de la taxonomía que se encarga de nombrar a los organ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especies se nombran por un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sistema binom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ara los nombres de las especies, de las dos palabras, la primera corresponde al nombre del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géner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al que pertenece y se escribe siempre con la inicial en mayúscula; la segunda palabra es el nombre </a:t>
            </a: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específ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be escribirse enteramente en minúscula y debe concordar gramaticalmente con el nombre genérico. Ambas son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latinas o latinizad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sí, 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nombre genéric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l nombre específico y el binomen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es el "nombre científico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995640" y="5013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752480"/>
            <a:ext cx="77724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nombre específico nunca debe ir aislado del genérico ya que carece de identidad propia y puede coincidir en especies diferentes. Si se ha citado previamente el nombre completo y no cabe ninguna duda de a qué género se refiere, el nombre del género puede abreviarse a su inicial 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. religio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recomienda indicar, tras el binomen,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ombre del aut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que lo describió, y el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ño de su public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separados por una coma. Por ejemplo,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Mantis religiosa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innaeus, 175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el descriptor de una especie la colocó en un género diferente del que se le asigna actualmente, su nombre y la fecha deben ir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entre paréntesi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Así, el nombre científico de la tórtola común debe escribirse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 turtu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(Linnaeus, 1758); con este paréntesis se indica que la especie no fue originalmente descrita dentro d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pel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el cual actualmente se halla; en efecto, Carlos Linneo colocó esta especie en el género 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Columb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 cuando la describi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2060640"/>
            <a:ext cx="476244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La especie y su nomencl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752480"/>
            <a:ext cx="77724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persona que describe la especie por primera vez tiene el honor de nombr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nombres pueden aludir a alg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característi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l organismo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n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ligios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 o de su modo de vida, o bien honrar a una </a:t>
            </a:r>
            <a:r>
              <a:rPr b="0" lang="es-ES" sz="2800" spc="-1" strike="noStrike">
                <a:solidFill>
                  <a:srgbClr val="000099"/>
                </a:solidFill>
                <a:latin typeface="Times New Roman"/>
              </a:rPr>
              <a:t>perso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ejemplo a un colega, amigo o familiar, en forma latinizada; se considera de mal gusto y signo de egocentrismo que el autor se dedique la especie a sí mismo.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hinoderma darwini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an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erez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084720" y="5010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258920" y="5018040"/>
            <a:ext cx="21589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Historia de la 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Aristót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I a.C.): Introduce el sistema jerárqu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Linne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VIII): Fundador de la taxonomía moderna. Dos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Darwi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s. XIX): Defiende el parentesco de todos los seres vivos. La clasificación debe realizarse por parentesco, no por parec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Haecke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ropone un reino aparte para los organismos unicelulares (procariotas y eucariotas)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hittake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nco reinos: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Anim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veget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hong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tozoos) y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moner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bacter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Margulis y Schwartz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Reino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protoctis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protistas, algas y hongos prim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imes New Roman"/>
              </a:rPr>
              <a:t>Woes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escubre diferencias entre dos grupos de bacterias. Propone tres dominios: Archaea (Arqueobacterias), Bacteria (Eubacterias) y Eukarya (Eucario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Reino Mon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o por organismos procariotas, unicelulares, microscóp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producción por bipart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enen mecanismos parasexuales: conjugación, transformación, trans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tabolismos muy variados: fotoautótrofos, quimioautótrofos, fotoheterótrofos, quimioheterótrof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os son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omponedores. Reciclado de nutrientes en los eco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s grandes grupos: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Arqu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</a:rPr>
              <a:t>Eu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Tienen grandes diferencias gen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Tinción de 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1484280"/>
            <a:ext cx="777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s bacterias se pueden dividir en dos grupos sobre las bases de su tinción de Gram. Las bacteri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posi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e quedan teñidas con cristal violeta después de lavar y las </a:t>
            </a:r>
            <a:r>
              <a:rPr b="0" lang="es-ES" sz="1600" spc="-1" strike="noStrike">
                <a:solidFill>
                  <a:srgbClr val="000099"/>
                </a:solidFill>
                <a:latin typeface="Times New Roman"/>
              </a:rPr>
              <a:t>gram negativ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odas las bacterias tienen una membrana celular donde ocurre la fosforilación oxidativa (ya que no tienen mitocondrias)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l exterior de la membrana celular, está la pared celular, que es  rígida y protege a la célula de la lisis celular. En las bacterias gram positivas, la capa de peptidoglicano de su pared celular es una capa mucho más gruesa que en las  bacterias gram neg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050920" y="3284640"/>
            <a:ext cx="576108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4400" spc="-1" strike="noStrike">
                <a:solidFill>
                  <a:srgbClr val="482400"/>
                </a:solidFill>
                <a:latin typeface="Times New Roman"/>
              </a:rPr>
              <a:t>Eubacterias: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ver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autótrofas, no generan oxíg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Prote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Algunas son patógenas, com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egione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Vibrio choler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spiroquet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rma de sacacorcho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reponema pallid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sífi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ianobacte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Fotosintéticas, generan oxígeno. Muchas fijan el N atmosfé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lamid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Parásitos intracelulare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lamyd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Bacterias Gram-positi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Heterótrofas.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ctobacill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fabricación de ácido láctico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treptomyc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antibiótico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tuberculosis),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lostridiu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botul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7:51:39Z</dcterms:created>
  <dc:creator>Daniel</dc:creator>
  <dc:description/>
  <dc:language>en-US</dc:language>
  <cp:lastModifiedBy>Ciencias Naturales</cp:lastModifiedBy>
  <dcterms:modified xsi:type="dcterms:W3CDTF">2011-01-11T09:29:56Z</dcterms:modified>
  <cp:revision>29</cp:revision>
  <dc:subject/>
  <dc:title>TEMA 10: LA CLASIFICACIÓN DE LOS SERES VIVOS</dc:title>
</cp:coreProperties>
</file>