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33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7B21C-DFC8-4264-B222-DF12A8031B7A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9591B5-E805-45C4-8501-372BCAB1105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32C8BD-8EFC-42E2-AF73-0DF5731A9A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79300A-08CC-493C-A53D-E73393A2A4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69F404-50BA-4C8E-80A2-088DEA664C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32FA6E-36D1-46DD-8B97-FD376C5130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A1BB67-7516-47B6-B1ED-9A8866EA56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45D374-183D-46C3-8C3A-42610B928C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6F862F-7972-4DEA-A064-4FADF089CA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A0198F-9285-420A-A1F6-6D56F00D63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E3AD2F-DD64-49CE-9BA2-F4B10569C6A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19619B-83B9-49BF-B189-048E2D924D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D38951-BD65-42CA-BDAB-AFF773FD47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C5A720-4A70-4423-9D54-582E775E69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34BF53-A31D-404F-AA04-B8FA5A41D0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1F2DED-BF7B-4E9D-B1ED-A7FC6AF7A1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E78E0B-C52D-4426-AC89-E0EAF21387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B201F0-0A6C-42A8-839E-48DDB32FC6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A8FE86-9BC7-462E-9090-39175FBCA5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20DDF7-B978-4A0F-A0AA-DC5EA912DE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B29889-CF40-49E0-8F9E-E5B09948D3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510D85-2D00-4243-9A79-5595DA0268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2EFB31-B705-4BED-9398-97B43B300B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21BB-DCFB-46B7-BEC0-1A4218442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636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3836-5E14-45F0-A441-9EB178B50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864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D1F7-F965-48F1-9F40-8C6F42448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32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160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32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160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47E4-8A71-4822-8C6C-87ED8E0E4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081A-F012-4EE3-BC22-9444281A51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B3861-72C7-46AC-9CDA-5D25B4A65F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E3ECE-C980-4F64-9F4D-9CA194C124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F2EAB-91F1-4D46-AA04-EE6555861C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65F7-D972-4312-98A8-7843B1D4B7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2350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AF2D-6CD6-4335-A515-DB2E60E346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24853-DE11-4316-8041-3B485A7FA3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93BB-291F-4A00-8502-67F26BAC1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864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C942-CDCA-4434-AFBF-945034DA8F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5DABB-1867-4ECE-AC56-533536FFD5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636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AEF9-DF60-4738-B37E-C6349E4A39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864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4C25-18E5-4D9A-B44A-2CB6B952BA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32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160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32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160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A7D1-7FCC-4B5E-95BA-40D233AEA3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0513-1578-4226-93B3-4B9A77EA1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7890-2381-405B-A66B-EE5CF93C0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2593-85D8-428F-A4B8-E1DD64FC1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2350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0A3A-6F90-4BA7-9E00-18DB1348D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A269-1AE4-4959-AEDB-688CE7787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864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75E0-F3BB-4F25-B0DC-F2904EDCF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6E1D-9EEC-4C86-9DFF-A974AEAEF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3960" cy="6856560"/>
            <a:chOff x="0" y="0"/>
            <a:chExt cx="8913960" cy="68565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43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7999560" cy="6170760"/>
            </a:xfrm>
            <a:prstGeom prst="rect">
              <a:avLst/>
            </a:prstGeom>
            <a:solidFill>
              <a:srgbClr val="ffffff"/>
            </a:solidFill>
            <a:ln cap="sq"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119603-744F-4A6A-BEB9-2BEB9E3A8C1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6361200" cy="6856560"/>
            <a:chOff x="0" y="0"/>
            <a:chExt cx="6361200" cy="685656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43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5880" cy="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80808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3D32D6-5685-40EC-98BA-79D009E507B3}" type="slidenum">
              <a:rPr b="0" lang="es-ES" sz="1400" spc="-1" strike="noStrike">
                <a:solidFill>
                  <a:srgbClr val="80808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52480" y="990720"/>
            <a:ext cx="6400800" cy="251460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TEMA 3:</a:t>
            </a:r>
            <a:br>
              <a:rPr sz="4400"/>
            </a:b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LA CLASIFICACIÓN DE LOS SERES VIVOS (I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14560" y="3860640"/>
            <a:ext cx="1234800" cy="1617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057480" y="4221000"/>
            <a:ext cx="2670120" cy="2278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300720" y="3789360"/>
            <a:ext cx="208440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3808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4321440" cy="363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796000" y="2133720"/>
            <a:ext cx="2981160" cy="2047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732720" y="4292640"/>
            <a:ext cx="2025360" cy="2041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936760" y="371628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Treponema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allid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042920" y="4292640"/>
            <a:ext cx="2592360" cy="2047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38400" y="575460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Vibrio choler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851280" y="4292640"/>
            <a:ext cx="2735280" cy="203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48000" y="443700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Streptomyces</a:t>
            </a: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7"/>
          <a:srcRect l="0" t="9085" r="0" b="9085"/>
          <a:stretch/>
        </p:blipFill>
        <p:spPr>
          <a:xfrm>
            <a:off x="5796000" y="260280"/>
            <a:ext cx="2952720" cy="1812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64040" y="33336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Anaba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Arqueobacte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n organismos extremófilos. Tienen metabolismos poco habituales. Grup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alófilas: En aguas hipersali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etanógenas: En zonas pantanosas o en tubo digestivo de anim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rmoacidófilas: En ambientes ácidos y muy calientes (fuentes termales sulfuros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protocti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1752480"/>
            <a:ext cx="777240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ucariotas, unicelulares o pluricelulares, de ambientes húmedos. Autótrofos o heterótrof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up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lgas (autótrof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otozoos (heterótrof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hos (filamentosos, saprófitos o parási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Al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Dinoflagela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Acuáticos, con dos flagelos, algunos fabrican tox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Diatome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Algas unicelulares con conchas silíceas de formas simétr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17524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076720" y="692280"/>
            <a:ext cx="3760920" cy="281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076720" y="3565440"/>
            <a:ext cx="373536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Algas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Euglenoi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de agua dulce, unicelulares con flagelo, fotosintéticos faculta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lgas roj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luricelulares con pigmentos ro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7524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932360" y="333360"/>
            <a:ext cx="3924360" cy="2992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932360" y="3392640"/>
            <a:ext cx="388764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Algas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lgas pard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luricelulares de gran tam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lgas ver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Unicelulares o pluricelulares. Posiblemente sean los antepasados de las plantas terrest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17524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788000" y="333360"/>
            <a:ext cx="4049640" cy="3040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364000" y="3429000"/>
            <a:ext cx="295128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Protozo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752480"/>
            <a:ext cx="38102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3886200"/>
            <a:ext cx="3810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1125360"/>
            <a:ext cx="380988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Zooflagela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se desplazan mediante flage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Sarcodin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Mediante pseudópo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Esporozo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Sin medios de locomoción. Parás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Cilia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or cil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95280" y="1413000"/>
            <a:ext cx="1925640" cy="2232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2411280" y="1413000"/>
            <a:ext cx="2590920" cy="2238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95280" y="3716280"/>
            <a:ext cx="1976400" cy="295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rcRect l="14621" t="0" r="14621" b="0"/>
          <a:stretch/>
        </p:blipFill>
        <p:spPr>
          <a:xfrm>
            <a:off x="2484360" y="3716280"/>
            <a:ext cx="24717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Mohos muco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381024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 u="sng">
                <a:solidFill>
                  <a:srgbClr val="990000"/>
                </a:solidFill>
                <a:uFillTx/>
                <a:latin typeface="Times New Roman"/>
              </a:rPr>
              <a:t>Oomice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filamentosos. Algunos son patógenos de plantas. Phytoph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 u="sng">
                <a:solidFill>
                  <a:srgbClr val="990000"/>
                </a:solidFill>
                <a:uFillTx/>
                <a:latin typeface="Times New Roman"/>
              </a:rPr>
              <a:t>Mixomice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Plasmodios (no tabic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 u="sng">
                <a:solidFill>
                  <a:srgbClr val="990000"/>
                </a:solidFill>
                <a:uFillTx/>
                <a:latin typeface="Times New Roman"/>
              </a:rPr>
              <a:t>Acrasiomice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Células independientes, a veces se agrupan para formar falsos plasmo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17524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003640" y="1700280"/>
            <a:ext cx="3929400" cy="2628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5580000" y="4149720"/>
            <a:ext cx="2857680" cy="2181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5651640" y="333360"/>
            <a:ext cx="26668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Hong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ucarióticos heterótrofos, la mayoría sapróf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ormados por una masa de filamentos (hifas) llamada micelio. Las células tienen pared celular de quit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regan enzimas digestivas  que digieren materia orgánica, y absorben el jugo resul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enen reproducción asexual por esporas, y sexual por fusión de hif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Hongos: 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Quitridiomicet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Acuáticos, con esporas móviles por flage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Cigomicet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Hongos descomponedores, viven en el suelo o sobre materia viva. Moho del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651640" y="4005360"/>
            <a:ext cx="2539800" cy="2254320"/>
            <a:chOff x="5651640" y="4005360"/>
            <a:chExt cx="2539800" cy="2254320"/>
          </a:xfrm>
        </p:grpSpPr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5651640" y="4005360"/>
              <a:ext cx="2539800" cy="22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651640" y="4005360"/>
              <a:ext cx="2539800" cy="22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580000" y="1752480"/>
            <a:ext cx="2602080" cy="2062440"/>
            <a:chOff x="5580000" y="1752480"/>
            <a:chExt cx="2602080" cy="2062440"/>
          </a:xfrm>
        </p:grpSpPr>
        <p:pic>
          <p:nvPicPr>
            <p:cNvPr id="178" name="" descr=""/>
            <p:cNvPicPr/>
            <p:nvPr/>
          </p:nvPicPr>
          <p:blipFill>
            <a:blip r:embed="rId5"/>
            <a:stretch/>
          </p:blipFill>
          <p:spPr>
            <a:xfrm>
              <a:off x="5580000" y="1752480"/>
              <a:ext cx="2602080" cy="20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580000" y="1752480"/>
              <a:ext cx="2602080" cy="20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La taxonom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encia que se ocupa de la clasificación de los seres vivos que presentan semejanzas en grupos, llamados </a:t>
            </a:r>
            <a:r>
              <a:rPr b="0" lang="es-ES" sz="2000" spc="-1" strike="noStrike">
                <a:solidFill>
                  <a:srgbClr val="482400"/>
                </a:solidFill>
                <a:latin typeface="Times New Roman"/>
              </a:rPr>
              <a:t>taxon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taxones principale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mi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ilo (vegetales), tipo o división (anim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ami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Gé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Espe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án ordenados jerárquicamente: Cada nivel engloba a los inferi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27640" y="2781360"/>
            <a:ext cx="2066760" cy="2695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Hongos: 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1752480"/>
            <a:ext cx="345600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Div. Ascomice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Producen esporas sexuales en el interior de sacos llamados ascas. Colmenilla, truf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Div. Basidiomice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Producen esporas en estructuras llamadas basidios (setas). Boletus, Aman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1268280"/>
            <a:ext cx="2639880" cy="1979640"/>
            <a:chOff x="6156360" y="1268280"/>
            <a:chExt cx="2639880" cy="1979640"/>
          </a:xfrm>
        </p:grpSpPr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6156360" y="1268280"/>
              <a:ext cx="263988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156360" y="1268280"/>
              <a:ext cx="263988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940360" y="4365720"/>
            <a:ext cx="2854440" cy="1979640"/>
            <a:chOff x="5940360" y="4365720"/>
            <a:chExt cx="2854440" cy="1979640"/>
          </a:xfrm>
        </p:grpSpPr>
        <p:pic>
          <p:nvPicPr>
            <p:cNvPr id="187" name="" descr=""/>
            <p:cNvPicPr/>
            <p:nvPr/>
          </p:nvPicPr>
          <p:blipFill>
            <a:blip r:embed="rId6"/>
            <a:stretch/>
          </p:blipFill>
          <p:spPr>
            <a:xfrm>
              <a:off x="5940360" y="4365720"/>
              <a:ext cx="285444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940360" y="4365720"/>
              <a:ext cx="285444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008000" y="404640"/>
            <a:ext cx="3527640" cy="2953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967280" y="360360"/>
            <a:ext cx="3816360" cy="3170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4051440" cy="2494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126800" y="33577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b4794"/>
                </a:solidFill>
                <a:latin typeface="Comic Sans MS"/>
              </a:rPr>
              <a:t>Quitridiomic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45400" y="35002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b2394"/>
                </a:solidFill>
                <a:latin typeface="Comic Sans MS"/>
              </a:rPr>
              <a:t>Cigomic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34000" y="575928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4b1f6f"/>
                </a:solidFill>
                <a:latin typeface="Comic Sans MS"/>
              </a:rPr>
              <a:t>Ascomic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584360" y="795240"/>
            <a:ext cx="3333600" cy="2229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655640" y="3887640"/>
            <a:ext cx="2951280" cy="2151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759280" y="1800360"/>
            <a:ext cx="2325960" cy="3095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71640" y="3311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4b1f6f"/>
                </a:solidFill>
                <a:latin typeface="Comic Sans MS"/>
              </a:rPr>
              <a:t>Basiodiomic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Pla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utótrofos fotosintéticos pluricelulares. Clasific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Briófit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Organización talofítica, sin auténticos órganos. Musgos y hep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Pteridófit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lantas vasculares sin semillas. Licopodios, equisetos, helech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Gimnosperm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lantas con semillas al descubierto. Cicas, Ginkgo, conífe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Angiosperm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lantas con semillas encerradas en un fruto (con flor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936720" y="287280"/>
            <a:ext cx="7966080" cy="6100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pla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042920" y="1628640"/>
            <a:ext cx="2640240" cy="1979640"/>
            <a:chOff x="1042920" y="1628640"/>
            <a:chExt cx="2640240" cy="197964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1042920" y="1628640"/>
              <a:ext cx="264024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042920" y="1628640"/>
              <a:ext cx="264024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84720" y="1557360"/>
            <a:ext cx="2394000" cy="1979640"/>
            <a:chOff x="6084720" y="1557360"/>
            <a:chExt cx="2394000" cy="1979640"/>
          </a:xfrm>
        </p:grpSpPr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6084720" y="1557360"/>
              <a:ext cx="239400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084720" y="1557360"/>
              <a:ext cx="239400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042920" y="4005360"/>
            <a:ext cx="2619360" cy="1797120"/>
            <a:chOff x="1042920" y="4005360"/>
            <a:chExt cx="2619360" cy="1797120"/>
          </a:xfrm>
        </p:grpSpPr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1042920" y="4005360"/>
              <a:ext cx="261936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042920" y="4005360"/>
              <a:ext cx="2619360" cy="17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084720" y="3860640"/>
            <a:ext cx="2640240" cy="1979640"/>
            <a:chOff x="6084720" y="3860640"/>
            <a:chExt cx="2640240" cy="1979640"/>
          </a:xfrm>
        </p:grpSpPr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6084720" y="3860640"/>
              <a:ext cx="264024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084720" y="3860640"/>
              <a:ext cx="264024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3851280" y="2421000"/>
            <a:ext cx="2098800" cy="3006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66760" y="309096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Briófito: Marchant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67120" y="539424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Gimnosperma: Cy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80200" y="30909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Pteridófito: Hel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81800" y="501336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fenófito: Equise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39080" y="539424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Angiosperma: Arbu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La especie y su nomencl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junto de organismos capaces de producir descendencia fértil (E. May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Nomenclatur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es la parte de la taxonomía que se encarga de nombrar a los organism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especies se nombran por un </a:t>
            </a: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sistema binomi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Para los nombres de las especies, de las dos palabras, la primera corresponde al nombre del </a:t>
            </a: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géner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al que pertenece y se escribe siempre con la inicial en mayúscula; la segunda palabra es el nombre </a:t>
            </a: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específic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debe escribirse enteramente en minúscula y debe concordar gramaticalmente con el nombre genérico. Ambas son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latinas o latinizad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sí, en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Mantis religios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Manti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 es el nombre genérico,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religios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 el nombre específico y el binomen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Mantis religios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 es el "nombre científico“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3995640" y="501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La especie y su nomencl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752480"/>
            <a:ext cx="77724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nombre específico nunca debe ir aislado del genérico ya que carece de identidad propia y puede coincidir en especies diferentes. Si se ha citado previamente el nombre completo y no cabe ninguna duda de a qué género se refiere, el nombre del género puede abreviarse a su inicial (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M. religios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recomienda indicar, tras el binomen, el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nombre del auto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que lo describió, y el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año de su public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separados por una coma. Por ejemplo,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Mantis religiosa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innaeus, 175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 el descriptor de una especie la colocó en un género diferente del que se le asigna actualmente, su nombre y la fecha deben ir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entre paréntesi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Así, el nombre científico de la tórtola común debe escribirse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pelia turtu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 (Linnaeus, 1758); con este paréntesis se indica que la especie no fue originalmente descrita dentro del género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pel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el cual actualmente se halla; en efecto, Carlos Linneo colocó esta especie en el género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Columb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 cuando la describi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843280" y="2060640"/>
            <a:ext cx="4762440" cy="35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La especie y su nomencl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752480"/>
            <a:ext cx="777240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persona que describe la especie por primera vez tiene el honor de nombr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nombres pueden aludir a alguna 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característic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l organismo (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Man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eligios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 o de su modo de vida, o bien honrar a una 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person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or ejemplo a un colega, amigo o familiar, en forma latinizada; se considera de mal gusto y signo de egocentrismo que el autor se dedique la especie a sí mismo. (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hinoderma darwini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an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erez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084720" y="5010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258920" y="5018040"/>
            <a:ext cx="215892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Historia de la 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Aristóte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s. I a.C.): Introduce el sistema jerárqu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Linne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s. XVIII): Fundador de la taxonomía moderna. Dos reinos: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Anim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veget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Darwi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s. XIX): Defiende el parentesco de todos los seres vivos. La clasificación debe realizarse por parentesco, no por parec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Haecke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Propone un reino aparte para los organismos unicelulares (procariotas y eucariotas): Reino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protist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Whittake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Cinco reinos: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Anim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veget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hong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protist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protozoos) y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moner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bacter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Margulis y Schwartz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Reino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protoctist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incluye protistas, algas y hongos primi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Woes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Descubre diferencias entre dos grupos de bacterias. Propone tres dominios: Archaea (Arqueobacterias), Bacteria (Eubacterias) y Eukarya (Eucariot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Mon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mado por organismos procariotas, unicelulares, microscóp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producción por biparti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enen mecanismos parasexuales: conjugación, transformación, trans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tabolismos muy variados: fotoautótrofos, quimioautótrofos, fotoheterótrofos, quimioheterótrof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gunos son patóg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componedores. Reciclado de nutrientes en los ecosist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s grandes grupos: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Arqueobacter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Eubacter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Tienen grandes diferencias gen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Tinción de 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1484280"/>
            <a:ext cx="77724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as bacterias se pueden dividir en dos grupos sobre las bases de su tinción de Gram. Las bacterias </a:t>
            </a: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gram positiva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se quedan teñidas con cristal violeta después de lavar y las </a:t>
            </a: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gram negativa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n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odas las bacterias tienen una membrana celular donde ocurre la fosforilación oxidativa (ya que no tienen mitocondrias)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l exterior de la membrana celular, está la pared celular, que es  rígida y protege a la célula de la lisis celular. En las bacterias gram positivas, la capa de peptidoglicano de su pared celular es una capa mucho más gruesa que en las  bacterias gram negativ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2050920" y="3284640"/>
            <a:ext cx="5761080" cy="30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Eubacterias: gru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Bacterias ver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Fotoautótrofas, no generan oxíge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Proteobacter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Algunas son patógenas, com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egionel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Vibrio cholera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spiroquet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Forma de sacacorchos.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Treponema pallidu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sífil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ianobacter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Fotosintéticas, generan oxígeno. Muchas fijan el N atmosfé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lamid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Parásitos intracelulares.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lamyd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Bacterias Gram-positiv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Heterótrofas.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actobacill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fabricación de ácido láctico),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treptomyc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antibióticos),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Mycobacteriu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tuberculosis),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lostridiu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botulis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7:51:39Z</dcterms:created>
  <dc:creator>Daniel</dc:creator>
  <dc:description/>
  <dc:language>en-US</dc:language>
  <cp:lastModifiedBy>Ciencias Naturales</cp:lastModifiedBy>
  <dcterms:modified xsi:type="dcterms:W3CDTF">2011-01-11T09:29:56Z</dcterms:modified>
  <cp:revision>29</cp:revision>
  <dc:subject/>
  <dc:title>TEMA 10: LA CLASIFICACIÓN DE LOS SERES VIVOS</dc:title>
</cp:coreProperties>
</file>