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gif" ContentType="image/gif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929-8386-4E98-9DCC-AA377054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3E9-867F-4FE5-BE09-F36B098A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3F1-97ED-4EE7-8FAA-311479A0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C93-EC26-4B1F-9054-46E7E256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9607-00AA-4E43-8F8D-AB9EF5B8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7A8B-B97F-4E5D-BDE8-0F0B012C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8BE1-50D4-417D-BA6E-54BDD3BA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796D-701A-48EC-BA4D-ADE6BDC5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46F4-7390-46E7-99F2-D9AA1EF7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77D3-05B2-46C6-84DF-304BF5B3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8490-9FFD-4362-9FF5-128BFE63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70F-03D8-4317-B8C4-48682D85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1D1D-4484-4183-944F-E35B5953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193B-8847-41E3-882D-8C94B8DF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262E-5CC5-4BD0-B918-01CA4F10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3B87-4A85-48E9-9136-28969AAF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770C-3E06-43EE-B09D-E925EF8C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8BA-0ACB-42B7-91BE-488749ED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854-342A-49B5-BA7F-492337EC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33E-A5FE-4D75-AFEC-1242979B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AC7-9971-4E8E-94CE-30CAC2B7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B26-3548-423E-B043-01957F7E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4B8-EC50-4B83-8F5F-AD7D20DB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937-0D01-48D3-9BA0-1F06AEE7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6F58-8131-402A-8255-66E36FAA46B6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D140-DC81-4CA9-984D-256257DBC1CB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atomos.htm" TargetMode="External"/><Relationship Id="rId2" Type="http://schemas.openxmlformats.org/officeDocument/2006/relationships/hyperlink" Target="http://biologia-jct.iespana.es/curtis/niveles/atomos.htm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molecula.htm" TargetMode="External"/><Relationship Id="rId2" Type="http://schemas.openxmlformats.org/officeDocument/2006/relationships/hyperlink" Target="http://biologia-jct.iespana.es/curtis/niveles/molecula.htm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macromol.htm" TargetMode="External"/><Relationship Id="rId2" Type="http://schemas.openxmlformats.org/officeDocument/2006/relationships/hyperlink" Target="http://biologia-jct.iespana.es/curtis/niveles/macromol.htm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complmac.htm" TargetMode="External"/><Relationship Id="rId2" Type="http://schemas.openxmlformats.org/officeDocument/2006/relationships/hyperlink" Target="http://biologia-jct.iespana.es/curtis/niveles/complmac.htm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celulas.htm" TargetMode="External"/><Relationship Id="rId2" Type="http://schemas.openxmlformats.org/officeDocument/2006/relationships/hyperlink" Target="http://biologia-jct.iespana.es/curtis/niveles/celulas.htm" TargetMode="External"/><Relationship Id="rId3" Type="http://schemas.openxmlformats.org/officeDocument/2006/relationships/hyperlink" Target="http://biologia-jct.iespana.es/curtis/niveles/celulas.htm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tejidos.htm" TargetMode="External"/><Relationship Id="rId2" Type="http://schemas.openxmlformats.org/officeDocument/2006/relationships/hyperlink" Target="http://biologia-jct.iespana.es/curtis/niveles/tejidos.htm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organos.htm" TargetMode="External"/><Relationship Id="rId2" Type="http://schemas.openxmlformats.org/officeDocument/2006/relationships/hyperlink" Target="http://biologia-jct.iespana.es/curtis/niveles/organos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sistdeor.htm" TargetMode="External"/><Relationship Id="rId2" Type="http://schemas.openxmlformats.org/officeDocument/2006/relationships/hyperlink" Target="http://biologia-jct.iespana.es/curtis/niveles/sistdeor.htm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individu.htm" TargetMode="External"/><Relationship Id="rId2" Type="http://schemas.openxmlformats.org/officeDocument/2006/relationships/hyperlink" Target="http://biologia-jct.iespana.es/curtis/niveles/individu.htm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biologia-jct.iespana.es/curtis/niveles/poblacio.htm" TargetMode="External"/><Relationship Id="rId2" Type="http://schemas.openxmlformats.org/officeDocument/2006/relationships/hyperlink" Target="http://biologia-jct.iespana.es/curtis/niveles/poblacio.htm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767960"/>
            <a:ext cx="828036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1d1df"/>
                </a:solidFill>
                <a:latin typeface="Tahoma"/>
              </a:rPr>
              <a:t>La organización y estructura de los seres vivos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1. Los niveles de organización de la materia v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Por ejemplo </a:t>
            </a:r>
            <a:r>
              <a:rPr b="1" lang="es-ES_tradnl" sz="2000" spc="-1" strike="noStrike">
                <a:solidFill>
                  <a:srgbClr val="ffcc99"/>
                </a:solidFill>
                <a:latin typeface="Comic Sans MS"/>
              </a:rPr>
              <a:t>LOS VIRUS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son complejos supramoleculares ya que están constituidos por dos tipos de macromolécul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AS PROTEÍNAS (que forman la cápsul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OS ÁCIDOS NUCLEICOS  puede ser  ADN O AR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6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L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os complejos supramoleculares pueden estar asociados formand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ESTRUCTURAS SUBCELULARES U ORGÁNULOS CELULA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(LISOSOMAS, RETÍCULO ENDOPLÁSMICO, MITOCONDRIAS, ..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CELULAR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ONSIDERA TODAS LAS CÉLUL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as células son la parte mas pequeña de la  materia viva que puede existir libre en el medio ambient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A veces las células se asocian formando </a:t>
            </a: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colonia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, para lograr una mayor adaptación al med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xisten dos tipos de células: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PROCARIOTAS Y EUCARIO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4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228240"/>
            <a:ext cx="84960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2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PLURICELULAR (= ORGÁNICO) 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Abarca todas las agrupaciones que están formados por más de un tipo celular.  Se pueden distinguir varios grados de complejidad o subnivel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13840">
              <a:lnSpc>
                <a:spcPct val="14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EJIDOS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conjunto de células que tienen la misma función y tienen el mismo origen embriológico.  Ejemplo tejido muscul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13840">
              <a:lnSpc>
                <a:spcPct val="16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ÓRGANO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: formados por diversos tejidos que actúan conjuntamente. Ejemplo coraz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13840">
              <a:lnSpc>
                <a:spcPct val="14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SISTEMA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: son el conjunto de órganos similares que realizan la misma función y están formados por un mismo tipo de tejido. Ejemplo sistema muscu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13840">
              <a:lnSpc>
                <a:spcPct val="14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APARATOS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:  son un conjunto de órganos que pueden ser muy diferentes entre si, pero que sus funciones están estrechamente coordinadas.  Ejemplo  aparato diges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2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 INDIVIDUO: 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formado por varios aparatos y sistemas. Por ejemplo una planta o un anim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12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POBLACION: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en este se consideran todos los organismos que pertenecen a la misma especie que viven en un mismo lugar, al mismo tiempo. Por ejemplo la población de conejos de la zona central de Ch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12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COMUNIDAD O BIOCENOSIS: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está formada por un conjunto de poblaciones distintas que comparten un mismo espacio y entre las que se establecen relaciones. Por ejemplo todos los animales de un bos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ECOSISTEMA: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 en el se incluyen tanto el conjunto de poblaciones que viven interrelacionada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</a:t>
            </a: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biocenosi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como el lugar donde se encuentran viviendo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</a:t>
            </a: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biotop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99"/>
                </a:solidFill>
                <a:latin typeface="Comic Sans MS"/>
              </a:rPr>
              <a:t>NIVEL ECOSFERA: 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rresponde al conjunto de ecosistemas marinos y terrestres que integran toda la superficie del plane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átomos son las partículas más pequeñas de un elemento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– una sustancia que no puede ser desintegrada en otra sustancia por medios químicos ordinarios –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os átomos están constituidos por partículas subatómicas. La búsqueda de partículas subatómicas es objeto de investigación permanente, lo que lleva a realizar otros nuevos descubrimientos que originan nuevas hipótesis, en un sinfín de preguntas y respuest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Los átom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04640"/>
            <a:ext cx="7632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moléculas están constituidas por átom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s moléculas son los componentes fundamentales de las célula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xisten moléculas orgánicas e inorgánicas. En los seres vivos se encuentran una gran variedad de moléculas de estructura y función divers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Las molécul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04640"/>
            <a:ext cx="4321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estructuras complejas macromoleculares están formadas por distintas macromoléculas. </a:t>
            </a:r>
            <a:r>
              <a:rPr b="0" lang="es-ES" sz="28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s macromoléculas cumplen funciones esenciales en la célula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. Algunas son componentes estructurales, otras cumplen funciones reguladoras y otras actúan como directoras de toda la actividad cel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macromoléculas pueden estar constituidas por moléculas semejantes o diferentes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Las macromolécul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4824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s macromoléculas constituyen estructuras complejas tales como las membranas y los orgánulos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Algunas estructuras están presentes tanto en procariotas como en eucariotas, pero difieren en ambos tipos de organism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Los complejos de macromolécul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68403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55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Las células contienen numerosos complejos macromolecular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55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 célula es la unidad estructural y funcional d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ffcc99"/>
                </a:solidFill>
                <a:uFillTx/>
                <a:latin typeface="Comic Sans MS"/>
                <a:hlinkClick r:id="rId2"/>
              </a:rPr>
              <a:t> los seres vivos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55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Muchos organismos son unicelulares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55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Nadie sabe con exactitud cuándo o cómo comenzó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la existencia de este nuevo nivel de organización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00"/>
                </a:solidFill>
                <a:latin typeface="Comic Sans MS"/>
              </a:rPr>
              <a:t>la célula viva.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Sin embargo, cada vez son más l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evidencias en favor de la hipótesis que postula qu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Comic Sans MS"/>
              </a:rPr>
              <a:t>las células vivas se autoensamblaron espontáneamente a partir de moléculas más sim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Las célula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404640"/>
            <a:ext cx="43196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a materia se encuentra organizada en diferentes estructuras, desde las más pequeñas hasta las más grandes, desde las más complejas hasta las más simpl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Esta organización determina niveles que facilitan la comprensión de nuestro objeto de estudi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la vi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Cada nivel de organización incluye a los niveles inferiores y constituye, a su vez, los niveles superiores. Y lo que es más importante, cada nivel se caracteriza por poseer propiedades que emergen en ese nivel y no existen en el anteri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as </a:t>
            </a:r>
            <a:r>
              <a:rPr b="1" lang="es-ES" sz="2400" spc="-1" strike="noStrike">
                <a:solidFill>
                  <a:srgbClr val="ffcc99"/>
                </a:solidFill>
                <a:latin typeface="Comic Sans MS"/>
              </a:rPr>
              <a:t>propiedades emergentes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tejidos están formados por célu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3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tejidos se encuentran unidos estructuralmente y funcionan de manera coordinada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Algunos organismos sólo alcanzan el nivel de organización de tej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Los tejid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5616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órganos están formados por distintos tipos de tej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órganos tienen una estructura tal que les permite realizar diversas funciones en forma integrada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Estas funciones contribuyen al funcionamiento del sistema y del organismo comple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Los órgan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4103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Los sistemas de órganos están constituidos por órganos particulares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sistemas de órganos trabajan en forma integrada y desempeñan una función particular</a:t>
            </a: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Los sistemas de órganos, en conjunto,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forman el organismo completo,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que interactúa con el ambiente externo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Sin embargo, no todos los organismos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multicelulares alcanzan el nivel de organización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Comic Sans MS"/>
              </a:rPr>
              <a:t>de sistemas de órganos o de órgan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Los sistemas de órgan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04640"/>
            <a:ext cx="46087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individuos multicelulares están formados por sistemas de órgan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os individuos multicelulares pueden alcanzar el nivel de organización de tejidos, de órganos o de sistemas de órganos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En cada caso, están formados por grupos de estructuras que trabajan en forma coordin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Los individu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33360"/>
            <a:ext cx="4248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poblaciones están formadas por individu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cc99"/>
                </a:solidFill>
                <a:uFillTx/>
                <a:latin typeface="Comic Sans MS"/>
                <a:hlinkClick r:id="rId1"/>
              </a:rPr>
              <a:t>Las poblaciones son grupos de organismos de la misma especie que se cruzan entre sí y que conviven en el espacio y en el tiempo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l conocimiento de la dinámica 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oblaciones es esencial para los estudi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 las diversas interacciones ent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grupos de organis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Las poblacion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76280"/>
            <a:ext cx="4248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comunidades están formadas por poblacio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s comunidades están constituidas por los componentes bióticos de un ecosistem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n términos ecológicos, las comunidades incluyen a todas las poblaciones que habitan un ambiente común y que interactúan entre sí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stas interacciones son las fuerzas principales de la selección na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Las comunidades"/>
          <p:cNvPicPr/>
          <p:nvPr/>
        </p:nvPicPr>
        <p:blipFill>
          <a:blip r:embed="rId1"/>
          <a:stretch/>
        </p:blipFill>
        <p:spPr>
          <a:xfrm>
            <a:off x="684360" y="260280"/>
            <a:ext cx="374328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2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2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ecosistemas están formados por comunidad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ecosistemas están formados por componentes bióticos y abióticos que interactúan entre s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 través de esos componentes fluy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energía proveniente del Sol y circul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materi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ntro de un ecosistema h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niveles tróf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Los ecosistemas"/>
          <p:cNvPicPr/>
          <p:nvPr/>
        </p:nvPicPr>
        <p:blipFill>
          <a:blip r:embed="rId1"/>
          <a:stretch/>
        </p:blipFill>
        <p:spPr>
          <a:xfrm>
            <a:off x="395280" y="404640"/>
            <a:ext cx="403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9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4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distintos componentes de cada bioma se encuentran en permanente interacción; analizándolo desde este punto de vista, constituyen un ecosiste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Los biomas son áreas geográficas 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se diferencian por su vegetación característ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Los biomas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4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4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4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4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La superficie de la Tierra se puede dividir en diferentes biomas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Todas las organismos que habitan la Tierra constituyen la biosfera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mic Sans MS"/>
              </a:rPr>
              <a:t>La biosfera es la parte de la Tierra en la que existe vida; es sólo una delgada película de la superficie de nuestro planeta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5" descr="La Biosfera"/>
          <p:cNvPicPr/>
          <p:nvPr/>
        </p:nvPicPr>
        <p:blipFill>
          <a:blip r:embed="rId1"/>
          <a:stretch/>
        </p:blipFill>
        <p:spPr>
          <a:xfrm>
            <a:off x="395280" y="404640"/>
            <a:ext cx="417672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9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4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9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542916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99"/>
                </a:solidFill>
                <a:latin typeface="Comic Sans MS"/>
              </a:rPr>
              <a:t>Niveles de organización</a:t>
            </a:r>
            <a:endParaRPr b="0" lang="en-US" sz="3600" spc="-1" strike="noStrike">
              <a:solidFill>
                <a:srgbClr val="d1d1df"/>
              </a:solidFill>
              <a:latin typeface="Tahoma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719520" y="1689120"/>
            <a:ext cx="5119560" cy="4102200"/>
            <a:chOff x="3719520" y="1689120"/>
            <a:chExt cx="5119560" cy="4102200"/>
          </a:xfrm>
        </p:grpSpPr>
        <p:pic>
          <p:nvPicPr>
            <p:cNvPr id="171" name="Picture 4" descr=""/>
            <p:cNvPicPr/>
            <p:nvPr/>
          </p:nvPicPr>
          <p:blipFill>
            <a:blip r:embed="rId1"/>
            <a:stretch/>
          </p:blipFill>
          <p:spPr>
            <a:xfrm>
              <a:off x="3719520" y="1689120"/>
              <a:ext cx="5119560" cy="4102200"/>
            </a:xfrm>
            <a:prstGeom prst="rect">
              <a:avLst/>
            </a:prstGeom>
            <a:ln w="76320">
              <a:solidFill>
                <a:srgbClr val="5e5e8e"/>
              </a:solidFill>
              <a:miter/>
            </a:ln>
          </p:spPr>
        </p:pic>
        <p:sp>
          <p:nvSpPr>
            <p:cNvPr id="172" name="Rectangle 5"/>
            <p:cNvSpPr/>
            <p:nvPr/>
          </p:nvSpPr>
          <p:spPr>
            <a:xfrm>
              <a:off x="4545720" y="3630600"/>
              <a:ext cx="1468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9966"/>
                  </a:solidFill>
                  <a:latin typeface="Arial Narrow"/>
                  <a:ea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4334400" y="3879720"/>
              <a:ext cx="136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cc"/>
                  </a:solidFill>
                  <a:latin typeface="Arial Narrow"/>
                  <a:ea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4767840" y="3889440"/>
              <a:ext cx="13644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cc"/>
                  </a:solidFill>
                  <a:latin typeface="Arial Narrow"/>
                  <a:ea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6068520" y="3447360"/>
              <a:ext cx="40788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ff9966"/>
                  </a:solidFill>
                  <a:latin typeface="Arial Narrow"/>
                  <a:ea typeface="Arial"/>
                </a:rPr>
                <a:t>CH</a:t>
              </a:r>
              <a:r>
                <a:rPr b="1" sz="1200" spc="-1" strike="noStrike" baseline="-25000">
                  <a:solidFill>
                    <a:srgbClr val="ff9966"/>
                  </a:solidFill>
                  <a:latin typeface="Arial Narrow"/>
                  <a:ea typeface="Arial"/>
                </a:rPr>
                <a:t>2</a:t>
              </a:r>
              <a:r>
                <a:rPr b="1" sz="1200" spc="-1" strike="noStrike">
                  <a:solidFill>
                    <a:srgbClr val="ff9966"/>
                  </a:solidFill>
                  <a:latin typeface="Arial Narrow"/>
                  <a:ea typeface="Arial"/>
                </a:rPr>
                <a:t>OH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76" name="Rectangle 9"/>
          <p:cNvSpPr/>
          <p:nvPr/>
        </p:nvSpPr>
        <p:spPr>
          <a:xfrm>
            <a:off x="1255680" y="5229360"/>
            <a:ext cx="1913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Subatómic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990480" y="5543640"/>
            <a:ext cx="749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Electr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822640" y="5543640"/>
            <a:ext cx="718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eutr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4723920" y="5543640"/>
            <a:ext cx="604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Prot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6310440" y="4888080"/>
            <a:ext cx="8845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itróge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5248080" y="4888080"/>
            <a:ext cx="7704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Carbo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4010040" y="4888080"/>
            <a:ext cx="9363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Hidróge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7491960" y="4888080"/>
            <a:ext cx="749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591680" y="4070520"/>
            <a:ext cx="4075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AD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813280" y="4070520"/>
            <a:ext cx="7383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Glucos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383000" y="4070520"/>
            <a:ext cx="468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Agu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7436520" y="3176640"/>
            <a:ext cx="623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úcle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664960" y="3176640"/>
            <a:ext cx="1040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Cloroplast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4090320" y="3176640"/>
            <a:ext cx="1059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Mitocondr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5486400" y="2309760"/>
            <a:ext cx="1402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Célula Nervios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1545840" y="4365720"/>
            <a:ext cx="1337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Atómic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545840" y="3500280"/>
            <a:ext cx="1559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Molecul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1400760" y="2708280"/>
            <a:ext cx="1670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Org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  <a:ea typeface="Arial"/>
              </a:rPr>
              <a:t>á</a:t>
            </a: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n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  <a:ea typeface="Arial"/>
              </a:rPr>
              <a:t>u</a:t>
            </a: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lo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1762560" y="1844640"/>
            <a:ext cx="11329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Celul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500"/>
                            </p:stCondLst>
                            <p:childTnLst>
                              <p:par>
                                <p:cTn id="9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500"/>
                            </p:stCondLst>
                            <p:childTnLst>
                              <p:par>
                                <p:cTn id="9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9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Así, una molécula de agua tiene propiedades diferent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e la suma de las propiedades de sus átomos constitutiv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-hidrógeno y oxígeno-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e la misma manera, una célula cualquiera tiene propiedades diferentes de las de sus moléculas constitutivas, y un organismo multicelular dado tiene propiedades nuevas y diferentes de las de sus células constitutiv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e todas las propiedades emergentes, sin duda, la más maravillosa es la que surge en el nivel de una célula individual, y es nada menos que </a:t>
            </a:r>
            <a:r>
              <a:rPr b="0" lang="es-ES" sz="2000" spc="-1" strike="noStrike">
                <a:solidFill>
                  <a:srgbClr val="ff3300"/>
                </a:solidFill>
                <a:latin typeface="Comic Sans MS"/>
              </a:rPr>
              <a:t>la vida.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interacción entre los componentes de un nivel de organización determina sus propiedad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Así, desde el primer nivel de organización con el cual los biólogos habitualmente se relacionan, el nivel subatómico hasta el nivel de la biosfera, se producen interacciones permanent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Durante un largo espacio de tiempo estas interacciones dieron lugar al cambio evolutiv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n una escala de tiempo más corta, estas interacciones determinan la organización de la materia viv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07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1d1df"/>
                </a:solidFill>
                <a:latin typeface="Tahoma"/>
              </a:rPr>
              <a:t>  </a:t>
            </a:r>
            <a:r>
              <a:rPr b="0" lang="es-ES_tradnl" sz="3600" spc="-1" strike="noStrike">
                <a:solidFill>
                  <a:srgbClr val="ffcc99"/>
                </a:solidFill>
                <a:latin typeface="Comic Sans MS"/>
              </a:rPr>
              <a:t>Niveles de organización</a:t>
            </a:r>
            <a:endParaRPr b="0" lang="en-US" sz="36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492360" y="1989000"/>
            <a:ext cx="5119920" cy="3479760"/>
          </a:xfrm>
          <a:prstGeom prst="rect">
            <a:avLst/>
          </a:prstGeom>
          <a:ln w="76320">
            <a:solidFill>
              <a:srgbClr val="5e5e8e"/>
            </a:solidFill>
            <a:miter/>
          </a:ln>
        </p:spPr>
      </p:pic>
      <p:sp>
        <p:nvSpPr>
          <p:cNvPr id="197" name="Rectangle 4"/>
          <p:cNvSpPr/>
          <p:nvPr/>
        </p:nvSpPr>
        <p:spPr>
          <a:xfrm>
            <a:off x="1760760" y="4797360"/>
            <a:ext cx="9853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Tejid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742920" y="4780080"/>
            <a:ext cx="8010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Tejido </a:t>
            </a:r>
            <a:br>
              <a:rPr sz="1800"/>
            </a:b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ervios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356360" y="4005360"/>
            <a:ext cx="718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Cerebr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925440" y="3066480"/>
            <a:ext cx="8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Sistema</a:t>
            </a:r>
            <a:r>
              <a:rPr b="1" sz="1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Nervios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845240" y="2289240"/>
            <a:ext cx="8326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66"/>
                </a:solidFill>
                <a:latin typeface="Arial Narrow"/>
                <a:ea typeface="Arial"/>
              </a:rPr>
              <a:t>Berrend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1690560" y="3933720"/>
            <a:ext cx="1188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Órgan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68720" y="3068280"/>
            <a:ext cx="28155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6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Sistema de Órgano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184760" y="2205000"/>
            <a:ext cx="1764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 Narrow"/>
                <a:ea typeface="Arial"/>
              </a:rPr>
              <a:t>Organism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d1d1df"/>
                </a:solidFill>
                <a:latin typeface="Comic Sans MS"/>
              </a:rPr>
              <a:t>  </a:t>
            </a:r>
            <a:r>
              <a:rPr b="0" lang="es-ES_tradnl" sz="3600" spc="-1" strike="noStrike">
                <a:solidFill>
                  <a:srgbClr val="ffcc99"/>
                </a:solidFill>
                <a:latin typeface="Comic Sans MS"/>
              </a:rPr>
              <a:t>Niveles de organización</a:t>
            </a:r>
            <a:endParaRPr b="0" lang="en-US" sz="36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5995800" cy="4267440"/>
          </a:xfrm>
          <a:prstGeom prst="rect">
            <a:avLst/>
          </a:prstGeom>
          <a:ln w="76320">
            <a:solidFill>
              <a:srgbClr val="5e5e8e"/>
            </a:solidFill>
            <a:miter/>
          </a:ln>
        </p:spPr>
      </p:pic>
      <p:sp>
        <p:nvSpPr>
          <p:cNvPr id="207" name="Rectangle 4"/>
          <p:cNvSpPr/>
          <p:nvPr/>
        </p:nvSpPr>
        <p:spPr>
          <a:xfrm>
            <a:off x="1042920" y="5085000"/>
            <a:ext cx="139212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Població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827520" y="5640480"/>
            <a:ext cx="19224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Rebaño de berrendo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006160" y="3908520"/>
            <a:ext cx="623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Halc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618000" y="3332160"/>
            <a:ext cx="468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Agu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071600" y="1850400"/>
            <a:ext cx="99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Superficie</a:t>
            </a:r>
            <a:r>
              <a:rPr b="1" sz="1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de la Tierr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899280" y="4077000"/>
            <a:ext cx="16038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Comunida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900720" y="3069000"/>
            <a:ext cx="161784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Ecosistem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116000" y="1989360"/>
            <a:ext cx="116496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Narrow"/>
                <a:ea typeface="Arial"/>
              </a:rPr>
              <a:t>Biósfer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6758640" y="4422600"/>
            <a:ext cx="9363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Berrendo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4321800" y="3340080"/>
            <a:ext cx="623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Halcó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5490360" y="3373560"/>
            <a:ext cx="509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Past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7124040" y="3017880"/>
            <a:ext cx="9363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Berrendo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4890960" y="295596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Serpien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3133800" y="3036960"/>
            <a:ext cx="8222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Arbusto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8443080" y="2940120"/>
            <a:ext cx="509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Suel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6345360" y="2695680"/>
            <a:ext cx="365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Ai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4322520" y="442764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cc"/>
                </a:solidFill>
                <a:latin typeface="Arial Narrow"/>
                <a:ea typeface="Arial"/>
              </a:rPr>
              <a:t>Serpien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785880" y="0"/>
            <a:ext cx="5081400" cy="681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43600" y="2742840"/>
            <a:ext cx="31240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  </a:t>
            </a:r>
            <a:r>
              <a:rPr b="0" lang="es-ES_tradnl" sz="3200" spc="-1" strike="noStrike">
                <a:solidFill>
                  <a:srgbClr val="ffcc99"/>
                </a:solidFill>
                <a:latin typeface="Comic Sans MS"/>
              </a:rPr>
              <a:t>Niveles de organización</a:t>
            </a:r>
            <a:endParaRPr b="0" lang="en-US" sz="32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46784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99"/>
                </a:solidFill>
                <a:latin typeface="Comic Sans MS"/>
              </a:rPr>
              <a:t>Propiedades</a:t>
            </a:r>
            <a:r>
              <a:rPr b="0" lang="es-ES_tradnl" sz="4400" spc="-1" strike="noStrike">
                <a:solidFill>
                  <a:srgbClr val="ffcc99"/>
                </a:solidFill>
                <a:latin typeface="Tahoma"/>
              </a:rPr>
              <a:t> emergentes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013280"/>
        </p:xfrm>
        <a:graphic>
          <a:graphicData uri="http://schemas.openxmlformats.org/drawingml/2006/table">
            <a:tbl>
              <a:tblPr/>
              <a:tblGrid>
                <a:gridCol w="2890800"/>
                <a:gridCol w="533880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Nive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Propiedades emergent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   </a:t>
                      </a: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Célul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ccccff"/>
                          </a:solidFill>
                          <a:latin typeface="Tahoma"/>
                        </a:rPr>
                        <a:t>Síntesis de macromoléculas, división nuclear (mitosis y meiosis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   </a:t>
                      </a: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Organism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ccccff"/>
                          </a:solidFill>
                          <a:latin typeface="Tahoma"/>
                        </a:rPr>
                        <a:t>Estructura, función y coordinación de tejidos, órganos y sistema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   </a:t>
                      </a:r>
                      <a:r>
                        <a:rPr b="0" lang="es-ES_tradnl" sz="22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Població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ccccff"/>
                          </a:solidFill>
                          <a:latin typeface="Tahoma"/>
                        </a:rPr>
                        <a:t>Estructuras sociales, sistemas de emparejamiento, distribución por edade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cc99"/>
                </a:solidFill>
                <a:uFillTx/>
                <a:latin typeface="Comic Sans MS"/>
                <a:hlinkClick r:id="rId1" action="ppaction://hlinksldjump"/>
              </a:rPr>
              <a:t>NIVELES</a:t>
            </a:r>
            <a:r>
              <a:rPr b="1" lang="es-ES_tradnl" sz="2600" spc="-1" strike="noStrike" u="sng">
                <a:solidFill>
                  <a:srgbClr val="ffcc99"/>
                </a:solidFill>
                <a:uFillTx/>
                <a:latin typeface="Comic Sans MS"/>
              </a:rPr>
              <a:t> DE ORGANIZACIÓN DE LA MATERIA</a:t>
            </a:r>
            <a:endParaRPr b="0" lang="en-US" sz="26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scritos por Noedhan científico holandés en 19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ES ABIÓTICOS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sin vida prop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SUBATÓM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ATÓM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MOLECUL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MACROMOLECULAR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ES BIÓTICOS: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 v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CELUL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ORGÁN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POBL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CO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cc99"/>
                </a:solidFill>
                <a:latin typeface="Comic Sans MS"/>
              </a:rPr>
              <a:t>Características de los diferentes niveles de organización</a:t>
            </a:r>
            <a:endParaRPr b="0" lang="en-US" sz="22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  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SUBATÓMICO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ot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Neutron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Electr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ATÓM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algn="ctr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Formado por los ÁTOMOS que son la parte más pequeña que puede intervenir en una reacción quím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MOLECULAR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>
              <a:lnSpc>
                <a:spcPct val="90000"/>
              </a:lnSpc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OLÉCULAS: agrupación de dos o más átomo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66440" indent="-217080" algn="ctr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as moléculas que están presentes en la materia viva se las denomina </a:t>
            </a:r>
            <a:r>
              <a:rPr b="1" lang="es-ES_tradnl" sz="2000" spc="-1" strike="noStrike">
                <a:solidFill>
                  <a:srgbClr val="ffcc99"/>
                </a:solidFill>
                <a:latin typeface="Comic Sans MS"/>
              </a:rPr>
              <a:t>BIOMOLÉCULAS O PRINCIPIOS INMEDIA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atomos"/>
          <p:cNvPicPr/>
          <p:nvPr/>
        </p:nvPicPr>
        <p:blipFill>
          <a:blip r:embed="rId1"/>
          <a:stretch/>
        </p:blipFill>
        <p:spPr>
          <a:xfrm>
            <a:off x="5435640" y="1197000"/>
            <a:ext cx="1828800" cy="1527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molecul2"/>
          <p:cNvPicPr/>
          <p:nvPr/>
        </p:nvPicPr>
        <p:blipFill>
          <a:blip r:embed="rId2"/>
          <a:stretch/>
        </p:blipFill>
        <p:spPr>
          <a:xfrm>
            <a:off x="395280" y="3645000"/>
            <a:ext cx="339552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755640" y="404640"/>
            <a:ext cx="7632720" cy="5976720"/>
            <a:chOff x="755640" y="404640"/>
            <a:chExt cx="7632720" cy="5976720"/>
          </a:xfrm>
        </p:grpSpPr>
        <p:pic>
          <p:nvPicPr>
            <p:cNvPr id="101" name="Picture 3" descr="FG02_03"/>
            <p:cNvPicPr/>
            <p:nvPr/>
          </p:nvPicPr>
          <p:blipFill>
            <a:blip r:embed="rId1"/>
            <a:srcRect l="0" t="12643" r="0" b="11131"/>
            <a:stretch/>
          </p:blipFill>
          <p:spPr>
            <a:xfrm>
              <a:off x="1208880" y="404640"/>
              <a:ext cx="7046640" cy="39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4"/>
            <p:cNvSpPr/>
            <p:nvPr/>
          </p:nvSpPr>
          <p:spPr>
            <a:xfrm>
              <a:off x="1065960" y="5310360"/>
              <a:ext cx="26244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Rectangle 5"/>
            <p:cNvSpPr/>
            <p:nvPr/>
          </p:nvSpPr>
          <p:spPr>
            <a:xfrm>
              <a:off x="6039720" y="5310360"/>
              <a:ext cx="23486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4" name="Group 6"/>
            <p:cNvGrpSpPr/>
            <p:nvPr/>
          </p:nvGrpSpPr>
          <p:grpSpPr>
            <a:xfrm>
              <a:off x="755640" y="417240"/>
              <a:ext cx="2248920" cy="980640"/>
              <a:chOff x="755640" y="417240"/>
              <a:chExt cx="2248920" cy="980640"/>
            </a:xfrm>
          </p:grpSpPr>
          <p:sp>
            <p:nvSpPr>
              <p:cNvPr id="105" name="AutoShape 7"/>
              <p:cNvSpPr/>
              <p:nvPr/>
            </p:nvSpPr>
            <p:spPr>
              <a:xfrm>
                <a:off x="755640" y="417240"/>
                <a:ext cx="2248920" cy="63252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766080" y="480960"/>
                <a:ext cx="2227680" cy="916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Organización Atómica y Molecular</a:t>
                </a: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pic>
          <p:nvPicPr>
            <p:cNvPr id="107" name="Picture 9" descr="FG02_08"/>
            <p:cNvPicPr/>
            <p:nvPr/>
          </p:nvPicPr>
          <p:blipFill>
            <a:blip r:embed="rId2"/>
            <a:srcRect l="10833" t="0" r="12520" b="0"/>
            <a:stretch/>
          </p:blipFill>
          <p:spPr>
            <a:xfrm>
              <a:off x="3604680" y="4255920"/>
              <a:ext cx="2224440" cy="2125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NIVEL MACROMOLECULAR: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son asociaciones de moléculas que dan origen a diferentes polímeros   (</a:t>
            </a:r>
            <a:r>
              <a:rPr b="0" i="1" lang="es-ES_tradnl" sz="2000" spc="-1" strike="noStrike">
                <a:solidFill>
                  <a:srgbClr val="ffffff"/>
                </a:solidFill>
                <a:latin typeface="Comic Sans MS"/>
              </a:rPr>
              <a:t>la unidad que se repite se denomina monóme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ALMIDÓN  (polímero de glucos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OTEÍNAS (polímero de aminoácid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GRASAS (polímeros de ácidos gras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ÁCIDOS NUCLEICOS (polímeros de nucleótido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VARIAS MACROMOLÉCULAS PUEDEN ASOCIARSE PARA DAR ORIGEN A UN </a:t>
            </a:r>
            <a:r>
              <a:rPr b="0" lang="es-ES_tradnl" sz="2000" spc="-1" strike="noStrike">
                <a:solidFill>
                  <a:srgbClr val="ffcc99"/>
                </a:solidFill>
                <a:latin typeface="Comic Sans MS"/>
              </a:rPr>
              <a:t>COMPLEJO SUPRAMOLECU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GLUCOPROTEÍN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LIPOPROTEÍN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GLUCOLÍPI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PROTEOLÍPI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Sucrose_molecule_3d_model"/>
          <p:cNvPicPr/>
          <p:nvPr/>
        </p:nvPicPr>
        <p:blipFill>
          <a:blip r:embed="rId1"/>
          <a:stretch/>
        </p:blipFill>
        <p:spPr>
          <a:xfrm>
            <a:off x="4716360" y="3933720"/>
            <a:ext cx="3848040" cy="26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6462720" y="1636560"/>
            <a:ext cx="647640" cy="3384720"/>
          </a:xfrm>
          <a:prstGeom prst="downArrow">
            <a:avLst>
              <a:gd name="adj1" fmla="val 50000"/>
              <a:gd name="adj2" fmla="val 55238"/>
            </a:avLst>
          </a:prstGeom>
          <a:solidFill>
            <a:srgbClr val="ff0000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17640" y="1204920"/>
            <a:ext cx="2952720" cy="368280"/>
          </a:xfrm>
          <a:prstGeom prst="rect">
            <a:avLst/>
          </a:prstGeom>
          <a:solidFill>
            <a:srgbClr val="ffff99">
              <a:alpha val="9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Moléculas inorgánica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076720" y="1197000"/>
            <a:ext cx="2952720" cy="368280"/>
          </a:xfrm>
          <a:prstGeom prst="rect">
            <a:avLst/>
          </a:prstGeom>
          <a:solidFill>
            <a:srgbClr val="ffff99">
              <a:alpha val="9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Comic Sans MS"/>
              </a:rPr>
              <a:t>Moléculas orgánica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55640" y="2421000"/>
            <a:ext cx="1297080" cy="368280"/>
          </a:xfrm>
          <a:prstGeom prst="rect">
            <a:avLst/>
          </a:prstGeom>
          <a:solidFill>
            <a:srgbClr val="cc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Agu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573280" y="2394000"/>
            <a:ext cx="1440000" cy="642600"/>
          </a:xfrm>
          <a:prstGeom prst="rect">
            <a:avLst/>
          </a:prstGeom>
          <a:solidFill>
            <a:srgbClr val="cc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Sales mineral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5310360" y="1636560"/>
            <a:ext cx="0" cy="259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310360" y="22129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5311800" y="2886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5313240" y="364500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5310360" y="422928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0" name="Group 12"/>
          <p:cNvGrpSpPr/>
          <p:nvPr/>
        </p:nvGrpSpPr>
        <p:grpSpPr>
          <a:xfrm>
            <a:off x="5796000" y="1989000"/>
            <a:ext cx="2233440" cy="2527200"/>
            <a:chOff x="5796000" y="1989000"/>
            <a:chExt cx="2233440" cy="2527200"/>
          </a:xfrm>
        </p:grpSpPr>
        <p:sp>
          <p:nvSpPr>
            <p:cNvPr id="121" name="Text Box 13"/>
            <p:cNvSpPr/>
            <p:nvPr/>
          </p:nvSpPr>
          <p:spPr>
            <a:xfrm>
              <a:off x="5796000" y="2708280"/>
              <a:ext cx="2233440" cy="368280"/>
            </a:xfrm>
            <a:prstGeom prst="rect">
              <a:avLst/>
            </a:prstGeom>
            <a:solidFill>
              <a:srgbClr val="ccfff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Lípido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Text Box 14"/>
            <p:cNvSpPr/>
            <p:nvPr/>
          </p:nvSpPr>
          <p:spPr>
            <a:xfrm>
              <a:off x="5796000" y="1989000"/>
              <a:ext cx="2233440" cy="368280"/>
            </a:xfrm>
            <a:prstGeom prst="rect">
              <a:avLst/>
            </a:prstGeom>
            <a:solidFill>
              <a:srgbClr val="ccfff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Glúcido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5796000" y="4147920"/>
              <a:ext cx="2233440" cy="368280"/>
            </a:xfrm>
            <a:prstGeom prst="rect">
              <a:avLst/>
            </a:prstGeom>
            <a:solidFill>
              <a:srgbClr val="ccfff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Ácidos nucleico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5796000" y="3429000"/>
              <a:ext cx="2233440" cy="368280"/>
            </a:xfrm>
            <a:prstGeom prst="rect">
              <a:avLst/>
            </a:prstGeom>
            <a:solidFill>
              <a:srgbClr val="ccfff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8000"/>
                  </a:solidFill>
                  <a:latin typeface="Arial"/>
                </a:rPr>
                <a:t>Proteína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5" name="Group 17"/>
          <p:cNvGrpSpPr/>
          <p:nvPr/>
        </p:nvGrpSpPr>
        <p:grpSpPr>
          <a:xfrm>
            <a:off x="1204920" y="1636560"/>
            <a:ext cx="1944720" cy="647640"/>
            <a:chOff x="1204920" y="1636560"/>
            <a:chExt cx="1944720" cy="647640"/>
          </a:xfrm>
        </p:grpSpPr>
        <p:sp>
          <p:nvSpPr>
            <p:cNvPr id="126" name="Line 18"/>
            <p:cNvSpPr/>
            <p:nvPr/>
          </p:nvSpPr>
          <p:spPr>
            <a:xfrm>
              <a:off x="1204920" y="1996920"/>
              <a:ext cx="1944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2141640" y="1636560"/>
              <a:ext cx="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3149640" y="1996920"/>
              <a:ext cx="0" cy="28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" name="Line 21"/>
            <p:cNvSpPr/>
            <p:nvPr/>
          </p:nvSpPr>
          <p:spPr>
            <a:xfrm>
              <a:off x="1204920" y="1996920"/>
              <a:ext cx="0" cy="28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0" name="Text Box 22"/>
          <p:cNvSpPr/>
          <p:nvPr/>
        </p:nvSpPr>
        <p:spPr>
          <a:xfrm>
            <a:off x="5310360" y="5176800"/>
            <a:ext cx="2950920" cy="337320"/>
          </a:xfrm>
          <a:prstGeom prst="rect">
            <a:avLst/>
          </a:prstGeom>
          <a:solidFill>
            <a:srgbClr val="ecebb2">
              <a:alpha val="6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Compuestas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por </a:t>
            </a:r>
            <a:r>
              <a:rPr b="1" lang="es-ES_tradnl" sz="1600" spc="-1" strike="noStrike">
                <a:solidFill>
                  <a:srgbClr val="ff3300"/>
                </a:solidFill>
                <a:latin typeface="Comic Sans MS"/>
              </a:rPr>
              <a:t>carbon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1" name="Object 23"/>
          <p:cNvGraphicFramePr/>
          <p:nvPr/>
        </p:nvGraphicFramePr>
        <p:xfrm>
          <a:off x="611280" y="3789360"/>
          <a:ext cx="35146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89360"/>
                    <a:ext cx="3514680" cy="2314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3" name="AutoShape 24"/>
          <p:cNvSpPr/>
          <p:nvPr/>
        </p:nvSpPr>
        <p:spPr>
          <a:xfrm rot="10800000">
            <a:off x="4157280" y="5067360"/>
            <a:ext cx="1081080" cy="574560"/>
          </a:xfrm>
          <a:custGeom>
            <a:avLst/>
            <a:gdLst>
              <a:gd name="textAreaLeft" fmla="*/ 135000 w 1081080"/>
              <a:gd name="textAreaRight" fmla="*/ 946080 w 108108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Oval 25"/>
          <p:cNvSpPr/>
          <p:nvPr/>
        </p:nvSpPr>
        <p:spPr>
          <a:xfrm>
            <a:off x="2050920" y="3860640"/>
            <a:ext cx="765360" cy="720720"/>
          </a:xfrm>
          <a:prstGeom prst="ellipse">
            <a:avLst/>
          </a:prstGeom>
          <a:noFill/>
          <a:ln w="76320">
            <a:solidFill>
              <a:srgbClr val="ff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965160" y="147600"/>
            <a:ext cx="7416720" cy="45972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Bases </a:t>
            </a: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químicas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de la vid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08:53Z</dcterms:created>
  <dc:creator>MOZO</dc:creator>
  <dc:description/>
  <dc:language>en-US</dc:language>
  <cp:lastModifiedBy>Lola</cp:lastModifiedBy>
  <dcterms:modified xsi:type="dcterms:W3CDTF">2013-02-18T18:44:36Z</dcterms:modified>
  <cp:revision>27</cp:revision>
  <dc:subject/>
  <dc:title>Diapositiva 1</dc:title>
</cp:coreProperties>
</file>