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DA1-F282-452A-B5F9-CE69FC22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AAA-6F57-4BA2-9D51-4B319968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B3F-272F-4687-9AAC-0445C80D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0FC-30BC-4542-A1B3-A98461A2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1FA3-2DB4-4B77-A281-C6F9AEA2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6E99-DD74-4CB0-87CC-9A577021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C720-547A-4747-BEE5-029C3AA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8275-CC68-4E73-ABE4-4D33213E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B7D8-BAF5-416C-A16A-976C2E34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0F71-5321-472E-811A-337D4AA2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E835-D5A1-4F89-B585-2969FE9A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0F1-F8A1-424D-8784-1DBD8E94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C4C3-11BE-479C-8715-8E95BC9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C5D7-A3E7-42D2-88C3-54509A7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45C8-48D8-4D2B-BB9D-18C78C78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BC14-4A76-4C24-AB33-B13BFFAD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AF73-82DE-4C06-A255-9524C936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515-7514-4594-AF59-39AC053A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257-34D9-49A0-AEA3-0C3DDDD0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67A-0897-456A-8D97-42395A5C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235-B779-4D94-9CD8-C6AA086F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871-4A1F-4FC7-B2E8-5EE71D2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6C8-0A48-43CD-8BDF-AA38405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A95-1DCC-422F-8788-8FCFA90D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E7A1-307E-4AD4-AB98-1867F2B6B300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3345-6B46-4D45-8901-B889880645E3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atomos.htm" TargetMode="External"/><Relationship Id="rId2" Type="http://schemas.openxmlformats.org/officeDocument/2006/relationships/hyperlink" Target="http://biologia-jct.iespana.es/curtis/niveles/atomos.ht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molecula.htm" TargetMode="External"/><Relationship Id="rId2" Type="http://schemas.openxmlformats.org/officeDocument/2006/relationships/hyperlink" Target="http://biologia-jct.iespana.es/curtis/niveles/molecula.htm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macromol.htm" TargetMode="External"/><Relationship Id="rId2" Type="http://schemas.openxmlformats.org/officeDocument/2006/relationships/hyperlink" Target="http://biologia-jct.iespana.es/curtis/niveles/macromol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complmac.htm" TargetMode="External"/><Relationship Id="rId2" Type="http://schemas.openxmlformats.org/officeDocument/2006/relationships/hyperlink" Target="http://biologia-jct.iespana.es/curtis/niveles/complmac.htm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celulas.htm" TargetMode="External"/><Relationship Id="rId2" Type="http://schemas.openxmlformats.org/officeDocument/2006/relationships/hyperlink" Target="http://biologia-jct.iespana.es/curtis/niveles/celulas.htm" TargetMode="External"/><Relationship Id="rId3" Type="http://schemas.openxmlformats.org/officeDocument/2006/relationships/hyperlink" Target="http://biologia-jct.iespana.es/curtis/niveles/celulas.htm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tejidos.htm" TargetMode="External"/><Relationship Id="rId2" Type="http://schemas.openxmlformats.org/officeDocument/2006/relationships/hyperlink" Target="http://biologia-jct.iespana.es/curtis/niveles/tejidos.htm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organos.htm" TargetMode="External"/><Relationship Id="rId2" Type="http://schemas.openxmlformats.org/officeDocument/2006/relationships/hyperlink" Target="http://biologia-jct.iespana.es/curtis/niveles/organos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sistdeor.htm" TargetMode="External"/><Relationship Id="rId2" Type="http://schemas.openxmlformats.org/officeDocument/2006/relationships/hyperlink" Target="http://biologia-jct.iespana.es/curtis/niveles/sistdeor.htm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individu.htm" TargetMode="External"/><Relationship Id="rId2" Type="http://schemas.openxmlformats.org/officeDocument/2006/relationships/hyperlink" Target="http://biologia-jct.iespana.es/curtis/niveles/individu.htm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poblacio.htm" TargetMode="External"/><Relationship Id="rId2" Type="http://schemas.openxmlformats.org/officeDocument/2006/relationships/hyperlink" Target="http://biologia-jct.iespana.es/curtis/niveles/poblacio.htm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767960"/>
            <a:ext cx="8280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d1df"/>
                </a:solidFill>
                <a:latin typeface="Tahoma"/>
              </a:rPr>
              <a:t>La organización y estructura de los seres vivo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 Los niveles de organización de la materia v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Por ejemplo </a:t>
            </a:r>
            <a:r>
              <a:rPr b="1" lang="es-ES_tradnl" sz="2000" spc="-1" strike="noStrike">
                <a:solidFill>
                  <a:srgbClr val="ffcc99"/>
                </a:solidFill>
                <a:latin typeface="Comic Sans MS"/>
              </a:rPr>
              <a:t>LOS VIRUS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son complejos supramoleculares ya que están constituidos por dos tipos de macromolécul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PROTEÍNAS (que forman la cápsul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OS ÁCIDOS NUCLEICOS  puede ser  ADN O AR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6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L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os complejos supramoleculares pueden estar asociados formand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ESTRUCTURAS SUBCELULARES U ORGÁNULOS CELUL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LISOSOMAS, RETÍCULO ENDOPLÁSMICO, MITOCONDRIAS, .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CELULAR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NSIDERA TODAS LAS CÉLUL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células son la parte mas pequeña de la  materia viva que puede existir libre en el medio ambient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 veces las células se asocian formando 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olonia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, para lograr una mayor adaptación al med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xisten dos tipos de células: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PROCARIOTAS Y EUCARIO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228240"/>
            <a:ext cx="84960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2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PLURICELULAR (= ORGÁNICO) 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Abarca todas las agrupaciones que están formados por más de un tipo celular.  Se pueden distinguir varios grados de complejidad o subnivel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4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EJIDOS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conjunto de células que tienen la misma función y tienen el mismo origen embriológico.  Ejemplo tejido muscu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6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ÓRGANO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formados por diversos tejidos que actúan conjuntamente. Ejemplo coraz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4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SISTEMA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son el conjunto de órganos similares que realizan la misma función y están formados por un mismo tipo de tejido. Ejemplo sistema muscu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4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APARATO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 son un conjunto de órganos que pueden ser muy diferentes entre si, pero que sus funciones están estrechamente coordinadas.  Ejemplo  aparato diges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2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 INDIVIDUO: 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formado por varios aparatos y sistemas. Por ejemplo una planta o un anim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12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POBLACION: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en este se consideran todos los organismos que pertenecen a la misma especie que viven en un mismo lugar, al mismo tiempo. Por ejemplo la población de conejos de la zona central de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12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COMUNIDAD O BIOCENOSIS: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está formada por un conjunto de poblaciones distintas que comparten un mismo espacio y entre las que se establecen relaciones. Por ejemplo todos los animales de un bos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ECOSISTEMA: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en el se incluyen tanto el conjunto de poblaciones que viven interrelacionada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biocenosi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como el lugar donde se encuentran viviendo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biotop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ECOSFERA: 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rresponde al conjunto de ecosistemas marinos y terrestres que integran toda la superficie del plan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átomos son las partículas más pequeñas de un elemento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– una sustancia que no puede ser desintegrada en otra sustancia por medios químicos ordinarios –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os átomos están constituidos por partículas subatómicas. La búsqueda de partículas subatómicas es objeto de investigación permanente, lo que lleva a realizar otros nuevos descubrimientos que originan nuevas hipótesis, en un sinfín de preguntas y respues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Los átom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4640"/>
            <a:ext cx="7632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moléculas están constituidas por átom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moléculas son los componentes fundamentales de las célula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xisten moléculas orgánicas e inorgánicas. En los seres vivos se encuentran una gran variedad de moléculas de estructura y función divers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Las molécu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04640"/>
            <a:ext cx="4321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estructuras complejas macromoleculares están formadas por distintas macromoléculas. </a:t>
            </a:r>
            <a:r>
              <a:rPr b="0" lang="es-ES" sz="28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macromoléculas cumplen funciones esenciales en la célul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. Algunas son componentes estructurales, otras cumplen funciones reguladoras y otras actúan como directoras de toda la actividad cel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macromoléculas pueden estar constituidas por moléculas semejantes o diferentes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Las macromolécu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482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macromoléculas constituyen estructuras complejas tales como las membranas y los orgánulos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Algunas estructuras están presentes tanto en procariotas como en eucariotas, pero difieren en ambos tipos de organism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Los complejos de macromolécu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68403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as células contienen numerosos complejos macromolecular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 célula es la unidad estructural y funcional d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cc99"/>
                </a:solidFill>
                <a:uFillTx/>
                <a:latin typeface="Comic Sans MS"/>
                <a:hlinkClick r:id="rId2"/>
              </a:rPr>
              <a:t> los seres vivos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Muchos organismos son unicelulare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Nadie sabe con exactitud cuándo o cómo comenzó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a existencia de este nuevo nivel de organización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Comic Sans MS"/>
              </a:rPr>
              <a:t>la célula viva.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Sin embargo, cada vez son más l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evidencias en favor de la hipótesis que postula qu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as células vivas se autoensamblaron espontáneamente a partir de moléculas más sim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Las célul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04640"/>
            <a:ext cx="43196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 materia se encuentra organizada en diferentes estructuras, desde las más pequeñas hasta las más grandes, desde las más complejas hasta las más simp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sta organización determina niveles que facilitan la comprensión de nuestro objeto de estudi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la v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Cada nivel de organización incluye a los niveles inferiores y constituye, a su vez, los niveles superiores. Y lo que es más importante, cada nivel se caracteriza por poseer propiedades que emergen en ese nivel y no existen en el anteri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s </a:t>
            </a:r>
            <a:r>
              <a:rPr b="1" lang="es-ES" sz="2400" spc="-1" strike="noStrike">
                <a:solidFill>
                  <a:srgbClr val="ffcc99"/>
                </a:solidFill>
                <a:latin typeface="Comic Sans MS"/>
              </a:rPr>
              <a:t>propiedades emergentes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tejidos están formados por célu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tejidos se encuentran unidos estructuralmente y funcionan de manera coordinada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Algunos organismos sólo alcanzan el nivel de organización de tej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Los tejid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5616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órganos están formados por distintos tipos de tej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órganos tienen una estructura tal que les permite realizar diversas funciones en forma integrada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stas funciones contribuyen al funcionamiento del sistema y del organismo comple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Los órgan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4103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Los sistemas de órganos están constituidos por órganos particulares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sistemas de órganos trabajan en forma integrada y desempeñan una función particular</a:t>
            </a: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Los sistemas de órganos, en conjunto,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forman el organismo completo,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que interactúa con el ambiente extern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Sin embargo, no todos los organismos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multicelulares alcanzan el nivel de organización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de sistemas de órganos o de órgan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Los sistemas de órgan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4640"/>
            <a:ext cx="46087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individuos multicelulares están formados por sistemas de órgan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individuos multicelulares pueden alcanzar el nivel de organización de tejidos, de órganos o de sistemas de órganos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n cada caso, están formados por grupos de estructuras que trabajan en forma coordin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Los individu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33360"/>
            <a:ext cx="424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poblaciones están formadas por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poblaciones son grupos de organismos de la misma especie que se cruzan entre sí y que conviven en el espacio y en el tiempo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l conocimiento de la dinámica 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oblaciones es esencial para los estudi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las diversas interacciones ent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grupos de organ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Las poblacion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4248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comunidades están formadas por poblacio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comunidades están constituidas por los componentes bióticos de un ecosistem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n términos ecológicos, las comunidades incluyen a todas las poblaciones que habitan un ambiente común y que interactúan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tas interacciones son las fuerzas principales de la selección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Las comunidades"/>
          <p:cNvPicPr/>
          <p:nvPr/>
        </p:nvPicPr>
        <p:blipFill>
          <a:blip r:embed="rId1"/>
          <a:stretch/>
        </p:blipFill>
        <p:spPr>
          <a:xfrm>
            <a:off x="684360" y="260280"/>
            <a:ext cx="374328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7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ecosistemas están formados por comun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ecosistemas están formados por componentes bióticos y abióticos que interactúan entre s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 través de esos componentes fluy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energía proveniente del Sol y circul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materi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ntro de un ecosistema h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iveles tróf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Los ecosistemas"/>
          <p:cNvPicPr/>
          <p:nvPr/>
        </p:nvPicPr>
        <p:blipFill>
          <a:blip r:embed="rId1"/>
          <a:stretch/>
        </p:blipFill>
        <p:spPr>
          <a:xfrm>
            <a:off x="395280" y="404640"/>
            <a:ext cx="403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9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4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distintos componentes de cada bioma se encuentran en permanente interacción; analizándolo desde este punto de vista, constituyen un ecosiste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biomas son áreas geográficas 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e diferencian por su vegetación caracterís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Los biomas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4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La superficie de la Tierra se puede dividir en diferentes bioma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Todas las organismos que habitan la Tierra constituyen la biosfera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La biosfera es la parte de la Tierra en la que existe vida; es sólo una delgada película de la superficie de nuestro planeta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La Biosfera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5429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719520" y="1689120"/>
            <a:ext cx="5119560" cy="4102200"/>
            <a:chOff x="3719520" y="1689120"/>
            <a:chExt cx="5119560" cy="4102200"/>
          </a:xfrm>
        </p:grpSpPr>
        <p:pic>
          <p:nvPicPr>
            <p:cNvPr id="171" name="Picture 4" descr=""/>
            <p:cNvPicPr/>
            <p:nvPr/>
          </p:nvPicPr>
          <p:blipFill>
            <a:blip r:embed="rId1"/>
            <a:stretch/>
          </p:blipFill>
          <p:spPr>
            <a:xfrm>
              <a:off x="3719520" y="1689120"/>
              <a:ext cx="5119560" cy="4102200"/>
            </a:xfrm>
            <a:prstGeom prst="rect">
              <a:avLst/>
            </a:prstGeom>
            <a:ln w="76320">
              <a:solidFill>
                <a:srgbClr val="5e5e8e"/>
              </a:solidFill>
              <a:miter/>
            </a:ln>
          </p:spPr>
        </p:pic>
        <p:sp>
          <p:nvSpPr>
            <p:cNvPr id="172" name="Rectangle 5"/>
            <p:cNvSpPr/>
            <p:nvPr/>
          </p:nvSpPr>
          <p:spPr>
            <a:xfrm>
              <a:off x="4545720" y="3630600"/>
              <a:ext cx="1468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9966"/>
                  </a:solidFill>
                  <a:latin typeface="Arial Narrow"/>
                  <a:ea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4334400" y="3879720"/>
              <a:ext cx="136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4767840" y="3889440"/>
              <a:ext cx="136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6068520" y="3447360"/>
              <a:ext cx="40788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ff9966"/>
                  </a:solidFill>
                  <a:latin typeface="Arial Narrow"/>
                  <a:ea typeface="Arial"/>
                </a:rPr>
                <a:t>CH</a:t>
              </a:r>
              <a:r>
                <a:rPr b="1" sz="1200" spc="-1" strike="noStrike" baseline="-25000">
                  <a:solidFill>
                    <a:srgbClr val="ff9966"/>
                  </a:solidFill>
                  <a:latin typeface="Arial Narrow"/>
                  <a:ea typeface="Arial"/>
                </a:rPr>
                <a:t>2</a:t>
              </a:r>
              <a:r>
                <a:rPr b="1" sz="1200" spc="-1" strike="noStrike">
                  <a:solidFill>
                    <a:srgbClr val="ff9966"/>
                  </a:solidFill>
                  <a:latin typeface="Arial Narrow"/>
                  <a:ea typeface="Arial"/>
                </a:rPr>
                <a:t>OH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6" name="Rectangle 9"/>
          <p:cNvSpPr/>
          <p:nvPr/>
        </p:nvSpPr>
        <p:spPr>
          <a:xfrm>
            <a:off x="1255680" y="5229360"/>
            <a:ext cx="1913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Subatóm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990480" y="5543640"/>
            <a:ext cx="749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Electr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822640" y="5543640"/>
            <a:ext cx="718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eutr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723920" y="5543640"/>
            <a:ext cx="604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Prot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310440" y="4888080"/>
            <a:ext cx="8845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itróge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5248080" y="4888080"/>
            <a:ext cx="7704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arbo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4010040" y="4888080"/>
            <a:ext cx="936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Hidróge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7491960" y="4888080"/>
            <a:ext cx="749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591680" y="4070520"/>
            <a:ext cx="4075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AD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813280" y="4070520"/>
            <a:ext cx="738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Gluc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383000" y="4070520"/>
            <a:ext cx="468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7436520" y="3176640"/>
            <a:ext cx="623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úcle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664960" y="3176640"/>
            <a:ext cx="1040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loroplas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4090320" y="3176640"/>
            <a:ext cx="1059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Mitocond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5486400" y="2309760"/>
            <a:ext cx="1402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élula Nervi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1545840" y="4365720"/>
            <a:ext cx="1337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Atóm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545840" y="3500280"/>
            <a:ext cx="1559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Molecul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1400760" y="2708280"/>
            <a:ext cx="1670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Org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á</a:t>
            </a: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n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u</a:t>
            </a: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l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1762560" y="1844640"/>
            <a:ext cx="1132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Celul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500"/>
                            </p:stCondLst>
                            <p:childTnLst>
                              <p:par>
                                <p:cTn id="9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Así, una molécula de agua tiene propiedades diferent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 la suma de las propiedades de sus átomos constitutiv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-hidrógeno y oxígeno-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 la misma manera, una célula cualquiera tiene propiedades diferentes de las de sus moléculas constitutivas, y un organismo multicelular dado tiene propiedades nuevas y diferentes de las de sus células constitutiv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 todas las propiedades emergentes, sin duda, la más maravillosa es la que surge en el nivel de una célula individual, y es nada menos que </a:t>
            </a:r>
            <a:r>
              <a:rPr b="0" lang="es-ES" sz="2000" spc="-1" strike="noStrike">
                <a:solidFill>
                  <a:srgbClr val="ff3300"/>
                </a:solidFill>
                <a:latin typeface="Comic Sans MS"/>
              </a:rPr>
              <a:t>la vida.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interacción entre los componentes de un nivel de organización determina sus propiedad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Así, desde el primer nivel de organización con el cual los biólogos habitualmente se relacionan, el nivel subatómico hasta el nivel de la biosfera, se producen interacciones permanent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urante un largo espacio de tiempo estas interacciones dieron lugar al cambio evolutiv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n una escala de tiempo más corta, estas interacciones determinan la organización de la materia v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07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1d1df"/>
                </a:solidFill>
                <a:latin typeface="Tahoma"/>
              </a:rPr>
              <a:t>  </a:t>
            </a: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5119920" cy="3479760"/>
          </a:xfrm>
          <a:prstGeom prst="rect">
            <a:avLst/>
          </a:prstGeom>
          <a:ln w="76320">
            <a:solidFill>
              <a:srgbClr val="5e5e8e"/>
            </a:solidFill>
            <a:miter/>
          </a:ln>
        </p:spPr>
      </p:pic>
      <p:sp>
        <p:nvSpPr>
          <p:cNvPr id="197" name="Rectangle 4"/>
          <p:cNvSpPr/>
          <p:nvPr/>
        </p:nvSpPr>
        <p:spPr>
          <a:xfrm>
            <a:off x="1760760" y="4797360"/>
            <a:ext cx="9853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Tejid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742920" y="4780080"/>
            <a:ext cx="8010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Tejido </a:t>
            </a:r>
            <a:br>
              <a:rPr sz="1800"/>
            </a:b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ervi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356360" y="4005360"/>
            <a:ext cx="718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erebr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925440" y="306648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Sistema</a:t>
            </a:r>
            <a:r>
              <a:rPr b="1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ervi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845240" y="2289240"/>
            <a:ext cx="8326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Berrend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1690560" y="3933720"/>
            <a:ext cx="1188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Órga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68720" y="3068280"/>
            <a:ext cx="28155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Sistema de Órgano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184760" y="2205000"/>
            <a:ext cx="1764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Organism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d1d1df"/>
                </a:solidFill>
                <a:latin typeface="Comic Sans MS"/>
              </a:rPr>
              <a:t>  </a:t>
            </a: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5995800" cy="4267440"/>
          </a:xfrm>
          <a:prstGeom prst="rect">
            <a:avLst/>
          </a:prstGeom>
          <a:ln w="76320">
            <a:solidFill>
              <a:srgbClr val="5e5e8e"/>
            </a:solidFill>
            <a:miter/>
          </a:ln>
        </p:spPr>
      </p:pic>
      <p:sp>
        <p:nvSpPr>
          <p:cNvPr id="207" name="Rectangle 4"/>
          <p:cNvSpPr/>
          <p:nvPr/>
        </p:nvSpPr>
        <p:spPr>
          <a:xfrm>
            <a:off x="1042920" y="5085000"/>
            <a:ext cx="139212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Pobla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827520" y="5640480"/>
            <a:ext cx="19224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Rebaño de berrend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006160" y="3908520"/>
            <a:ext cx="623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Halc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618000" y="3332160"/>
            <a:ext cx="468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071600" y="1850400"/>
            <a:ext cx="99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uperficie</a:t>
            </a:r>
            <a:r>
              <a:rPr b="1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de la Tierr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899280" y="4077000"/>
            <a:ext cx="16038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Comunida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900720" y="3069000"/>
            <a:ext cx="161784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cosistem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116000" y="1989360"/>
            <a:ext cx="116496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Biósfer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758640" y="4422600"/>
            <a:ext cx="936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Berrend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4321800" y="3340080"/>
            <a:ext cx="623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Halc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5490360" y="3373560"/>
            <a:ext cx="509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Pas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7124040" y="3017880"/>
            <a:ext cx="936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Berrend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4890960" y="295596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erpien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133800" y="3036960"/>
            <a:ext cx="8222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Arbust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8443080" y="2940120"/>
            <a:ext cx="509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uel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6345360" y="2695680"/>
            <a:ext cx="365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Ai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4322520" y="442764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erpien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5081400" cy="681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43600" y="2742840"/>
            <a:ext cx="31240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  </a:t>
            </a: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2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4678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Propiedades</a:t>
            </a:r>
            <a:r>
              <a:rPr b="0" lang="es-ES_tradnl" sz="4400" spc="-1" strike="noStrike">
                <a:solidFill>
                  <a:srgbClr val="ffcc99"/>
                </a:solidFill>
                <a:latin typeface="Tahoma"/>
              </a:rPr>
              <a:t> emergente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01328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Nive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Propiedades emergent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  </a:t>
                      </a: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élul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ccccff"/>
                          </a:solidFill>
                          <a:latin typeface="Tahoma"/>
                        </a:rPr>
                        <a:t>Síntesis de macromoléculas, división nuclear (mitosis y meiosis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  </a:t>
                      </a: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Organis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ccccff"/>
                          </a:solidFill>
                          <a:latin typeface="Tahoma"/>
                        </a:rPr>
                        <a:t>Estructura, función y coordinación de tejidos, órganos y sistema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  </a:t>
                      </a: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Població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ccccff"/>
                          </a:solidFill>
                          <a:latin typeface="Tahoma"/>
                        </a:rPr>
                        <a:t>Estructuras sociales, sistemas de emparejamiento, distribución por edade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cc99"/>
                </a:solidFill>
                <a:uFillTx/>
                <a:latin typeface="Comic Sans MS"/>
                <a:hlinkClick r:id="rId1" action="ppaction://hlinksldjump"/>
              </a:rPr>
              <a:t>NIVELES</a:t>
            </a:r>
            <a:r>
              <a:rPr b="1" lang="es-ES_tradnl" sz="2600" spc="-1" strike="noStrike" u="sng">
                <a:solidFill>
                  <a:srgbClr val="ffcc99"/>
                </a:solidFill>
                <a:uFillTx/>
                <a:latin typeface="Comic Sans MS"/>
              </a:rPr>
              <a:t> DE ORGANIZACIÓN DE LA MATERIA</a:t>
            </a:r>
            <a:endParaRPr b="0" lang="en-US" sz="2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scritos por Noedhan científico holandés en 19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ES ABIÓTICOS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sin vida prop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UBATÓM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ATÓM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MOLECU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MACROMOLECULAR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ES BIÓTICOS: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 v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ELU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ORGÁN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OBL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CO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99"/>
                </a:solidFill>
                <a:latin typeface="Comic Sans MS"/>
              </a:rPr>
              <a:t>Características de los diferentes niveles de organización</a:t>
            </a:r>
            <a:endParaRPr b="0" lang="en-US" sz="2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SUBATÓMICO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Neutron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lectr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ATÓM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algn="ctr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Formado por los ÁTOMOS que son la parte más pequeña que puede intervenir en una reacción quí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MOLECULA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OLÉCULAS: agrupación de dos o más átomo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66440" indent="-217080" algn="ctr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moléculas que están presentes en la materia viva se las denomina </a:t>
            </a:r>
            <a:r>
              <a:rPr b="1" lang="es-ES_tradnl" sz="2000" spc="-1" strike="noStrike">
                <a:solidFill>
                  <a:srgbClr val="ffcc99"/>
                </a:solidFill>
                <a:latin typeface="Comic Sans MS"/>
              </a:rPr>
              <a:t>BIOMOLÉCULAS O PRINCIPIOS INMEDI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atomos"/>
          <p:cNvPicPr/>
          <p:nvPr/>
        </p:nvPicPr>
        <p:blipFill>
          <a:blip r:embed="rId1"/>
          <a:stretch/>
        </p:blipFill>
        <p:spPr>
          <a:xfrm>
            <a:off x="5435640" y="1197000"/>
            <a:ext cx="1828800" cy="1527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olecul2"/>
          <p:cNvPicPr/>
          <p:nvPr/>
        </p:nvPicPr>
        <p:blipFill>
          <a:blip r:embed="rId2"/>
          <a:stretch/>
        </p:blipFill>
        <p:spPr>
          <a:xfrm>
            <a:off x="395280" y="3645000"/>
            <a:ext cx="33955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755640" y="404640"/>
            <a:ext cx="7632720" cy="5976720"/>
            <a:chOff x="755640" y="404640"/>
            <a:chExt cx="7632720" cy="5976720"/>
          </a:xfrm>
        </p:grpSpPr>
        <p:pic>
          <p:nvPicPr>
            <p:cNvPr id="101" name="Picture 3" descr="FG02_03"/>
            <p:cNvPicPr/>
            <p:nvPr/>
          </p:nvPicPr>
          <p:blipFill>
            <a:blip r:embed="rId1"/>
            <a:srcRect l="0" t="12643" r="0" b="11131"/>
            <a:stretch/>
          </p:blipFill>
          <p:spPr>
            <a:xfrm>
              <a:off x="1208880" y="404640"/>
              <a:ext cx="7046640" cy="39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4"/>
            <p:cNvSpPr/>
            <p:nvPr/>
          </p:nvSpPr>
          <p:spPr>
            <a:xfrm>
              <a:off x="1065960" y="5310360"/>
              <a:ext cx="26244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6039720" y="5310360"/>
              <a:ext cx="23486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4" name="Group 6"/>
            <p:cNvGrpSpPr/>
            <p:nvPr/>
          </p:nvGrpSpPr>
          <p:grpSpPr>
            <a:xfrm>
              <a:off x="755640" y="417240"/>
              <a:ext cx="2248920" cy="980640"/>
              <a:chOff x="755640" y="417240"/>
              <a:chExt cx="2248920" cy="980640"/>
            </a:xfrm>
          </p:grpSpPr>
          <p:sp>
            <p:nvSpPr>
              <p:cNvPr id="105" name="AutoShape 7"/>
              <p:cNvSpPr/>
              <p:nvPr/>
            </p:nvSpPr>
            <p:spPr>
              <a:xfrm>
                <a:off x="755640" y="417240"/>
                <a:ext cx="2248920" cy="6325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766080" y="480960"/>
                <a:ext cx="2227680" cy="916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Organización Atómica y Molecular</a:t>
                </a: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pic>
          <p:nvPicPr>
            <p:cNvPr id="107" name="Picture 9" descr="FG02_08"/>
            <p:cNvPicPr/>
            <p:nvPr/>
          </p:nvPicPr>
          <p:blipFill>
            <a:blip r:embed="rId2"/>
            <a:srcRect l="10833" t="0" r="12520" b="0"/>
            <a:stretch/>
          </p:blipFill>
          <p:spPr>
            <a:xfrm>
              <a:off x="3604680" y="4255920"/>
              <a:ext cx="2224440" cy="2125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MACROMOLECULAR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son asociaciones de moléculas que dan origen a diferentes polímeros   (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la unidad que se repite se denomina monóme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LMIDÓN  (polímero de glucos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TEÍNAS (polímero de aminoácid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GRASAS (polímeros de ácidos gras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ÁCIDOS NUCLEICOS (polímeros de nucleótid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VARIAS MACROMOLÉCULAS PUEDEN ASOCIARSE PARA DAR ORIGEN A UN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COMPLEJO SUPRAMOLECU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GLUCOPROTEÍ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IPOPROTEÍ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GLUCOLÍPI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TEOLÍPI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Sucrose_molecule_3d_model"/>
          <p:cNvPicPr/>
          <p:nvPr/>
        </p:nvPicPr>
        <p:blipFill>
          <a:blip r:embed="rId1"/>
          <a:stretch/>
        </p:blipFill>
        <p:spPr>
          <a:xfrm>
            <a:off x="4716360" y="3933720"/>
            <a:ext cx="3848040" cy="26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6462720" y="1636560"/>
            <a:ext cx="647640" cy="3384720"/>
          </a:xfrm>
          <a:prstGeom prst="downArrow">
            <a:avLst>
              <a:gd name="adj1" fmla="val 50000"/>
              <a:gd name="adj2" fmla="val 55238"/>
            </a:avLst>
          </a:prstGeom>
          <a:solidFill>
            <a:srgbClr val="ff0000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7640" y="1204920"/>
            <a:ext cx="2952720" cy="368280"/>
          </a:xfrm>
          <a:prstGeom prst="rect">
            <a:avLst/>
          </a:prstGeom>
          <a:solidFill>
            <a:srgbClr val="ffff99">
              <a:alpha val="9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Moléculas inorgánica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076720" y="1197000"/>
            <a:ext cx="2952720" cy="368280"/>
          </a:xfrm>
          <a:prstGeom prst="rect">
            <a:avLst/>
          </a:prstGeom>
          <a:solidFill>
            <a:srgbClr val="ffff99">
              <a:alpha val="9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Comic Sans MS"/>
              </a:rPr>
              <a:t>Moléculas orgánica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55640" y="2421000"/>
            <a:ext cx="1297080" cy="368280"/>
          </a:xfrm>
          <a:prstGeom prst="rect">
            <a:avLst/>
          </a:prstGeom>
          <a:solidFill>
            <a:srgbClr val="cc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573280" y="2394000"/>
            <a:ext cx="1440000" cy="642600"/>
          </a:xfrm>
          <a:prstGeom prst="rect">
            <a:avLst/>
          </a:prstGeom>
          <a:solidFill>
            <a:srgbClr val="cc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Sales minera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310360" y="1636560"/>
            <a:ext cx="0" cy="259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310360" y="22129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5311800" y="2886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5313240" y="364500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5310360" y="422928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5796000" y="1989000"/>
            <a:ext cx="2233440" cy="2527200"/>
            <a:chOff x="5796000" y="1989000"/>
            <a:chExt cx="2233440" cy="2527200"/>
          </a:xfrm>
        </p:grpSpPr>
        <p:sp>
          <p:nvSpPr>
            <p:cNvPr id="121" name="Text Box 13"/>
            <p:cNvSpPr/>
            <p:nvPr/>
          </p:nvSpPr>
          <p:spPr>
            <a:xfrm>
              <a:off x="5796000" y="270828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Lípido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5796000" y="198900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Glúcido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5796000" y="414792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5796000" y="342900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Proteína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5" name="Group 17"/>
          <p:cNvGrpSpPr/>
          <p:nvPr/>
        </p:nvGrpSpPr>
        <p:grpSpPr>
          <a:xfrm>
            <a:off x="1204920" y="1636560"/>
            <a:ext cx="1944720" cy="647640"/>
            <a:chOff x="1204920" y="1636560"/>
            <a:chExt cx="1944720" cy="647640"/>
          </a:xfrm>
        </p:grpSpPr>
        <p:sp>
          <p:nvSpPr>
            <p:cNvPr id="126" name="Line 18"/>
            <p:cNvSpPr/>
            <p:nvPr/>
          </p:nvSpPr>
          <p:spPr>
            <a:xfrm>
              <a:off x="1204920" y="1996920"/>
              <a:ext cx="1944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2141640" y="163656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3149640" y="1996920"/>
              <a:ext cx="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>
              <a:off x="1204920" y="1996920"/>
              <a:ext cx="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0" name="Text Box 22"/>
          <p:cNvSpPr/>
          <p:nvPr/>
        </p:nvSpPr>
        <p:spPr>
          <a:xfrm>
            <a:off x="5310360" y="5176800"/>
            <a:ext cx="2950920" cy="337320"/>
          </a:xfrm>
          <a:prstGeom prst="rect">
            <a:avLst/>
          </a:prstGeom>
          <a:solidFill>
            <a:srgbClr val="ecebb2">
              <a:alpha val="6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Compuestas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por </a:t>
            </a:r>
            <a:r>
              <a:rPr b="1" lang="es-ES_tradnl" sz="1600" spc="-1" strike="noStrike">
                <a:solidFill>
                  <a:srgbClr val="ff3300"/>
                </a:solidFill>
                <a:latin typeface="Comic Sans MS"/>
              </a:rPr>
              <a:t>carbon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Object 23"/>
          <p:cNvGraphicFramePr/>
          <p:nvPr/>
        </p:nvGraphicFramePr>
        <p:xfrm>
          <a:off x="611280" y="3789360"/>
          <a:ext cx="35146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89360"/>
                    <a:ext cx="3514680" cy="2314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AutoShape 24"/>
          <p:cNvSpPr/>
          <p:nvPr/>
        </p:nvSpPr>
        <p:spPr>
          <a:xfrm rot="10800000">
            <a:off x="4157280" y="5067360"/>
            <a:ext cx="1081080" cy="57456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Oval 25"/>
          <p:cNvSpPr/>
          <p:nvPr/>
        </p:nvSpPr>
        <p:spPr>
          <a:xfrm>
            <a:off x="2050920" y="3860640"/>
            <a:ext cx="765360" cy="720720"/>
          </a:xfrm>
          <a:prstGeom prst="ellipse">
            <a:avLst/>
          </a:prstGeom>
          <a:noFill/>
          <a:ln w="7632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965160" y="147600"/>
            <a:ext cx="7416720" cy="45972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Bases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químicas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de la vid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08:53Z</dcterms:created>
  <dc:creator>MOZO</dc:creator>
  <dc:description/>
  <dc:language>en-US</dc:language>
  <cp:lastModifiedBy>Lola</cp:lastModifiedBy>
  <dcterms:modified xsi:type="dcterms:W3CDTF">2013-02-18T18:44:36Z</dcterms:modified>
  <cp:revision>27</cp:revision>
  <dc:subject/>
  <dc:title>Diapositiva 1</dc:title>
</cp:coreProperties>
</file>