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51.png" ContentType="image/png"/>
  <Override PartName="/ppt/media/image30.jpeg" ContentType="image/jpeg"/>
  <Override PartName="/ppt/media/image47.gif" ContentType="image/gif"/>
  <Override PartName="/ppt/media/image36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42.jpeg" ContentType="image/jpeg"/>
  <Override PartName="/ppt/media/image19.jpeg" ContentType="image/jpeg"/>
  <Override PartName="/ppt/media/image20.jpeg" ContentType="image/jpeg"/>
  <Override PartName="/ppt/media/image31.jpeg" ContentType="image/jpeg"/>
  <Override PartName="/ppt/media/image48.jpeg" ContentType="image/jpeg"/>
  <Override PartName="/ppt/media/image28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1480" y="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8920" y="801720"/>
            <a:ext cx="5035680" cy="4005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52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5"/>
          </p:nvPr>
        </p:nvSpPr>
        <p:spPr>
          <a:xfrm>
            <a:off x="4281480" y="10154880"/>
            <a:ext cx="3271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0B6A6-B4EB-49BC-82E7-3744EE3E17AE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420C01C-9D03-41DD-8DE6-C43D241243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0D08BFD-3A02-45C3-8F8C-49CC7A2186D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0646080-AC3B-492C-B67B-AD0BBF4E6D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D741D98-DD13-49E4-800E-5853248DA7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441D047-8DE1-49FE-8ACF-9A4F285FE8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4E3AF70-BCA5-42FF-96DE-524205954C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1F9E89E-B5EB-47A1-BCF2-D9994EF1D8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9445D7F-9145-481F-B542-C94508249C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4250FD1-C253-4993-BF45-66BEF18CB8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54B22-DE06-4C74-AAD0-10BD414B67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BABB508-6DF0-4A0A-961D-C1E141A968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20D8-EC11-4D44-BB7C-11015AAEB0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B10E2-9E87-453C-8174-B92467CBB7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C757E-5DAF-4B92-8D6F-0426268E58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65B58-13FD-4CB3-B9B8-13E1073381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E979E-84DC-452B-9C96-FF59F31C4C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6920D-F2C6-4E6C-81E9-12CEAFC056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41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B4B78-6EC5-44D3-BFED-42E7413EE4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E7A5FF3-1A0C-4113-B496-7A0F84F0B5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34B5C-A6D0-4700-90F7-D20F5D7816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A72AF-C99C-4326-8C61-B9AFEC74D1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5BE21-6670-4A32-97FC-54F5CD0567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FA3E0-1023-4A7D-A12A-BBCF020ABD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0C037-4065-4164-A7F6-30532E8AE3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7B5F-D5A6-4AC7-AB40-BB39BD940D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B5A1D69-7AFD-4075-AB3F-95B532BB77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E9EA926-A64B-496B-AED5-B48C8D1DBF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7D9DFED-D8CB-43FD-9CA7-D1A95F9FE6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5486B24-5711-4F31-BDA5-9EB0A1315F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28FC7AA-C904-4787-AFEE-4E02D27A33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78FA764-C6A6-4138-9E97-F863CB5164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40360" cy="40100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B6E-004C-46CC-AE3D-11ECCF08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226-4F15-4FB3-ACDA-01BF9740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8B7-D5C9-4D8E-93DF-2EAFD3DA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200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348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052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4200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348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FAF-E60C-4A79-BEC7-2FF60290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FD148-47A1-4D38-8B13-78D10DDF3C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0F9C4-6440-40E2-A666-59DCF8398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411B-C225-4FFD-8490-C881390950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FC438-8BA6-44BA-B3B1-DC74EF023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8CF0B-ED10-430E-84CA-B1E6DA903D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41200" y="41400"/>
            <a:ext cx="823752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FE96F-BF84-486F-8A78-4D893BB50A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F98B2-A46F-4137-9DE3-9EAB5E230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0DD-1624-4FDB-AC36-6073698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8F46B-466B-403A-8087-06F22FF893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45EFC-688C-413A-9706-1E3C49CC0C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05C57-B68E-47F1-961F-D2065D5310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1ACE2-0EBF-4AB3-AC1D-E831A1E08F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200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793480" y="176220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9052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4200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793480" y="4349160"/>
            <a:ext cx="262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0F9B-152A-45BD-80F4-40C2A4049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A3C-1A0C-4E90-ABF7-37F19E94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EB2-CDBE-4472-9ED5-1FF3708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C4E-0277-4792-A2C8-8696B0CA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1200" y="41400"/>
            <a:ext cx="823752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752-C7F6-4A14-A569-ED44FC12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5B0-55DE-4525-8D7E-EA8A1FC8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60400" y="434916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39C-3FEB-4FC9-9DD8-DF84EB0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052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0400" y="1762200"/>
            <a:ext cx="397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0520" y="4349160"/>
            <a:ext cx="8137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893-6DDE-4879-BE26-C28D043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03A0-439A-42FC-800F-FD79A9D9911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093320" cy="7569360"/>
            <a:chOff x="0" y="0"/>
            <a:chExt cx="10093320" cy="7569360"/>
          </a:xfrm>
        </p:grpSpPr>
        <p:sp>
          <p:nvSpPr>
            <p:cNvPr id="42" name=""/>
            <p:cNvSpPr/>
            <p:nvPr/>
          </p:nvSpPr>
          <p:spPr>
            <a:xfrm>
              <a:off x="0" y="7326360"/>
              <a:ext cx="8901000" cy="24300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901000" cy="21600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767800" y="0"/>
              <a:ext cx="1320840" cy="75549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651880" y="1080"/>
              <a:ext cx="1422360" cy="6950520"/>
              <a:chOff x="8651880" y="1080"/>
              <a:chExt cx="1422360" cy="695052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239400" y="1080"/>
                <a:ext cx="834840" cy="2497680"/>
                <a:chOff x="9239400" y="1080"/>
                <a:chExt cx="834840" cy="249768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9593280" y="1080"/>
                  <a:ext cx="303120" cy="298800"/>
                  <a:chOff x="9593280" y="1080"/>
                  <a:chExt cx="303120" cy="29880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9593280" y="1080"/>
                    <a:ext cx="303120" cy="298800"/>
                    <a:chOff x="9593280" y="1080"/>
                    <a:chExt cx="303120" cy="29880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9635760" y="-41400"/>
                      <a:ext cx="217800" cy="303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9646200" y="102240"/>
                      <a:ext cx="150480" cy="24444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9726480" y="144000"/>
                    <a:ext cx="25560" cy="255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9646560" y="828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9734400" y="67680"/>
                    <a:ext cx="65160" cy="367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9802080" y="125640"/>
                    <a:ext cx="219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9725040" y="212400"/>
                    <a:ext cx="66600" cy="255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9663120" y="187560"/>
                    <a:ext cx="3816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39400" y="2523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5280" y="2523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491760" y="58896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407520" y="100800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755280" y="92232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574200" y="134316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755280" y="1762200"/>
                  <a:ext cx="3189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9755280" y="2182680"/>
                  <a:ext cx="3189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8651880" y="1763640"/>
                <a:ext cx="907920" cy="5187960"/>
                <a:chOff x="8651880" y="1763640"/>
                <a:chExt cx="907920" cy="51879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988480" y="17636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072720" y="210024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988480" y="27716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9239400" y="302436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820000" y="319248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904240" y="352728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239400" y="361152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56600" y="41162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736120" y="386388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736120" y="428472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988480" y="453564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56600" y="24354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651880" y="47880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736120" y="537696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156600" y="5796000"/>
                  <a:ext cx="32076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736120" y="596412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904240" y="6215040"/>
                  <a:ext cx="32076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736120" y="6635880"/>
                  <a:ext cx="320400" cy="31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072720" y="6467400"/>
                  <a:ext cx="320400" cy="31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8767800" y="5411880"/>
              <a:ext cx="1308240" cy="213336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51960" y="5354640"/>
              <a:ext cx="1339920" cy="22003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39360" y="3106800"/>
              <a:ext cx="1353960" cy="4444920"/>
            </a:xfrm>
            <a:prstGeom prst="pie">
              <a:avLst/>
            </a:pr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29720" y="3900600"/>
              <a:ext cx="1074600" cy="24033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88560" y="471600"/>
              <a:ext cx="1003320" cy="5559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94680" y="289080"/>
              <a:ext cx="998640" cy="338112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56640" y="0"/>
              <a:ext cx="630360" cy="3691080"/>
            </a:xfrm>
            <a:prstGeom prst="pie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56640" y="1440"/>
              <a:ext cx="325440" cy="3691080"/>
            </a:xfrm>
            <a:prstGeom prst="pie">
              <a:avLst/>
            </a:pr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0960" y="1440"/>
              <a:ext cx="93600" cy="755496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72480" y="6867360"/>
              <a:ext cx="1279440" cy="677880"/>
            </a:xfrm>
            <a:prstGeom prst="pie">
              <a:avLst/>
            </a:pr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773240" y="3656160"/>
              <a:ext cx="7554960" cy="242640"/>
            </a:xfrm>
            <a:prstGeom prst="pie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41400"/>
            <a:ext cx="8237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90520" y="176220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920" y="6880320"/>
            <a:ext cx="1965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7600" y="6888240"/>
            <a:ext cx="3809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4"/>
          </p:nvPr>
        </p:nvSpPr>
        <p:spPr>
          <a:xfrm>
            <a:off x="6467400" y="6888240"/>
            <a:ext cx="193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3B707E-1FB2-4499-B978-D883F9C25D25}" type="slidenum">
              <a:rPr b="0" lang="es-ES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7.jpeg"/><Relationship Id="rId4" Type="http://schemas.openxmlformats.org/officeDocument/2006/relationships/image" Target="../media/image11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7.jpeg"/><Relationship Id="rId4" Type="http://schemas.openxmlformats.org/officeDocument/2006/relationships/image" Target="../media/image31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54120" y="941400"/>
            <a:ext cx="7678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TEMA 5: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LA NUTRICIÓN EN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LOS ANIMALES. </a:t>
            </a:r>
            <a:br>
              <a:rPr sz="4000"/>
            </a:b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EL APARATO DIGESTIV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3320" y="4284720"/>
            <a:ext cx="62182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79760" y="4017960"/>
            <a:ext cx="420048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vertebrados: Lengua y dientes (mamíferos) o pico córneo (aves, tortugas). Tipos de d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aninos afilados y muelas carnic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 rumiantes: molares anchos y planos. Ausencia de can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 roedores: Incisivos cortantes de crecimiento indefi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buSzPct val="127559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mnívoros: Incisivos, caninos y mo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64080" y="1319040"/>
            <a:ext cx="3983040" cy="1838520"/>
            <a:chOff x="4564080" y="1319040"/>
            <a:chExt cx="3983040" cy="1838520"/>
          </a:xfrm>
        </p:grpSpPr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4564080" y="1319040"/>
              <a:ext cx="398304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564080" y="1319040"/>
              <a:ext cx="3983040" cy="18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564080" y="3303720"/>
            <a:ext cx="3963960" cy="1684080"/>
            <a:chOff x="4564080" y="3303720"/>
            <a:chExt cx="3963960" cy="1684080"/>
          </a:xfrm>
        </p:grpSpPr>
        <p:pic>
          <p:nvPicPr>
            <p:cNvPr id="205" name="" descr=""/>
            <p:cNvPicPr/>
            <p:nvPr/>
          </p:nvPicPr>
          <p:blipFill>
            <a:blip r:embed="rId7"/>
            <a:stretch/>
          </p:blipFill>
          <p:spPr>
            <a:xfrm>
              <a:off x="4564080" y="3303720"/>
              <a:ext cx="396396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64080" y="3303720"/>
              <a:ext cx="3963960" cy="16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405320" y="5129280"/>
            <a:ext cx="2217600" cy="1900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6627960" y="5129280"/>
            <a:ext cx="3452760" cy="1992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850240" y="1795320"/>
            <a:ext cx="1032120" cy="714600"/>
          </a:xfrm>
          <a:prstGeom prst="leftArrow">
            <a:avLst>
              <a:gd name="adj1" fmla="val 50000"/>
              <a:gd name="adj2" fmla="val 36108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ZO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850240" y="3621240"/>
            <a:ext cx="1032120" cy="714240"/>
          </a:xfrm>
          <a:prstGeom prst="leftArrow">
            <a:avLst>
              <a:gd name="adj1" fmla="val 50000"/>
              <a:gd name="adj2" fmla="val 36127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BA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3138120" y="6165360"/>
            <a:ext cx="1033560" cy="714600"/>
          </a:xfrm>
          <a:prstGeom prst="leftArrow">
            <a:avLst>
              <a:gd name="adj1" fmla="val 50000"/>
              <a:gd name="adj2" fmla="val 36159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34080" y="6321600"/>
            <a:ext cx="10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76120" y="1546200"/>
            <a:ext cx="8013960" cy="5489640"/>
            <a:chOff x="276120" y="1546200"/>
            <a:chExt cx="8013960" cy="548964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76120" y="1546200"/>
              <a:ext cx="8013960" cy="54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76120" y="1546200"/>
              <a:ext cx="8013960" cy="548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ALMACENAMIENTO Y TRANSP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44920" y="1762200"/>
            <a:ext cx="398772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Esófa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ubo recto que transporta el alimento a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Buch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ilatación del esófago de algunos animales (Anélidos, insectos, aves) para almacenamiento temporal del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96920" y="1636560"/>
            <a:ext cx="4124160" cy="2916360"/>
            <a:chOff x="196920" y="1636560"/>
            <a:chExt cx="4124160" cy="2916360"/>
          </a:xfrm>
        </p:grpSpPr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196920" y="1636560"/>
              <a:ext cx="412416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96920" y="1636560"/>
              <a:ext cx="4124160" cy="29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5288040"/>
            <a:ext cx="5827680" cy="18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6072120" y="5367240"/>
            <a:ext cx="376884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0520" y="1762200"/>
            <a:ext cx="39862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3366ff"/>
                </a:solidFill>
                <a:latin typeface="Arial"/>
              </a:rPr>
              <a:t>Estómag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latación del tubo digestivo. Los alimentos se almacenan temporalmente y se mezclan con los jugos gástricos gracias a los movimientos peristál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405320" y="2224080"/>
            <a:ext cx="4678200" cy="3741840"/>
            <a:chOff x="4405320" y="2224080"/>
            <a:chExt cx="4678200" cy="374184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4405320" y="2224080"/>
              <a:ext cx="467820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405320" y="2224080"/>
              <a:ext cx="4678200" cy="37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0520" y="1762200"/>
            <a:ext cx="398628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Mollej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esente en animales que no tienen dientes o no mastican el alimento (anélidos, aves, algunos reptiles). Es un preestómago muscular que tritura el alimento. El animal traga pied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rustáceos tiene piezas calcáreas (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molinillo gástr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insectos tiene dientes quitino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167360" y="1557360"/>
            <a:ext cx="3963960" cy="2254320"/>
            <a:chOff x="4167360" y="1557360"/>
            <a:chExt cx="3963960" cy="22543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167360" y="1557360"/>
              <a:ext cx="396396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67360" y="1557360"/>
              <a:ext cx="396396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792680" y="4017960"/>
            <a:ext cx="3056040" cy="3251160"/>
            <a:chOff x="4792680" y="4017960"/>
            <a:chExt cx="3056040" cy="3251160"/>
          </a:xfrm>
        </p:grpSpPr>
        <p:pic>
          <p:nvPicPr>
            <p:cNvPr id="235" name="" descr=""/>
            <p:cNvPicPr/>
            <p:nvPr/>
          </p:nvPicPr>
          <p:blipFill>
            <a:blip r:embed="rId5"/>
            <a:stretch/>
          </p:blipFill>
          <p:spPr>
            <a:xfrm>
              <a:off x="4792680" y="4017960"/>
              <a:ext cx="305604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792680" y="4017960"/>
              <a:ext cx="3056040" cy="32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8373960" y="2352600"/>
            <a:ext cx="1430280" cy="773280"/>
          </a:xfrm>
          <a:prstGeom prst="leftArrow">
            <a:avLst>
              <a:gd name="adj1" fmla="val 50000"/>
              <a:gd name="adj2" fmla="val 46241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73960" y="4811760"/>
            <a:ext cx="1430280" cy="772920"/>
          </a:xfrm>
          <a:prstGeom prst="leftArrow">
            <a:avLst>
              <a:gd name="adj1" fmla="val 50000"/>
              <a:gd name="adj2" fmla="val 46262"/>
            </a:avLst>
          </a:prstGeom>
          <a:solidFill>
            <a:srgbClr val="e9d47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16000" indent="-212760" algn="ct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MOLIDO Y DIGESTIÓN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44920" y="1762200"/>
            <a:ext cx="440532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rum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n un estómago con varias cavidades con microorganismos capaces de digerir la celulo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Rum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: los microorganismos fermentan la celulosa. El bolo se regurgita continúa la mast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Retícul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redecil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Oma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libro): se produce absorción de agua, sales minerales y ácidos gr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  <a:ea typeface="Microsoft YaHei"/>
              </a:rPr>
              <a:t>Aboma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(auténtico estómago, con glándulas gástric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herbívoros no rumia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n un gran </a:t>
            </a: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cie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onde fermentan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7"/>
          <a:stretch/>
        </p:blipFill>
        <p:spPr>
          <a:xfrm>
            <a:off x="0" y="1716120"/>
            <a:ext cx="4392720" cy="285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196920" y="4653000"/>
            <a:ext cx="420192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DIGESTIÓN FINAL Y ABSORCIÓN DE NUTR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0520" y="1762200"/>
            <a:ext cx="398628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3366ff"/>
                </a:solidFill>
                <a:latin typeface="Arial"/>
              </a:rPr>
              <a:t>Intestino delg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produce la digestión química y la absorción de los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igestión se produce por la secreción de la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células intesti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por las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glándulas anej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n vertebrados, </a:t>
            </a:r>
            <a:r>
              <a:rPr b="0" lang="es-ES" sz="1800" spc="-1" strike="noStrike">
                <a:solidFill>
                  <a:srgbClr val="666729"/>
                </a:solidFill>
                <a:latin typeface="Arial"/>
              </a:rPr>
              <a:t>híg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1800" spc="-1" strike="noStrike">
                <a:solidFill>
                  <a:srgbClr val="666729"/>
                </a:solidFill>
                <a:latin typeface="Arial"/>
              </a:rPr>
              <a:t>páncre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ele tener especializaciones para aumentar su superfic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vellosidad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y </a:t>
            </a: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microvellosidad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válvula espira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990000"/>
                </a:solidFill>
                <a:latin typeface="Arial"/>
                <a:ea typeface="Microsoft YaHei"/>
              </a:rPr>
              <a:t>tifloso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n bacterias simbiontes que forman la flora gastrointest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167360" y="1874880"/>
            <a:ext cx="3963960" cy="3346560"/>
            <a:chOff x="4167360" y="1874880"/>
            <a:chExt cx="3963960" cy="3346560"/>
          </a:xfrm>
        </p:grpSpPr>
        <p:pic>
          <p:nvPicPr>
            <p:cNvPr id="246" name="" descr=""/>
            <p:cNvPicPr/>
            <p:nvPr/>
          </p:nvPicPr>
          <p:blipFill>
            <a:blip r:embed="rId8"/>
            <a:stretch/>
          </p:blipFill>
          <p:spPr>
            <a:xfrm>
              <a:off x="4167360" y="1874880"/>
              <a:ext cx="3963960" cy="33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167360" y="1874880"/>
              <a:ext cx="3963960" cy="33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302680" y="3144960"/>
            <a:ext cx="1773360" cy="2773080"/>
            <a:chOff x="8302680" y="3144960"/>
            <a:chExt cx="1773360" cy="2773080"/>
          </a:xfrm>
        </p:grpSpPr>
        <p:pic>
          <p:nvPicPr>
            <p:cNvPr id="249" name="" descr=""/>
            <p:cNvPicPr/>
            <p:nvPr/>
          </p:nvPicPr>
          <p:blipFill>
            <a:blip r:embed="rId9"/>
            <a:stretch/>
          </p:blipFill>
          <p:spPr>
            <a:xfrm>
              <a:off x="8302680" y="3144960"/>
              <a:ext cx="1773360" cy="27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8302680" y="3144960"/>
              <a:ext cx="1773360" cy="27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4325760" y="5556240"/>
            <a:ext cx="3730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ÓN DE ABSORCIÓN DE AGUA Y FORMACIÓN DE H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0520" y="4324320"/>
            <a:ext cx="81421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Intestino grues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muchos animales la porción final, el 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e abre a una cavidad llamada </a:t>
            </a:r>
            <a:r>
              <a:rPr b="0" lang="es-ES" sz="2400" spc="-1" strike="noStrike">
                <a:solidFill>
                  <a:srgbClr val="3366ff"/>
                </a:solidFill>
                <a:latin typeface="Arial"/>
              </a:rPr>
              <a:t>cloa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junto con el aparato urinario y el gen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especies (aves, reptiles) reabsorben gran cantidad de agua y producen heces muy s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987480" y="1584360"/>
            <a:ext cx="2776320" cy="2568600"/>
            <a:chOff x="987480" y="1584360"/>
            <a:chExt cx="2776320" cy="2568600"/>
          </a:xfrm>
        </p:grpSpPr>
        <p:pic>
          <p:nvPicPr>
            <p:cNvPr id="255" name="" descr=""/>
            <p:cNvPicPr/>
            <p:nvPr/>
          </p:nvPicPr>
          <p:blipFill>
            <a:blip r:embed="rId3"/>
            <a:stretch/>
          </p:blipFill>
          <p:spPr>
            <a:xfrm>
              <a:off x="987480" y="1584360"/>
              <a:ext cx="2776320" cy="25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987480" y="1584360"/>
              <a:ext cx="2776320" cy="25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864480" y="1557360"/>
            <a:ext cx="2438280" cy="2593800"/>
            <a:chOff x="6864480" y="1557360"/>
            <a:chExt cx="2438280" cy="259380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6864480" y="1557360"/>
              <a:ext cx="2438280" cy="25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864480" y="1557360"/>
              <a:ext cx="243828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4006800" y="1557360"/>
            <a:ext cx="2630520" cy="2622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84520" y="3619440"/>
            <a:ext cx="13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M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59720" y="1874880"/>
            <a:ext cx="9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4.Glándulas digestivas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761840"/>
            <a:ext cx="49658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003640" y="1440000"/>
            <a:ext cx="4064040" cy="5756040"/>
            <a:chOff x="5003640" y="1440000"/>
            <a:chExt cx="4064040" cy="575604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5003640" y="1440000"/>
              <a:ext cx="4064040" cy="57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003640" y="1440000"/>
              <a:ext cx="4064040" cy="57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Glándulas salivar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1655640"/>
            <a:ext cx="35640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47520" y="2087640"/>
            <a:ext cx="492120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1200" y="49320"/>
            <a:ext cx="82425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LA FUNCIÓN DE NUTRIC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o por el cual los animales obtienen la materia y la energía que necesitan para formar sus propias estructuras y realizar sus funciones vi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nimales son heterótrofos: Obtienen la materia orgánica a partir de otros seres v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ses de la nutr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Ingest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y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digest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Absor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y transporte de oxíge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Distribu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e nutr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Metabolism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cel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Trans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sustancias de des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Arial"/>
                <a:ea typeface="Microsoft YaHei"/>
              </a:rPr>
              <a:t>Elim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de sustancias de des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Glándulas gás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1400" y="1763640"/>
            <a:ext cx="87361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Glándulas intestinale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90160" y="1871280"/>
            <a:ext cx="48942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lándulas de Brünn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mu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Glándulas de Lieberkühn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en jugo intestinal formado por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disacar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pept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nucle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intesti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27640" y="2376360"/>
            <a:ext cx="4605480" cy="4676760"/>
            <a:chOff x="5327640" y="2376360"/>
            <a:chExt cx="4605480" cy="467676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5327640" y="2376360"/>
              <a:ext cx="4605480" cy="46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327640" y="2376360"/>
              <a:ext cx="4605480" cy="46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El proceso de la degluc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1400" y="1763640"/>
            <a:ext cx="372132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64000" y="1757520"/>
            <a:ext cx="5415120" cy="5008320"/>
            <a:chOff x="4464000" y="1757520"/>
            <a:chExt cx="5415120" cy="500832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4464000" y="1757520"/>
              <a:ext cx="5415120" cy="50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464000" y="1757520"/>
              <a:ext cx="5415120" cy="50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ígado y 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24000" y="1341360"/>
            <a:ext cx="5816520" cy="5423040"/>
            <a:chOff x="1224000" y="1341360"/>
            <a:chExt cx="5816520" cy="54230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1224000" y="1341360"/>
              <a:ext cx="5816520" cy="54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224000" y="1341360"/>
              <a:ext cx="5816520" cy="54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ígado: funcion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1400" y="1763640"/>
            <a:ext cx="87361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6200" y="1557360"/>
            <a:ext cx="6586560" cy="5184720"/>
            <a:chOff x="1546200" y="1557360"/>
            <a:chExt cx="6586560" cy="518472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1546200" y="1557360"/>
              <a:ext cx="658656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546200" y="1557360"/>
              <a:ext cx="658656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Páncrea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400" y="1763640"/>
            <a:ext cx="405144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41840" y="2111400"/>
            <a:ext cx="4838760" cy="3944880"/>
            <a:chOff x="4641840" y="2111400"/>
            <a:chExt cx="4838760" cy="39448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rcRect l="0" t="0" r="0" b="15533"/>
            <a:stretch/>
          </p:blipFill>
          <p:spPr>
            <a:xfrm>
              <a:off x="4641840" y="2111400"/>
              <a:ext cx="483876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641840" y="2111400"/>
              <a:ext cx="4838760" cy="39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5. La digestión en vertebrado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90160" y="1761840"/>
            <a:ext cx="814068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la bo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el estó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- Digestión en el intes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 en la boca</a:t>
            </a:r>
            <a:endParaRPr b="0" lang="en-US" sz="5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0920" y="1719000"/>
            <a:ext cx="81406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igestión mecánica: masticación y trituración del al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Digestión química: La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amilasa saliv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ompe los enlaces glucosídicos del almidón y produce malt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1440" y="3600360"/>
            <a:ext cx="5467320" cy="3510000"/>
            <a:chOff x="1441440" y="3600360"/>
            <a:chExt cx="5467320" cy="351000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441440" y="3600360"/>
              <a:ext cx="5467320" cy="35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441440" y="3600360"/>
              <a:ext cx="5467320" cy="35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03520" y="419040"/>
            <a:ext cx="4451400" cy="476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7632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LA  DEGLU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19040" y="1847880"/>
            <a:ext cx="3892680" cy="420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451400" y="2266920"/>
            <a:ext cx="3900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alimentos triturados e insalivados forman el </a:t>
            </a:r>
            <a:r>
              <a:rPr b="0" lang="es-ES" sz="3200" spc="-1" strike="noStrike">
                <a:solidFill>
                  <a:srgbClr val="ff0066"/>
                </a:solidFill>
                <a:latin typeface="Arial"/>
              </a:rPr>
              <a:t>bolo alimentici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que se traga en la deglución y pasa al esóf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0520" y="1762200"/>
            <a:ext cx="814212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ceso de transformación de macromoléculas (polisacáridos, proteínas y lípidos) en moléculas más sencillas que pueden ser absorbidas por las célu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dos proc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Mecán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: Trocea los alimentos en fragmentos más pequeños y los mezcla con los jugos diges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Quí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: Las enzimas digestivas rompen las moléculas grandes en moléculas pequeñ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Digestión en el estómag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7280" y="1368360"/>
            <a:ext cx="395784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jugo gástrico contie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b80047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ctúa a pH muy ácido. Rompe los enlaces peptídicos de las proteí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2400" spc="-1" strike="noStrike">
                <a:solidFill>
                  <a:srgbClr val="b80047"/>
                </a:solidFill>
                <a:latin typeface="Arial"/>
              </a:rPr>
              <a:t>Ácido clorhídrico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porciona el medio ácido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inter pilór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405320" y="2033640"/>
            <a:ext cx="5475240" cy="4378320"/>
            <a:chOff x="4405320" y="2033640"/>
            <a:chExt cx="5475240" cy="4378320"/>
          </a:xfrm>
        </p:grpSpPr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4405320" y="2033640"/>
              <a:ext cx="5475240" cy="43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405320" y="2033640"/>
              <a:ext cx="5475240" cy="43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800" spc="-1" strike="noStrike">
                <a:solidFill>
                  <a:srgbClr val="666729"/>
                </a:solidFill>
                <a:latin typeface="Arial"/>
              </a:rPr>
              <a:t>Digestión en el intestino delg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0520" y="1212840"/>
            <a:ext cx="435132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, donde se mezclan con el quimo y forman el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qui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zi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lmid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Disacar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disacár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Lip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íp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Tripsina y 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Peptid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pépt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400" spc="-1" strike="noStrike">
                <a:solidFill>
                  <a:srgbClr val="b80047"/>
                </a:solidFill>
                <a:latin typeface="Arial"/>
              </a:rPr>
              <a:t>Nuclea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ác. nucle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41840" y="1909800"/>
            <a:ext cx="5434200" cy="4183200"/>
            <a:chOff x="4641840" y="1909800"/>
            <a:chExt cx="5434200" cy="418320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4641840" y="1909800"/>
              <a:ext cx="5434200" cy="41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641840" y="1909800"/>
              <a:ext cx="5434200" cy="41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6. Absorción: intestino del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1400" y="1763640"/>
            <a:ext cx="7751880" cy="48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, por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difusión simp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difusión facilit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ff420e"/>
                </a:solidFill>
                <a:latin typeface="Arial"/>
              </a:rPr>
              <a:t>transporte ac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0840" y="41040"/>
            <a:ext cx="824076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Absorción en el intestino delgado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0520" y="1510920"/>
            <a:ext cx="554184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Glúcidos sencill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absorben por transporte activo y difusión facilit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Aminoáci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or transporte activo pasan a los capilares de la vena 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Ácidos grasos, colesterol, glicerina y vitaminas liposolu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, D, E, K): Entran en las células por difusión y se unen a proteínas para formar quilomicrones, que pasan a los vasos quilíf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284c"/>
                </a:solidFill>
                <a:latin typeface="Arial"/>
              </a:rPr>
              <a:t>Vitaminas hidrosoluble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B y C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 Se absorben en el intestino del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5012" b="0"/>
          <a:stretch/>
        </p:blipFill>
        <p:spPr>
          <a:xfrm>
            <a:off x="5881680" y="1295280"/>
            <a:ext cx="4197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Vellosidades intestinal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37080" y="2668680"/>
            <a:ext cx="3963960" cy="2852640"/>
            <a:chOff x="5437080" y="2668680"/>
            <a:chExt cx="3963960" cy="285264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5437080" y="2668680"/>
              <a:ext cx="3963960" cy="28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437080" y="2668680"/>
              <a:ext cx="396396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0" y="1557360"/>
            <a:ext cx="6783480" cy="5727600"/>
            <a:chOff x="0" y="1557360"/>
            <a:chExt cx="6783480" cy="5727600"/>
          </a:xfrm>
        </p:grpSpPr>
        <p:pic>
          <p:nvPicPr>
            <p:cNvPr id="328" name="" descr="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6783480" cy="57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1557360"/>
              <a:ext cx="6783480" cy="57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666729"/>
                </a:solidFill>
                <a:latin typeface="Arial"/>
              </a:rPr>
              <a:t>Absorción en el intestino gru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6000" y="1967040"/>
            <a:ext cx="428472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184720" y="2232000"/>
            <a:ext cx="4197240" cy="3881520"/>
            <a:chOff x="5184720" y="2232000"/>
            <a:chExt cx="4197240" cy="388152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5184720" y="2232000"/>
              <a:ext cx="419724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184720" y="2232000"/>
              <a:ext cx="4197240" cy="38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14200" y="252360"/>
            <a:ext cx="883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Heces fecal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1763640"/>
            <a:ext cx="45277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Defe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ínter anal in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relaja involuntari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finter anal ex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retener las heces voluntariamente de forma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270400" y="1557360"/>
            <a:ext cx="4021200" cy="5235480"/>
            <a:chOff x="5270400" y="1557360"/>
            <a:chExt cx="4021200" cy="523548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5270400" y="1557360"/>
              <a:ext cx="402120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270400" y="1557360"/>
              <a:ext cx="4021200" cy="52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1200" y="90360"/>
            <a:ext cx="82425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DIGESTIÓN INTRACEL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íf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hacen la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digestión in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élulas especiales llamadas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coanoci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un flagelo y una  estructura como un col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imento entra por los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poros inhal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sa a los coanocitos por </a:t>
            </a:r>
            <a:r>
              <a:rPr b="0" lang="es-ES" sz="2000" spc="-1" strike="noStrike">
                <a:solidFill>
                  <a:srgbClr val="666729"/>
                </a:solidFill>
                <a:latin typeface="Arial"/>
              </a:rPr>
              <a:t>endocito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 la digestión y los residuos se expulsan por </a:t>
            </a:r>
            <a:r>
              <a:rPr b="0" lang="es-ES" sz="2000" spc="-1" strike="noStrike">
                <a:solidFill>
                  <a:srgbClr val="666729"/>
                </a:solidFill>
                <a:latin typeface="Arial"/>
              </a:rPr>
              <a:t>exocito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gua sale por el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óscu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118120" y="1398600"/>
            <a:ext cx="2886120" cy="2208240"/>
            <a:chOff x="5118120" y="1398600"/>
            <a:chExt cx="2886120" cy="220824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5118120" y="1398600"/>
              <a:ext cx="288612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18120" y="1398600"/>
              <a:ext cx="288612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02040" y="3780000"/>
            <a:ext cx="3568680" cy="3551040"/>
            <a:chOff x="4802040" y="3780000"/>
            <a:chExt cx="3568680" cy="355104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4802040" y="3780000"/>
              <a:ext cx="3568680" cy="35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2040" y="3780000"/>
              <a:ext cx="3568680" cy="35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DIGESTIÓN EN UNA CAVIDAD GASTROVA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120" y="4732200"/>
            <a:ext cx="814248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a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nidar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telmin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cavidad gastrovas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 un único orificio que hace las funciones de boca y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duce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digestión ex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s células vierten los enzimas digestivos en esta cavidad y se produce la di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fragmentos predigeridos entran en las células que revisten la cavidad, donde se produce la 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digestión intracel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072120" y="922320"/>
            <a:ext cx="3552840" cy="4044960"/>
            <a:chOff x="6072120" y="922320"/>
            <a:chExt cx="3552840" cy="4044960"/>
          </a:xfrm>
        </p:grpSpPr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6072120" y="922320"/>
              <a:ext cx="3552840" cy="404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072120" y="922320"/>
              <a:ext cx="3552840" cy="40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6120" y="1636560"/>
            <a:ext cx="4122720" cy="2892600"/>
            <a:chOff x="276120" y="1636560"/>
            <a:chExt cx="4122720" cy="2892600"/>
          </a:xfrm>
        </p:grpSpPr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276120" y="1636560"/>
              <a:ext cx="4122720" cy="28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76120" y="1636560"/>
              <a:ext cx="4122720" cy="28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666729"/>
                </a:solidFill>
                <a:latin typeface="Arial"/>
              </a:rPr>
              <a:t>DIGESTIÓN EN UN TU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1762200"/>
            <a:ext cx="35593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dos aberturas, boca y ano, y permite la alimentación contí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mite que cada tramo se especialice en funciones distintas. Es más efic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Muc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epitelial secre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Submuc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conju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Mus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Tejido muscular l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Microsoft YaHei"/>
              </a:rPr>
              <a:t>Seros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: Epitelio de revest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245120" y="1763640"/>
            <a:ext cx="5829120" cy="4653000"/>
            <a:chOff x="4245120" y="1763640"/>
            <a:chExt cx="5829120" cy="4653000"/>
          </a:xfrm>
        </p:grpSpPr>
        <p:pic>
          <p:nvPicPr>
            <p:cNvPr id="173" name="" descr=""/>
            <p:cNvPicPr/>
            <p:nvPr/>
          </p:nvPicPr>
          <p:blipFill>
            <a:blip r:embed="rId8"/>
            <a:stretch/>
          </p:blipFill>
          <p:spPr>
            <a:xfrm>
              <a:off x="4245120" y="1763640"/>
              <a:ext cx="582912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45120" y="1763640"/>
              <a:ext cx="582912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1200" y="225360"/>
            <a:ext cx="824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666729"/>
                </a:solidFill>
                <a:latin typeface="Arial"/>
              </a:rPr>
              <a:t>REGIONES DEL TUBO DIGES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6120" y="1762200"/>
            <a:ext cx="81565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recepto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Boca con piezas bucales y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almacenamiento y transpor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ófago, b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molido y digestión in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ómago, moll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digestión final y absor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intestino con vellosidades y microvello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3366ff"/>
                </a:solidFill>
                <a:latin typeface="Arial"/>
              </a:rPr>
              <a:t>Región de absorción de agua y expulsión de restos no diger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Intestino grueso y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071720" y="5129280"/>
            <a:ext cx="6740280" cy="2182680"/>
            <a:chOff x="1071720" y="5129280"/>
            <a:chExt cx="6740280" cy="218268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1071720" y="5129280"/>
              <a:ext cx="674028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071720" y="5129280"/>
              <a:ext cx="6740280" cy="21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ringe mus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ezas bucales adaptadas al tipo de al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Abso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spiritrompa para absorber néctar en las marip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erforador-chupador en mosq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amedor-chupador en mo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50000" y="1762200"/>
            <a:ext cx="2971800" cy="2388960"/>
            <a:chOff x="4950000" y="1762200"/>
            <a:chExt cx="2971800" cy="2388960"/>
          </a:xfrm>
        </p:grpSpPr>
        <p:pic>
          <p:nvPicPr>
            <p:cNvPr id="183" name="" descr=""/>
            <p:cNvPicPr/>
            <p:nvPr/>
          </p:nvPicPr>
          <p:blipFill>
            <a:blip r:embed="rId8"/>
            <a:stretch/>
          </p:blipFill>
          <p:spPr>
            <a:xfrm>
              <a:off x="4950000" y="1762200"/>
              <a:ext cx="29718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950000" y="1762200"/>
              <a:ext cx="2971800" cy="23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040360" y="4335480"/>
            <a:ext cx="799920" cy="2390760"/>
            <a:chOff x="5040360" y="4335480"/>
            <a:chExt cx="799920" cy="2390760"/>
          </a:xfrm>
        </p:grpSpPr>
        <p:pic>
          <p:nvPicPr>
            <p:cNvPr id="186" name="" descr=""/>
            <p:cNvPicPr/>
            <p:nvPr/>
          </p:nvPicPr>
          <p:blipFill>
            <a:blip r:embed="rId9"/>
            <a:stretch/>
          </p:blipFill>
          <p:spPr>
            <a:xfrm>
              <a:off x="5040360" y="4335480"/>
              <a:ext cx="79992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040360" y="4335480"/>
              <a:ext cx="79992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6262560" y="4255920"/>
            <a:ext cx="1887840" cy="24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1200" y="249120"/>
            <a:ext cx="8242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5200" spc="-1" strike="noStrike">
                <a:solidFill>
                  <a:srgbClr val="666729"/>
                </a:solidFill>
                <a:latin typeface="Arial"/>
              </a:rPr>
              <a:t>REGIÓN RECEPTORA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" y="1762200"/>
            <a:ext cx="398628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epredación: Pico córneo, piezas mordedor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Herbívoros: Rádula, linterna de Aristót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7383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72180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Filtradores: Bival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087800" y="1319040"/>
            <a:ext cx="2320920" cy="2389320"/>
            <a:chOff x="4087800" y="1319040"/>
            <a:chExt cx="2320920" cy="238932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4087800" y="1319040"/>
              <a:ext cx="232092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87800" y="1319040"/>
              <a:ext cx="23209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07160" y="1239840"/>
            <a:ext cx="3144960" cy="2389320"/>
            <a:chOff x="6707160" y="1239840"/>
            <a:chExt cx="3144960" cy="2389320"/>
          </a:xfrm>
        </p:grpSpPr>
        <p:pic>
          <p:nvPicPr>
            <p:cNvPr id="195" name="" descr=""/>
            <p:cNvPicPr/>
            <p:nvPr/>
          </p:nvPicPr>
          <p:blipFill>
            <a:blip r:embed="rId5"/>
            <a:stretch/>
          </p:blipFill>
          <p:spPr>
            <a:xfrm>
              <a:off x="6707160" y="1239840"/>
              <a:ext cx="314496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707160" y="1239840"/>
              <a:ext cx="31449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133800" y="5049720"/>
            <a:ext cx="2566800" cy="2208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5913360" y="3780000"/>
            <a:ext cx="3927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15:25:10Z</dcterms:created>
  <dc:creator/>
  <dc:description/>
  <dc:language>en-US</dc:language>
  <cp:lastModifiedBy/>
  <cp:revision>1</cp:revision>
  <dc:subject/>
  <dc:title/>
</cp:coreProperties>
</file>