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51.png" ContentType="image/png"/>
  <Override PartName="/ppt/media/image30.jpeg" ContentType="image/jpeg"/>
  <Override PartName="/ppt/media/image47.gif" ContentType="image/gif"/>
  <Override PartName="/ppt/media/image36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42.jpeg" ContentType="image/jpeg"/>
  <Override PartName="/ppt/media/image19.jpeg" ContentType="image/jpeg"/>
  <Override PartName="/ppt/media/image20.jpeg" ContentType="image/jpeg"/>
  <Override PartName="/ppt/media/image31.jpeg" ContentType="image/jpeg"/>
  <Override PartName="/ppt/media/image48.jpeg" ContentType="image/jpeg"/>
  <Override PartName="/ppt/media/image28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148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8920" y="801720"/>
            <a:ext cx="5035680" cy="4005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200" spc="-1" strike="noStrike">
                <a:solidFill>
                  <a:srgbClr val="666729"/>
                </a:solidFill>
                <a:latin typeface="Arial"/>
              </a:rPr>
              <a:t>Click to move the slide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5"/>
          </p:nvPr>
        </p:nvSpPr>
        <p:spPr>
          <a:xfrm>
            <a:off x="4281480" y="10154880"/>
            <a:ext cx="3271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C8F35-65F4-436E-8EF7-A8269C36FAAF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329D00A-EB19-4C84-B0E8-DD75191356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F65558E-E73D-49A9-8F97-32253FDB18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71DA7F0-AD1A-463D-BF90-53279288AC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5434F61-E8F2-40DC-B961-1B1D744418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0E55803A-7B1E-47F4-98EA-07849D0D22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C837345-5E06-4B79-BB06-2A8D12D9E4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331CE58-2CC1-4CCF-A7B0-69F335BBA7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04C7E12-208D-45F3-BF52-9514AEBC1A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9B0219BF-836E-4A54-9B1E-DBC2CF2855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7A55C-7B31-4736-909B-E7D949DAD0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CB9B09F-D479-42D6-9815-AF8DF0C33D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38121-159A-4F47-A378-C3D86260C4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041F1-97AA-4B76-9342-604C324DDD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0A73D-1D0E-4E7C-939F-9769480D08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CD4EC-43F6-4544-8160-C2CAD3C63C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EE8DB-DBC5-40A6-BC88-A523476AE3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BFF5-058A-4E83-B1E0-89709B0D18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41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54EC0-C78C-428B-892B-A8FBACE716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C4D75C7-76D1-4E72-988D-F9A143E316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55FA9-BB74-402A-A523-9AF4D41897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FB59B-53DA-4790-A555-B462F14DB9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C8F63-F611-4500-ACF3-F08A5165B7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527F3-E2B3-48A9-ABDE-12FA21FB28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89B53-C82E-4A23-BC7C-A9BDB99B12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34201-9A7D-4EF6-93D2-AE1ED2282E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03A4AFC-44FC-4E99-A8C4-C3DBABA51A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1087DA39-9145-4B0A-B15F-8ABC96FCF2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9A6C13D-D10B-409A-AAE9-F3BB14FAC7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4AE28B0-409C-4DED-ABAA-86608EF460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5AABD3F-018D-4AC2-88A2-817A55D630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2B1D459-771F-44E8-B9AF-9FB3D48FA8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983-2E28-430A-B1A3-F3B4EC6D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8D8-D56B-423C-B2A6-4703FCEA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341-FC9D-41A0-A484-9F9E750D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200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348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052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4200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348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8E0-5EE6-4864-9DAB-78AE9940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1F1FB-CA4E-43B7-8FB8-7A1B6DC469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A77E8-4DF4-4A68-A68D-C13314A9BF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25CCA-511F-4C08-966C-7D86B8FB22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81C93-E5FC-4437-902E-A49E553C54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EBCF4-3C84-4343-915D-817CB153FE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41200" y="41400"/>
            <a:ext cx="823752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4341A-6517-4BC1-A367-779A0AE6D5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5B6A7-F52C-4BDE-8ADA-8FB575AF6F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028-E0E8-4E92-A2B1-8ACDD459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628BC-55F5-40D0-85F4-83B38BCB50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3080B-3AA0-4CA0-87DE-2795BD4F09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6AC2A-78C6-4825-918A-2767260F5B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FB5B6-E84D-4AEB-B894-38A0A57C75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200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79348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9052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4200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79348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D503C-3971-4C4F-AAE7-E35A098D2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C27-DF35-4A3C-BE1D-897BB079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E60-6280-447C-8D8C-F2A2AE3D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6BB-3756-462A-88CD-E1A2AF44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1200" y="41400"/>
            <a:ext cx="823752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EB1-7891-4C3E-BA65-9E79565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66C-C83F-4EBD-A1C0-4DDCECD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5BC-44FE-42CD-B9A0-605579F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E10-5B01-4B90-A4FF-19345FB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587C2-7332-44FB-A652-3316218E836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093320" cy="7569360"/>
            <a:chOff x="0" y="0"/>
            <a:chExt cx="10093320" cy="7569360"/>
          </a:xfrm>
        </p:grpSpPr>
        <p:sp>
          <p:nvSpPr>
            <p:cNvPr id="42" name=""/>
            <p:cNvSpPr/>
            <p:nvPr/>
          </p:nvSpPr>
          <p:spPr>
            <a:xfrm>
              <a:off x="0" y="7326360"/>
              <a:ext cx="8901000" cy="2430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901000" cy="216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767800" y="0"/>
              <a:ext cx="1320840" cy="75549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651880" y="1080"/>
              <a:ext cx="1422360" cy="6950520"/>
              <a:chOff x="8651880" y="1080"/>
              <a:chExt cx="1422360" cy="695052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239400" y="1080"/>
                <a:ext cx="834840" cy="2497680"/>
                <a:chOff x="9239400" y="1080"/>
                <a:chExt cx="834840" cy="249768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9593280" y="1080"/>
                  <a:ext cx="303120" cy="298800"/>
                  <a:chOff x="9593280" y="1080"/>
                  <a:chExt cx="303120" cy="29880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9593280" y="1080"/>
                    <a:ext cx="303120" cy="298800"/>
                    <a:chOff x="9593280" y="1080"/>
                    <a:chExt cx="303120" cy="29880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9635760" y="-41400"/>
                      <a:ext cx="217800" cy="303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9646200" y="102240"/>
                      <a:ext cx="150480" cy="24444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9726480" y="144000"/>
                    <a:ext cx="25560" cy="255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9646560" y="828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9734400" y="67680"/>
                    <a:ext cx="65160" cy="367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9802080" y="125640"/>
                    <a:ext cx="219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9725040" y="212400"/>
                    <a:ext cx="6660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9663120" y="187560"/>
                    <a:ext cx="3816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39400" y="2523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5280" y="2523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491760" y="5889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407520" y="100800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55280" y="92232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574200" y="134316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755280" y="1762200"/>
                  <a:ext cx="3189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9755280" y="218268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8651880" y="1763640"/>
                <a:ext cx="907920" cy="5187960"/>
                <a:chOff x="8651880" y="1763640"/>
                <a:chExt cx="907920" cy="518796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988480" y="17636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072720" y="210024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988480" y="27716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9239400" y="302436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820000" y="319248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904240" y="352728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9239400" y="361152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56600" y="41162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736120" y="386388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736120" y="428472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988480" y="453564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56600" y="24354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651880" y="47880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736120" y="537696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156600" y="57960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736120" y="596412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904240" y="62150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736120" y="663588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9072720" y="646740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8767800" y="5411880"/>
              <a:ext cx="1308240" cy="213336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51960" y="5354640"/>
              <a:ext cx="1339920" cy="22003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39360" y="3106800"/>
              <a:ext cx="1353960" cy="444492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29720" y="3900600"/>
              <a:ext cx="1074600" cy="24033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88560" y="471600"/>
              <a:ext cx="1003320" cy="5559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94680" y="289080"/>
              <a:ext cx="998640" cy="33811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56640" y="0"/>
              <a:ext cx="630360" cy="369108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56640" y="1440"/>
              <a:ext cx="325440" cy="3691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70960" y="1440"/>
              <a:ext cx="93600" cy="75549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72480" y="6867360"/>
              <a:ext cx="1279440" cy="67788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773240" y="3656160"/>
              <a:ext cx="7554960" cy="242640"/>
            </a:xfrm>
            <a:prstGeom prst="pie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920" y="6880320"/>
            <a:ext cx="1965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7600" y="6888240"/>
            <a:ext cx="3809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4"/>
          </p:nvPr>
        </p:nvSpPr>
        <p:spPr>
          <a:xfrm>
            <a:off x="6467400" y="6888240"/>
            <a:ext cx="193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8D8202-627C-4D45-B19A-C2D43187ECF4}" type="slidenum">
              <a:rPr b="0" lang="es-E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image" Target="../media/image11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7.jpeg"/><Relationship Id="rId4" Type="http://schemas.openxmlformats.org/officeDocument/2006/relationships/image" Target="../media/image31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54120" y="941400"/>
            <a:ext cx="7678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TEMA 5: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LA NUTRICIÓN EN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LOS ANIMALES.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EL APARATO DIGESTI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3320" y="4284720"/>
            <a:ext cx="62182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79760" y="4017960"/>
            <a:ext cx="420048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vertebrados: Lengua y dientes (mamíferos) o pico córneo (aves, tortugas). Tipos de d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aninos afilados y muelas carnic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 rumiantes: molares anchos y planos. Ausencia de can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 roedores: Incisivos cortantes de crecimiento indefi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mnívoros: Incisivos, caninos y mo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64080" y="1319040"/>
            <a:ext cx="3983040" cy="1838520"/>
            <a:chOff x="4564080" y="1319040"/>
            <a:chExt cx="3983040" cy="1838520"/>
          </a:xfrm>
        </p:grpSpPr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4564080" y="1319040"/>
              <a:ext cx="398304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564080" y="1319040"/>
              <a:ext cx="3983040" cy="18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564080" y="3303720"/>
            <a:ext cx="3963960" cy="1684080"/>
            <a:chOff x="4564080" y="3303720"/>
            <a:chExt cx="3963960" cy="1684080"/>
          </a:xfrm>
        </p:grpSpPr>
        <p:pic>
          <p:nvPicPr>
            <p:cNvPr id="205" name="" descr=""/>
            <p:cNvPicPr/>
            <p:nvPr/>
          </p:nvPicPr>
          <p:blipFill>
            <a:blip r:embed="rId7"/>
            <a:stretch/>
          </p:blipFill>
          <p:spPr>
            <a:xfrm>
              <a:off x="4564080" y="3303720"/>
              <a:ext cx="396396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564080" y="3303720"/>
              <a:ext cx="3963960" cy="16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405320" y="5129280"/>
            <a:ext cx="2217600" cy="1900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6627960" y="5129280"/>
            <a:ext cx="3452760" cy="1992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850240" y="1795320"/>
            <a:ext cx="1032120" cy="714600"/>
          </a:xfrm>
          <a:prstGeom prst="leftArrow">
            <a:avLst>
              <a:gd name="adj1" fmla="val 50000"/>
              <a:gd name="adj2" fmla="val 36108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O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850240" y="3621240"/>
            <a:ext cx="1032120" cy="714240"/>
          </a:xfrm>
          <a:prstGeom prst="leftArrow">
            <a:avLst>
              <a:gd name="adj1" fmla="val 50000"/>
              <a:gd name="adj2" fmla="val 36127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BA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3138120" y="6165360"/>
            <a:ext cx="1033560" cy="714600"/>
          </a:xfrm>
          <a:prstGeom prst="leftArrow">
            <a:avLst>
              <a:gd name="adj1" fmla="val 50000"/>
              <a:gd name="adj2" fmla="val 36159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34080" y="6321600"/>
            <a:ext cx="10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6120" y="1546200"/>
            <a:ext cx="8013960" cy="5489640"/>
            <a:chOff x="276120" y="1546200"/>
            <a:chExt cx="8013960" cy="54896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76120" y="1546200"/>
              <a:ext cx="8013960" cy="54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76120" y="1546200"/>
              <a:ext cx="8013960" cy="54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ALMACENAMIENTO Y TRANSP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44920" y="1762200"/>
            <a:ext cx="398772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Esófa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ubo recto que transporta el alimento a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Buch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ilatación del esófago de algunos animales (Anélidos, insectos, aves) para almacenamiento temporal del al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96920" y="1636560"/>
            <a:ext cx="4124160" cy="2916360"/>
            <a:chOff x="196920" y="1636560"/>
            <a:chExt cx="4124160" cy="2916360"/>
          </a:xfrm>
        </p:grpSpPr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196920" y="1636560"/>
              <a:ext cx="412416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96920" y="1636560"/>
              <a:ext cx="4124160" cy="29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5288040"/>
            <a:ext cx="5827680" cy="18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072120" y="5367240"/>
            <a:ext cx="3768840" cy="16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0520" y="1762200"/>
            <a:ext cx="39862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3366ff"/>
                </a:solidFill>
                <a:latin typeface="Arial"/>
              </a:rPr>
              <a:t>Estómag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latación del tubo digestivo. Los alimentos se almacenan temporalmente y se mezclan con los jugos gástricos gracias a los movimientos peristál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405320" y="2224080"/>
            <a:ext cx="4678200" cy="3741840"/>
            <a:chOff x="4405320" y="2224080"/>
            <a:chExt cx="4678200" cy="374184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4405320" y="2224080"/>
              <a:ext cx="4678200" cy="37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405320" y="2224080"/>
              <a:ext cx="4678200" cy="37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0520" y="1762200"/>
            <a:ext cx="398628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Mollej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esente en animales que no tienen dientes o no mastican el alimento (anélidos, aves, algunos reptiles). Es un preestómago muscular que tritura el alimento. El animal traga pied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rustáceos tiene piezas calcáreas (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molinillo gástr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insectos tiene dientes quitin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167360" y="1557360"/>
            <a:ext cx="3963960" cy="2254320"/>
            <a:chOff x="4167360" y="1557360"/>
            <a:chExt cx="3963960" cy="225432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4167360" y="1557360"/>
              <a:ext cx="396396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67360" y="1557360"/>
              <a:ext cx="396396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792680" y="4017960"/>
            <a:ext cx="3056040" cy="3251160"/>
            <a:chOff x="4792680" y="4017960"/>
            <a:chExt cx="3056040" cy="3251160"/>
          </a:xfrm>
        </p:grpSpPr>
        <p:pic>
          <p:nvPicPr>
            <p:cNvPr id="235" name="" descr=""/>
            <p:cNvPicPr/>
            <p:nvPr/>
          </p:nvPicPr>
          <p:blipFill>
            <a:blip r:embed="rId5"/>
            <a:stretch/>
          </p:blipFill>
          <p:spPr>
            <a:xfrm>
              <a:off x="4792680" y="4017960"/>
              <a:ext cx="305604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792680" y="4017960"/>
              <a:ext cx="3056040" cy="32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8373960" y="2352600"/>
            <a:ext cx="1430280" cy="773280"/>
          </a:xfrm>
          <a:prstGeom prst="leftArrow">
            <a:avLst>
              <a:gd name="adj1" fmla="val 50000"/>
              <a:gd name="adj2" fmla="val 46241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73960" y="4811760"/>
            <a:ext cx="1430280" cy="772920"/>
          </a:xfrm>
          <a:prstGeom prst="leftArrow">
            <a:avLst>
              <a:gd name="adj1" fmla="val 50000"/>
              <a:gd name="adj2" fmla="val 46262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44920" y="1762200"/>
            <a:ext cx="44053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rumi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n un estómago con varias cavidades con microorganismos capaces de digerir la celul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Rum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: los microorganismos fermentan la celulosa. El bolo se regurgita continúa la mast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Retícu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redec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Oma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libro): se produce absorción de agua, sales minerales y ácidos gr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Aboma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auténtico estómago, con glándulas gástr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herbívoros no rumi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n un gran </a:t>
            </a: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cie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onde fermentan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0" y="1716120"/>
            <a:ext cx="4392720" cy="2851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196920" y="4653000"/>
            <a:ext cx="420192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DIGESTIÓN FINAL Y ABSORCIÓN DE 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0520" y="1762200"/>
            <a:ext cx="398628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Intestino delg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produce la digestión química y la absorción de los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gestión se produce por la secreción de la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células intesti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por la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glándulas anej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n vertebrados, </a:t>
            </a:r>
            <a:r>
              <a:rPr b="0" lang="es-ES" sz="1800" spc="-1" strike="noStrike">
                <a:solidFill>
                  <a:srgbClr val="666729"/>
                </a:solidFill>
                <a:latin typeface="Arial"/>
              </a:rPr>
              <a:t>híg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666729"/>
                </a:solidFill>
                <a:latin typeface="Arial"/>
              </a:rPr>
              <a:t>páncre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ele tener especializaciones para aumentar su superfic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vellos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y </a:t>
            </a: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microvellosidad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válvula espir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tifloso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n bacterias simbiontes que forman la flora gastrointest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167360" y="1874880"/>
            <a:ext cx="3963960" cy="3346560"/>
            <a:chOff x="4167360" y="1874880"/>
            <a:chExt cx="3963960" cy="3346560"/>
          </a:xfrm>
        </p:grpSpPr>
        <p:pic>
          <p:nvPicPr>
            <p:cNvPr id="246" name="" descr=""/>
            <p:cNvPicPr/>
            <p:nvPr/>
          </p:nvPicPr>
          <p:blipFill>
            <a:blip r:embed="rId8"/>
            <a:stretch/>
          </p:blipFill>
          <p:spPr>
            <a:xfrm>
              <a:off x="4167360" y="1874880"/>
              <a:ext cx="3963960" cy="33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167360" y="1874880"/>
              <a:ext cx="3963960" cy="33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302680" y="3144960"/>
            <a:ext cx="1773360" cy="2773080"/>
            <a:chOff x="8302680" y="3144960"/>
            <a:chExt cx="1773360" cy="2773080"/>
          </a:xfrm>
        </p:grpSpPr>
        <p:pic>
          <p:nvPicPr>
            <p:cNvPr id="249" name="" descr=""/>
            <p:cNvPicPr/>
            <p:nvPr/>
          </p:nvPicPr>
          <p:blipFill>
            <a:blip r:embed="rId9"/>
            <a:stretch/>
          </p:blipFill>
          <p:spPr>
            <a:xfrm>
              <a:off x="8302680" y="3144960"/>
              <a:ext cx="1773360" cy="27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302680" y="3144960"/>
              <a:ext cx="1773360" cy="27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4325760" y="5556240"/>
            <a:ext cx="3730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ABSORCIÓN DE AGUA Y FORMACIÓN DE H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0520" y="4324320"/>
            <a:ext cx="81421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Intestino gru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muchos animales la porción final, el 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e abre a una cavidad llamada 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cloa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junto con el aparato urinario y el gen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especies (aves, reptiles) reabsorben gran cantidad de agua y producen heces muy s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87480" y="1584360"/>
            <a:ext cx="2776320" cy="2568600"/>
            <a:chOff x="987480" y="1584360"/>
            <a:chExt cx="2776320" cy="2568600"/>
          </a:xfrm>
        </p:grpSpPr>
        <p:pic>
          <p:nvPicPr>
            <p:cNvPr id="255" name="" descr=""/>
            <p:cNvPicPr/>
            <p:nvPr/>
          </p:nvPicPr>
          <p:blipFill>
            <a:blip r:embed="rId3"/>
            <a:stretch/>
          </p:blipFill>
          <p:spPr>
            <a:xfrm>
              <a:off x="987480" y="1584360"/>
              <a:ext cx="2776320" cy="25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987480" y="1584360"/>
              <a:ext cx="2776320" cy="25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864480" y="1557360"/>
            <a:ext cx="2438280" cy="2593800"/>
            <a:chOff x="6864480" y="1557360"/>
            <a:chExt cx="2438280" cy="259380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6864480" y="1557360"/>
              <a:ext cx="2438280" cy="25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864480" y="1557360"/>
              <a:ext cx="243828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4006800" y="1557360"/>
            <a:ext cx="2630520" cy="2622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84520" y="3619440"/>
            <a:ext cx="138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9720" y="1874880"/>
            <a:ext cx="9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4.Glándulas digestivas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49658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gástric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intestina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003640" y="1440000"/>
            <a:ext cx="4064040" cy="5756040"/>
            <a:chOff x="5003640" y="1440000"/>
            <a:chExt cx="4064040" cy="575604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5003640" y="1440000"/>
              <a:ext cx="4064040" cy="57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003640" y="1440000"/>
              <a:ext cx="4064040" cy="57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Glándulas salivar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1655640"/>
            <a:ext cx="35640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róti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oreja. Vierten junto al segundo molar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maxi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ling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cima de l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al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tiene amilasa (degrada almidón) y lipasa lingual (degrada grasas), agua, sales, lisozima (bactericida) y mucina (lubrica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835" t="0" r="2835" b="0"/>
          <a:stretch/>
        </p:blipFill>
        <p:spPr>
          <a:xfrm>
            <a:off x="47520" y="2087640"/>
            <a:ext cx="492120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1200" y="49320"/>
            <a:ext cx="82425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LA FUNCIÓN DE NUTRIC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520" y="1762200"/>
            <a:ext cx="81421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o por el cual los animales obtienen la materia y la energía que necesitan para formar sus propias estructuras y realizar sus funciones vi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nimales son heterótrofos: Obtienen la materia orgánica a partir de otros seres v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ses de la nutr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Ingest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y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digest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y transporte de oxíge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Distribu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e 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Metabolis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Transpor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sustancias de des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Elimi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sustancias de des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Glándulas gás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1400" y="1763640"/>
            <a:ext cx="873612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cuatro tipos de cél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contacto con el ácido clorhídrico se transforma 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zima que degrada las proteínas. En el antro pilórico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gástr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sobre algunos líp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arie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ácido clorhíd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u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muc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ectora de la pared d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hormona que estimula la secreción de ácido clorhíd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Glándulas intestinale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90160" y="1871280"/>
            <a:ext cx="48942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Glándulas de Brünn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mu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Glándulas de Lieberkühn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ducen jugo intestinal formado por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disacar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pept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nucle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intesti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27640" y="2376360"/>
            <a:ext cx="4605480" cy="4676760"/>
            <a:chOff x="5327640" y="2376360"/>
            <a:chExt cx="4605480" cy="467676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5327640" y="2376360"/>
              <a:ext cx="4605480" cy="46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327640" y="2376360"/>
              <a:ext cx="4605480" cy="46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El proceso de la degluc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1400" y="1763640"/>
            <a:ext cx="372132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o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oceso voluntario. La lengua comprime el bolo contra el paladar y lo empuja hacia at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farínge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cto ref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El paladar blando se eleva y cierra la cavidad na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La epiglotis desciende y cierra la tráqu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e inicia un movimiento peristáltico que impulsa el bolo hacia la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64000" y="1757520"/>
            <a:ext cx="5415120" cy="5008320"/>
            <a:chOff x="4464000" y="1757520"/>
            <a:chExt cx="5415120" cy="500832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4464000" y="1757520"/>
              <a:ext cx="5415120" cy="50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464000" y="1757520"/>
              <a:ext cx="5415120" cy="50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ígado y 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24000" y="1341360"/>
            <a:ext cx="5816520" cy="5423040"/>
            <a:chOff x="1224000" y="1341360"/>
            <a:chExt cx="5816520" cy="54230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1224000" y="1341360"/>
              <a:ext cx="5816520" cy="54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224000" y="1341360"/>
              <a:ext cx="5816520" cy="54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ígado: funcion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1400" y="1763640"/>
            <a:ext cx="87361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glú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glucólisis, glucogenólisis y gluconeogén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líp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síntesis de colesterol y lipoproteí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proteí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toxin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hor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íntesis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factores de coagu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ósito de muchas sustancias (hierro, vitaminas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eritrocitos envejecidos por las </a:t>
            </a:r>
            <a:r>
              <a:rPr b="0" lang="es-ES" sz="2200" spc="-1" strike="noStrike">
                <a:solidFill>
                  <a:srgbClr val="800080"/>
                </a:solidFill>
                <a:latin typeface="Arial"/>
              </a:rPr>
              <a:t>células de Kup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vitamina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y ex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rrubin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r degradación de la hemoglob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46200" y="1557360"/>
            <a:ext cx="6586560" cy="5184720"/>
            <a:chOff x="1546200" y="1557360"/>
            <a:chExt cx="6586560" cy="51847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1546200" y="1557360"/>
              <a:ext cx="658656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546200" y="1557360"/>
              <a:ext cx="65865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400" y="1763640"/>
            <a:ext cx="405144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ixta: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islotes de Langerha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regulan el metabolismo de los glú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glándula exocrina fabric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enzimas: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tid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nucleasas pancre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bicarbon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41840" y="2111400"/>
            <a:ext cx="4838760" cy="3944880"/>
            <a:chOff x="4641840" y="2111400"/>
            <a:chExt cx="4838760" cy="39448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rcRect l="0" t="0" r="0" b="15533"/>
            <a:stretch/>
          </p:blipFill>
          <p:spPr>
            <a:xfrm>
              <a:off x="4641840" y="2111400"/>
              <a:ext cx="4838760" cy="39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641840" y="2111400"/>
              <a:ext cx="4838760" cy="39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5. La digestión en vertebrado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90160" y="1761840"/>
            <a:ext cx="814068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la bo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el estóm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el intes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 en la boca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0920" y="1719000"/>
            <a:ext cx="81406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igestión mecánica: masticación y trituración del al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igestión química: La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amilasa saliv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ompe los enlaces glucosídicos del almidón y produce malt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41440" y="3600360"/>
            <a:ext cx="5467320" cy="3510000"/>
            <a:chOff x="1441440" y="3600360"/>
            <a:chExt cx="5467320" cy="351000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441440" y="3600360"/>
              <a:ext cx="5467320" cy="35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441440" y="3600360"/>
              <a:ext cx="546732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03520" y="419040"/>
            <a:ext cx="4451400" cy="476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7632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LA  DEGL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19040" y="1847880"/>
            <a:ext cx="3892680" cy="4200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451400" y="2266920"/>
            <a:ext cx="3900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alimentos triturados e insalivados forman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bolo alimentici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se traga en la deglución y pasa al esóf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0520" y="1762200"/>
            <a:ext cx="81421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ceso de transformación de macromoléculas (polisacáridos, proteínas y lípidos) en moléculas más sencillas que pueden ser absorbidas por las cél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 dos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Mecán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: Trocea los alimentos en fragmentos más pequeños y los mezcla con los jugos diges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Quím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: Las enzimas digestivas rompen las moléculas grandes en moléculas peque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 en el estómag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7280" y="1368360"/>
            <a:ext cx="395784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leta la digestión mecánica y continúa la digestión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olo alimenticio se transforma en una papilla llamad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qu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ugo gástrico contie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b80047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ctúa a pH muy ácido. Rompe los enlaces peptídicos de las proteí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b80047"/>
                </a:solidFill>
                <a:latin typeface="Arial"/>
              </a:rPr>
              <a:t>Ácido clorhídrico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porciona el medio ácido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inter pilór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gula el vaciad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405320" y="2033640"/>
            <a:ext cx="5475240" cy="4378320"/>
            <a:chOff x="4405320" y="2033640"/>
            <a:chExt cx="5475240" cy="437832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4405320" y="2033640"/>
              <a:ext cx="5475240" cy="43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405320" y="2033640"/>
              <a:ext cx="547524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800" spc="-1" strike="noStrike">
                <a:solidFill>
                  <a:srgbClr val="666729"/>
                </a:solidFill>
                <a:latin typeface="Arial"/>
              </a:rPr>
              <a:t>Digestión en el intestino delga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0520" y="1212840"/>
            <a:ext cx="43513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ierten en el duodeno, donde se mezclan con el quimo y forman el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qui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lándulas intestinales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intesti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lmid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Disacar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isacá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Lip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íp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Tripsina y 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Pept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pépt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Nucle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ác. nucle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641840" y="1909800"/>
            <a:ext cx="5434200" cy="4183200"/>
            <a:chOff x="4641840" y="1909800"/>
            <a:chExt cx="5434200" cy="418320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4641840" y="1909800"/>
              <a:ext cx="5434200" cy="41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641840" y="1909800"/>
              <a:ext cx="5434200" cy="41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6. Absorción: intestino del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1400" y="1763640"/>
            <a:ext cx="775188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 de sustancias desde el tubo digestivo hacia la sangre y la linfa, por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difusión simp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difusión facilit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transporte ac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amente se absorben 9 litros de agua que contienen 500 g de nutr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penetran en los capilares sanguíneos y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os lleva al 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rasas penetran en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sos quilíf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pasan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red linf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llosidades y microvellosidades intestinales proporcionan una superficie de absorción de 30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Absorción en el intestino delgado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0520" y="1510920"/>
            <a:ext cx="554184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Glúcidos sencill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absorben por transporte activo y difusión facil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Aminoá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or transporte activo pasan a los capilares de la vena p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Ácidos grasos, colesterol, glicerina y vitaminas liposolub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, D, E, K): Entran en las células por difusión y se unen a proteínas para formar quilomicrones, que pasan a los vasos quilíf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Vitaminas hidrosolubl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B y C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 Se absorben en el intestino del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0" t="0" r="5012" b="0"/>
          <a:stretch/>
        </p:blipFill>
        <p:spPr>
          <a:xfrm>
            <a:off x="5881680" y="1295280"/>
            <a:ext cx="41972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Vellosidades intestinal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37080" y="2668680"/>
            <a:ext cx="3963960" cy="2852640"/>
            <a:chOff x="5437080" y="2668680"/>
            <a:chExt cx="3963960" cy="285264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5437080" y="2668680"/>
              <a:ext cx="396396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437080" y="2668680"/>
              <a:ext cx="3963960" cy="28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0" y="1557360"/>
            <a:ext cx="6783480" cy="5727600"/>
            <a:chOff x="0" y="1557360"/>
            <a:chExt cx="6783480" cy="5727600"/>
          </a:xfrm>
        </p:grpSpPr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0" y="1557360"/>
              <a:ext cx="6783480" cy="57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1557360"/>
              <a:ext cx="6783480" cy="57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Absorción en el intestino gru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6000" y="1967040"/>
            <a:ext cx="42847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,5 m de longitud y 6,5 cm de diá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l se produce absor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ones inorgá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formación y elimina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heces fe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abundant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lora bacteri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fermenta residuos no digeridos, y sintetiz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vitaminas 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184720" y="2232000"/>
            <a:ext cx="4197240" cy="3881520"/>
            <a:chOff x="5184720" y="2232000"/>
            <a:chExt cx="4197240" cy="388152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5184720" y="2232000"/>
              <a:ext cx="419724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84720" y="2232000"/>
              <a:ext cx="4197240" cy="38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eces fecal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1763640"/>
            <a:ext cx="452772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as por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restos de alimen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absorbidos (celulosa)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cél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epitelio intestinal,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acteri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test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racterístico debido a la fermentación pútrida de las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empo que pasan en el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6633"/>
                </a:solidFill>
                <a:latin typeface="Arial"/>
              </a:rPr>
              <a:t>Defe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ínter anal inter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relaja involuntari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inter anal exter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uede retener las heces voluntariamente de forma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270400" y="1557360"/>
            <a:ext cx="4021200" cy="5235480"/>
            <a:chOff x="5270400" y="1557360"/>
            <a:chExt cx="4021200" cy="52354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5270400" y="1557360"/>
              <a:ext cx="402120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270400" y="1557360"/>
              <a:ext cx="4021200" cy="52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1200" y="90360"/>
            <a:ext cx="824256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DIGESTIÓN INTRACEL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íf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hacen la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digestión in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élulas especiales llamadas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coanoci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un flagelo y una  estructura como un col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limento entra por los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poros inha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sa a los coanocitos por </a:t>
            </a:r>
            <a:r>
              <a:rPr b="0" lang="es-ES" sz="2000" spc="-1" strike="noStrike">
                <a:solidFill>
                  <a:srgbClr val="666729"/>
                </a:solidFill>
                <a:latin typeface="Arial"/>
              </a:rPr>
              <a:t>endocito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duce la digestión y los residuos se expulsan por </a:t>
            </a:r>
            <a:r>
              <a:rPr b="0" lang="es-ES" sz="2000" spc="-1" strike="noStrike">
                <a:solidFill>
                  <a:srgbClr val="666729"/>
                </a:solidFill>
                <a:latin typeface="Arial"/>
              </a:rPr>
              <a:t>exocito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gua sale por el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óscu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118120" y="1398600"/>
            <a:ext cx="2886120" cy="2208240"/>
            <a:chOff x="5118120" y="1398600"/>
            <a:chExt cx="2886120" cy="220824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5118120" y="1398600"/>
              <a:ext cx="288612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18120" y="1398600"/>
              <a:ext cx="2886120" cy="22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02040" y="3780000"/>
            <a:ext cx="3568680" cy="3551040"/>
            <a:chOff x="4802040" y="3780000"/>
            <a:chExt cx="3568680" cy="355104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4802040" y="3780000"/>
              <a:ext cx="3568680" cy="35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02040" y="3780000"/>
              <a:ext cx="3568680" cy="35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DIGESTIÓN EN UNA CAVIDAD GASTROVAS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120" y="4732200"/>
            <a:ext cx="814248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a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nidar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telmin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cavidad gastrovas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 un único orificio que hace las funciones de boca y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duce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digestión ex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s células vierten los enzimas digestivos en esta cavidad y se produce la di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fragmentos predigeridos entran en las células que revisten la cavidad, donde se produce la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digestión in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72120" y="922320"/>
            <a:ext cx="3552840" cy="4044960"/>
            <a:chOff x="6072120" y="922320"/>
            <a:chExt cx="3552840" cy="4044960"/>
          </a:xfrm>
        </p:grpSpPr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6072120" y="922320"/>
              <a:ext cx="3552840" cy="40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072120" y="922320"/>
              <a:ext cx="3552840" cy="40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6120" y="1636560"/>
            <a:ext cx="4122720" cy="2892600"/>
            <a:chOff x="276120" y="1636560"/>
            <a:chExt cx="4122720" cy="2892600"/>
          </a:xfrm>
        </p:grpSpPr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276120" y="1636560"/>
              <a:ext cx="4122720" cy="28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76120" y="1636560"/>
              <a:ext cx="4122720" cy="28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DIGESTIÓN EN UN TU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1762200"/>
            <a:ext cx="35593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dos aberturas, boca y ano, y permite la alimentación contí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que cada tramo se especialice en funciones distintas. Es más efic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Muc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epitelial secre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Submuc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conju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Mus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muscular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Ser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Epitelio de revest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245120" y="1763640"/>
            <a:ext cx="5829120" cy="4653000"/>
            <a:chOff x="4245120" y="1763640"/>
            <a:chExt cx="5829120" cy="4653000"/>
          </a:xfrm>
        </p:grpSpPr>
        <p:pic>
          <p:nvPicPr>
            <p:cNvPr id="173" name="" descr=""/>
            <p:cNvPicPr/>
            <p:nvPr/>
          </p:nvPicPr>
          <p:blipFill>
            <a:blip r:embed="rId8"/>
            <a:stretch/>
          </p:blipFill>
          <p:spPr>
            <a:xfrm>
              <a:off x="4245120" y="1763640"/>
              <a:ext cx="582912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45120" y="1763640"/>
              <a:ext cx="582912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ONES DEL TUBO DIGES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6120" y="1762200"/>
            <a:ext cx="815652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recepto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Boca con piezas bucales y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almacenamiento y transpor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ófago, b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molido y digestión in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ómago, molle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digestión final y absor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intestino con vellosidades y microvello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absorción de agua y expulsión de restos no diger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Intestino grueso y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71720" y="5129280"/>
            <a:ext cx="6740280" cy="2182680"/>
            <a:chOff x="1071720" y="5129280"/>
            <a:chExt cx="6740280" cy="218268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1071720" y="5129280"/>
              <a:ext cx="674028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071720" y="5129280"/>
              <a:ext cx="6740280" cy="21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ringe 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ezas bucales adaptadas al tipo de al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spiritrompa para absorber néctar en las marip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erforador-chupador en mosq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amedor-chupador en mo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50000" y="1762200"/>
            <a:ext cx="2971800" cy="2388960"/>
            <a:chOff x="4950000" y="1762200"/>
            <a:chExt cx="2971800" cy="2388960"/>
          </a:xfrm>
        </p:grpSpPr>
        <p:pic>
          <p:nvPicPr>
            <p:cNvPr id="183" name="" descr=""/>
            <p:cNvPicPr/>
            <p:nvPr/>
          </p:nvPicPr>
          <p:blipFill>
            <a:blip r:embed="rId8"/>
            <a:stretch/>
          </p:blipFill>
          <p:spPr>
            <a:xfrm>
              <a:off x="4950000" y="1762200"/>
              <a:ext cx="2971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50000" y="1762200"/>
              <a:ext cx="2971800" cy="23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040360" y="4335480"/>
            <a:ext cx="799920" cy="2390760"/>
            <a:chOff x="5040360" y="4335480"/>
            <a:chExt cx="799920" cy="2390760"/>
          </a:xfrm>
        </p:grpSpPr>
        <p:pic>
          <p:nvPicPr>
            <p:cNvPr id="186" name="" descr=""/>
            <p:cNvPicPr/>
            <p:nvPr/>
          </p:nvPicPr>
          <p:blipFill>
            <a:blip r:embed="rId9"/>
            <a:stretch/>
          </p:blipFill>
          <p:spPr>
            <a:xfrm>
              <a:off x="5040360" y="4335480"/>
              <a:ext cx="79992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040360" y="4335480"/>
              <a:ext cx="79992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6262560" y="4255920"/>
            <a:ext cx="1887840" cy="24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epredación: Pico córneo, piezas mordedora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: Rádula, linterna de Aristót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Filtradores: Bival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087800" y="1319040"/>
            <a:ext cx="2320920" cy="2389320"/>
            <a:chOff x="4087800" y="1319040"/>
            <a:chExt cx="2320920" cy="238932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4087800" y="1319040"/>
              <a:ext cx="232092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87800" y="1319040"/>
              <a:ext cx="23209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07160" y="1239840"/>
            <a:ext cx="3144960" cy="2389320"/>
            <a:chOff x="6707160" y="1239840"/>
            <a:chExt cx="3144960" cy="2389320"/>
          </a:xfrm>
        </p:grpSpPr>
        <p:pic>
          <p:nvPicPr>
            <p:cNvPr id="195" name="" descr=""/>
            <p:cNvPicPr/>
            <p:nvPr/>
          </p:nvPicPr>
          <p:blipFill>
            <a:blip r:embed="rId5"/>
            <a:stretch/>
          </p:blipFill>
          <p:spPr>
            <a:xfrm>
              <a:off x="6707160" y="1239840"/>
              <a:ext cx="314496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707160" y="1239840"/>
              <a:ext cx="31449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133800" y="5049720"/>
            <a:ext cx="2566800" cy="2208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5913360" y="3780000"/>
            <a:ext cx="3927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5:25:10Z</dcterms:created>
  <dc:creator/>
  <dc:description/>
  <dc:language>en-US</dc:language>
  <cp:lastModifiedBy/>
  <cp:revision>1</cp:revision>
  <dc:subject/>
  <dc:title/>
</cp:coreProperties>
</file>