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24F32-7645-4EDD-A65F-91BBC070D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BB1E6-D17D-4C51-989A-62DD58F00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9EE89-AC07-4572-9C56-1E5673C0C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866F1-6F61-4469-A7AE-C79944D63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21493-453B-41CE-989C-A8A8934ED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2B763-78D9-415D-B50F-9FFA210BD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FEECD-CBD9-461C-869B-D98A570DF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49D01-4677-4279-B74F-3743BD86C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ED5FE-C9ED-450E-AA69-FCD10F16F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54F41-FAA8-49DF-9DA8-0104540B7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03FA7-E943-4F09-97B7-043F7A35E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91862-83BC-45CC-8B39-1595C0366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C54AF-1121-4968-8483-F08FE0DD6B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250560" y="1915920"/>
            <a:ext cx="871380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cc"/>
                </a:solidFill>
                <a:latin typeface="Arial"/>
              </a:rPr>
              <a:t>El sistema nervioso central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cc"/>
                </a:solidFill>
                <a:latin typeface="Arial"/>
              </a:rPr>
              <a:t>El encéfalo y la  médula espinal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00cc"/>
                </a:solidFill>
                <a:latin typeface="Arial"/>
              </a:rPr>
              <a:t>El sistema nervioso central</a:t>
            </a:r>
            <a:br>
              <a:rPr sz="3600"/>
            </a:br>
            <a:r>
              <a:rPr b="1" lang="es-ES" sz="3600" spc="-1" strike="noStrike">
                <a:solidFill>
                  <a:srgbClr val="cc00cc"/>
                </a:solidFill>
                <a:latin typeface="Arial"/>
              </a:rPr>
              <a:t>El encéfalo anterior o Prosencéfal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 la corteza se pueden distingui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 zona de asoci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 zona sens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 zona moto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Z.asociacion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: Recoge información sensorial externa y la compara con la almacenada (función del lenguaje, creatividad, aprendizaje y memor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Z. sensorial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moto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stán localizadas en las diferentes partes del cerebro interrelacionadas con las diferentes partes del cuerp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00cc"/>
                </a:solidFill>
                <a:latin typeface="Arial"/>
              </a:rPr>
              <a:t>El sistema nervioso central</a:t>
            </a:r>
            <a:br>
              <a:rPr sz="3600"/>
            </a:br>
            <a:r>
              <a:rPr b="1" lang="es-ES" sz="3600" spc="-1" strike="noStrike">
                <a:solidFill>
                  <a:srgbClr val="cc00cc"/>
                </a:solidFill>
                <a:latin typeface="Arial"/>
              </a:rPr>
              <a:t>El encéfalo anterior o Prosencéfal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l 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hemisfero izquierdo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o cerebro lógico: el analítico y verbal. Procesa información en fases lógicas, de manera lineal, fragmentaria y secuenci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l 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hemisferio derecho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o cerebro artístico: No procesa de forma analítica, sino de manera glob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El caso de Phineas Cage</a:t>
            </a:r>
            <a:br>
              <a:rPr sz="4000"/>
            </a:b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Phineas P. Gage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(1823 – 21 de mayo, 1860 fue un obrero de ferrocarriles, quien debido a un accidente, sufrió daños severos en el cerebro, específicamente en parte del lóbulo frontal. Gage sufrió cambios notorios en su personalidad y temperamento, lo que se consideró como evidencia de que los lóbulos frontales eran los encargados de procesos relacionados con las emociones, la personalidad y las funciones ejecutivas en gener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4642920" y="1628640"/>
            <a:ext cx="4038840" cy="45259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611280" y="1628640"/>
            <a:ext cx="3552840" cy="45468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4643280" y="1628640"/>
            <a:ext cx="410544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00cc"/>
                </a:solidFill>
                <a:latin typeface="Arial"/>
              </a:rPr>
              <a:t>El sistema nervioso central</a:t>
            </a:r>
            <a:br>
              <a:rPr sz="3600"/>
            </a:br>
            <a:r>
              <a:rPr b="1" lang="es-ES" sz="3600" spc="-1" strike="noStrike">
                <a:solidFill>
                  <a:srgbClr val="cc00cc"/>
                </a:solidFill>
                <a:latin typeface="Arial"/>
              </a:rPr>
              <a:t>El encéfalo medio o Mesencéfal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n el  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mesencéfalo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se encuentr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l </a:t>
            </a:r>
            <a:r>
              <a:rPr b="1" i="1" lang="es-ES" sz="2800" spc="-1" strike="noStrike">
                <a:solidFill>
                  <a:srgbClr val="000000"/>
                </a:solidFill>
                <a:latin typeface="Arial"/>
              </a:rPr>
              <a:t>acueducto de Silvio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lleva el líquido cefalorraquídeo desde el tercer al cuarto ventrícul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os </a:t>
            </a:r>
            <a:r>
              <a:rPr b="1" i="1" lang="es-ES" sz="2800" spc="-1" strike="noStrike">
                <a:solidFill>
                  <a:srgbClr val="000000"/>
                </a:solidFill>
                <a:latin typeface="Arial"/>
              </a:rPr>
              <a:t>tubérculos cuadrigeminos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que controlan relacionados con el sentido de la vista y los movimientos que responden a estímulos auditiv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00cc"/>
                </a:solidFill>
                <a:latin typeface="Arial"/>
              </a:rPr>
              <a:t>El sistema nervioso central. El encéfalo posterior o Rombencéfal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9280" y="1700280"/>
            <a:ext cx="3859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l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Rombencéfalo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es una expansión de la médula espinal y está formado po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El metencéfalo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que forma el </a:t>
            </a:r>
            <a:r>
              <a:rPr b="1" i="1" lang="es-ES" sz="2800" spc="-1" strike="noStrike">
                <a:solidFill>
                  <a:srgbClr val="000000"/>
                </a:solidFill>
                <a:latin typeface="Arial"/>
              </a:rPr>
              <a:t>cerebelo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y la </a:t>
            </a:r>
            <a:r>
              <a:rPr b="1" i="1" lang="es-ES" sz="2800" spc="-1" strike="noStrike">
                <a:solidFill>
                  <a:srgbClr val="000000"/>
                </a:solidFill>
                <a:latin typeface="Arial"/>
              </a:rPr>
              <a:t>protuberanc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El mielencéfalo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que forma el </a:t>
            </a:r>
            <a:r>
              <a:rPr b="1" i="1" lang="es-ES" sz="2800" spc="-1" strike="noStrike">
                <a:solidFill>
                  <a:srgbClr val="000000"/>
                </a:solidFill>
                <a:latin typeface="Arial"/>
              </a:rPr>
              <a:t>bulbo raquídeo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3924360" y="2060640"/>
            <a:ext cx="4859280" cy="316872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8028000" y="4437000"/>
            <a:ext cx="914400" cy="28908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V ventrícu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804000" y="4437000"/>
            <a:ext cx="122400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00cc"/>
                </a:solidFill>
                <a:latin typeface="Arial"/>
              </a:rPr>
              <a:t>El sistema nervioso central. El encéfalo posterior o Rombencéfal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40384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EL CEREBEL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art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Vermi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obulos cerebelos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Función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l cerebelo es un órgano encargado del control de la motricidad y está relacionado con ciertas funciones cognitivas como la atención, el procesamiento del lenguaje, la música y el aprendizaj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5003640" y="2276640"/>
            <a:ext cx="4140360" cy="36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00cc"/>
                </a:solidFill>
                <a:latin typeface="Arial"/>
              </a:rPr>
              <a:t>El sistema nervioso central. El encéfalo posterior o Rombencéfal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e encarga de controlar y regular el equilibrio corporal y los movimientos ocula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Regular los movimientos de las extremidades y el tron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ercepción visuoespa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rocesamiento lingüíst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Modulación de las emo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lanificación general de actividades motoras secuenciadas y el aprendizaje mo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00cc"/>
                </a:solidFill>
                <a:latin typeface="Arial"/>
              </a:rPr>
              <a:t>El sistema nervioso central. El encéfalo posterior o Rombencéfal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8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2. El Pu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ente de Varolio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es una protuberancia que está formada por fibras y conecta los hemisferios cerebelos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3. El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Bulbo raquídeo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está situado entre la médula espinal y el encéfalo y su funciones s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l control de las funciones viscerales involuntarias: El ritmo cardiaco, el respiratorio, el reflejo de la deglución, el vómito y la dilatación de los vasos sanguíneos y fibras muscular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642920" y="162864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716360" y="1628640"/>
            <a:ext cx="4427640" cy="44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cc"/>
                </a:solidFill>
                <a:latin typeface="Arial"/>
              </a:rPr>
              <a:t>El sistema nervioso central:</a:t>
            </a:r>
            <a:br>
              <a:rPr sz="4000"/>
            </a:br>
            <a:r>
              <a:rPr b="1" lang="en-US" sz="4000" spc="-1" strike="noStrike">
                <a:solidFill>
                  <a:srgbClr val="cc00cc"/>
                </a:solidFill>
                <a:latin typeface="Arial"/>
              </a:rPr>
              <a:t>La médula espin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médula espi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forma parte del siste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nervioso central y 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ncuentra dentro de 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olumna vertebr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 la altura lumbar, 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forma una ramificación 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ésta llamada cola 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aball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l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epéndimo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es un ca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or el que fluye el líqui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efaloraquíde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859280" y="1700280"/>
            <a:ext cx="414972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cc"/>
                </a:solidFill>
                <a:latin typeface="Arial"/>
              </a:rPr>
              <a:t>El sistema nervioso central:</a:t>
            </a:r>
            <a:br>
              <a:rPr sz="4000"/>
            </a:br>
            <a:r>
              <a:rPr b="1" lang="en-US" sz="4000" spc="-1" strike="noStrike">
                <a:solidFill>
                  <a:srgbClr val="cc00cc"/>
                </a:solidFill>
                <a:latin typeface="Arial"/>
              </a:rPr>
              <a:t>La médula espin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8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 divide en dos surcos y en ello se distingue la materia gris de la materia blan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materia blanca está formada por los axones que forman fibras ascendentes (hacia el encéfalo) y descendentes (hacia los órgano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materia gris la forman los cuerpos de las neuronas (soma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643280" y="1628640"/>
            <a:ext cx="40388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858920" y="1628640"/>
            <a:ext cx="3822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4859280" y="1628640"/>
            <a:ext cx="428472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cc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cc00cc"/>
                </a:solidFill>
                <a:latin typeface="Arial"/>
              </a:rPr>
              <a:t>El sistema nervioso central:</a:t>
            </a:r>
            <a:br>
              <a:rPr sz="4000"/>
            </a:br>
            <a:r>
              <a:rPr b="1" lang="en-US" sz="4000" spc="-1" strike="noStrike">
                <a:solidFill>
                  <a:srgbClr val="cc00cc"/>
                </a:solidFill>
                <a:latin typeface="Arial"/>
              </a:rPr>
              <a:t>El encéfalo y la médula espinal</a:t>
            </a:r>
            <a:r>
              <a:rPr b="1" lang="en-US" sz="4400" spc="-1" strike="noStrike">
                <a:solidFill>
                  <a:srgbClr val="cc00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 sistema nervioso central lo forma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 encéfal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médula espi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cc"/>
                </a:solidFill>
                <a:latin typeface="Arial"/>
              </a:rPr>
              <a:t>El sistema nervioso central:</a:t>
            </a:r>
            <a:br>
              <a:rPr sz="4000"/>
            </a:br>
            <a:r>
              <a:rPr b="1" lang="en-US" sz="4000" spc="-1" strike="noStrike">
                <a:solidFill>
                  <a:srgbClr val="cc00cc"/>
                </a:solidFill>
                <a:latin typeface="Arial"/>
              </a:rPr>
              <a:t>La médula espin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05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n la médula existen 31 nervios espinales o raquídeos  que salen de su parte dorsal y ventral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8 cervic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12 dors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5 lumba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6 sacros (cola de caballo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n cada raiz dorsal existe un ganglio espinal donde se encuentran los cuerpos neurona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Raices dorsale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: Vía de entrada de estimulos sensitivos a la médul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Raices ventrale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: Es la vía de salida de estímulos motor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5651640" y="1773360"/>
            <a:ext cx="3240000" cy="43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cc"/>
                </a:solidFill>
                <a:latin typeface="Arial"/>
              </a:rPr>
              <a:t>El sistema nervioso perifér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l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sistema nervioso periférico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o SNP, es el sistema nervioso formado por nervios y neuronas que residen o extienden fuera del sistema nervioso central, hacia los miembros y órgano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 diferencia con el sistema nervioso central está en que el sistema nervioso periférico no está protegido por huesos o por barrera hematoencefálica, permitiendo la exposición a toxinas y a daños mecánic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s el que coordina, regula e integra nuestros órganos internos, por medio de respuestas inconscient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os nervios están formados por gran cantidad de fibras nerviosas (axones), las cuales se cubren de tres membrana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Endoneuro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cubre el ax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Perineuro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cubre un haz de fibr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Epineuro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cubre varios haces de fibras y vasos sanguíne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cc"/>
                </a:solidFill>
                <a:latin typeface="Arial"/>
              </a:rPr>
              <a:t>El sistema nervioso perifér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ún el sentido del impulso, los nervios se divid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rvios sensitivos: Conducen impulsos desde los receptores hasta los centros nervios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rvios motores: Conducen impulsos desde los centros nerviosos a los efector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rvios mixtos: Tienen fibras sensitivas y moto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cc"/>
                </a:solidFill>
                <a:latin typeface="Arial"/>
              </a:rPr>
              <a:t>El sistema nervioso perifér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Nervios crane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Nervio olfatorio (par craneal I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Nervio óptico (par craneal II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Nervio oculomotor (par craneal III) o nervio motor ocular común 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Nervio troclear (par craneal IV) o nervio patético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Nervio trigémino (par craneal V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Nervio abducens (par craneal VI) o nervio motor ocular externo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Nervio facial (par craneal VII) o nervio intermediofacial..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Nervio vestibulococlear (par craneal VIII) o nervio auditivo o estatoacústico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Nervio glosofaríngeo (par craneal IX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Nervio vago (par craneal X) pariasco nervio cardioneumogastroentérico. (control en las víscer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Nervio accesorio (par craneal XI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Nervio hipogloso (par craneal XII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4751280" y="2349360"/>
            <a:ext cx="439272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cc00cc"/>
                </a:solidFill>
                <a:latin typeface="Arial"/>
              </a:rPr>
              <a:t>El sistema nervioso autónomo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l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sistema nervioso autónomo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(vegetativo), a diferencia del sistema nervioso somático, recibe la información de las vísceras y del medio interno, para actuar sobre sus músculos, glándulas y vasos sanguíne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l sistema nervioso autónomo es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involuntario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activándose principalmente por centros nerviosos situados en la médula espinal, tallo cerebral e hipotálamo. También, algunas porciones de la corteza cerebral como la corteza límbic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cc00cc"/>
                </a:solidFill>
                <a:latin typeface="Arial"/>
              </a:rPr>
              <a:t>El sistema nervioso autónomo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e divide en dos sistemas: Simpático y parasimpático con funciones antagónic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Sistema simpático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: usa </a:t>
            </a: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noradrenalin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como neurotransmisor, y lo constituye una cadena de ganglios. Está implicado en actividades que requieren gasto de energía. También es llamado sistema adrenérgico o noradrenérgico; ya que es el que prepara al cuerpo para reaccionar ante una </a:t>
            </a: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situacion de estré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Sistema parasimpático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: Lo forman los ganglios aislados y usa la </a:t>
            </a: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acetilcolin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. Está encargado de almacenar y conservar la energía. Es llamado también sistema colinérgico; ya que es el que mantiene al cuerpo en situaciones normales y luego de haber pasado la situación de estrés es antagónico al simpátic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cc00cc"/>
                </a:solidFill>
                <a:latin typeface="Arial"/>
              </a:rPr>
              <a:t>El sistema nervioso autónomo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-360" y="1600200"/>
            <a:ext cx="469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s vías aferentes del SNA están formadas por neuronas sensoriales viscera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s vías eferentes están formadas por dos neuronas motoras conectadas en serie neuronas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preganglionare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que se localizan en médula o encéfalo y el axón llega hasta un ganglio autónomo donde hace sinapsis con la segunda neurona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postganglionar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, con axón amielínico y va hasta el órgano efector correspondien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4716360" y="1844640"/>
            <a:ext cx="442764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cc00cc"/>
                </a:solidFill>
                <a:latin typeface="Arial"/>
              </a:rPr>
              <a:t>El sistema nervioso autónomo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stema Simpátic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menta el gasto de energía en condiciones advers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lata la pupi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elera el ritmo cardia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soconstricción arte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minuye el peristaltismo intesti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menta la secreción de glándulas sudorípar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ja la musculatura bronqu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642920" y="162864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stema Parasimpát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ita un excesiva gasto energét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ae la pupi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minuye el ritmo cardia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sodilatación arte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menta el peristaltismo intesti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minuye la secreción de glándulas sudorípar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ae la musculatura bronqu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cc"/>
                </a:solidFill>
                <a:latin typeface="Arial"/>
              </a:rPr>
              <a:t>El sistema nervioso central</a:t>
            </a:r>
            <a:br>
              <a:rPr sz="4000"/>
            </a:br>
            <a:r>
              <a:rPr b="1" lang="en-US" sz="4000" spc="-1" strike="noStrike">
                <a:solidFill>
                  <a:srgbClr val="cc00cc"/>
                </a:solidFill>
                <a:latin typeface="Arial"/>
              </a:rPr>
              <a:t>El encéfalo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l encéfa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e encuentran los centros nerviosos superiores de coordinación e integr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o forma materia gris (cuepos neuronales) y la materia blanca (axone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e forma en la etapa embrionaria por una dilatación del tubo neural: 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vesícula encefál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cc"/>
                </a:solidFill>
                <a:latin typeface="Arial"/>
              </a:rPr>
              <a:t>El sistema nervioso central:</a:t>
            </a:r>
            <a:br>
              <a:rPr sz="4000"/>
            </a:br>
            <a:r>
              <a:rPr b="1" lang="en-US" sz="4000" spc="-1" strike="noStrike">
                <a:solidFill>
                  <a:srgbClr val="cc00cc"/>
                </a:solidFill>
                <a:latin typeface="Arial"/>
              </a:rPr>
              <a:t>El encéfal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70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xisten 4 cavidades en el encéfalo llamadas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ventrículos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 las cuales se desarrolla el sistema ventricular que da origen a la luz del tubo neur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os ventrículos laterales lo forman los hemisferios latera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l tecer ventrículo abarca el diencéfal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n el acueducto de Silvio se encuentra el mesencéfal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n cuarto ventrículo abarca el Prosencéfal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549680" y="1628640"/>
            <a:ext cx="4270320" cy="482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cc"/>
                </a:solidFill>
                <a:latin typeface="Arial"/>
              </a:rPr>
              <a:t>El sistema nervioso central:</a:t>
            </a:r>
            <a:br>
              <a:rPr sz="4000"/>
            </a:br>
            <a:r>
              <a:rPr b="1" lang="en-US" sz="4000" spc="-1" strike="noStrike">
                <a:solidFill>
                  <a:srgbClr val="cc00cc"/>
                </a:solidFill>
                <a:latin typeface="Arial"/>
              </a:rPr>
              <a:t>El encéfal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íquido cefalorraquíde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3 func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tener flotante el encéfalo, actuando amortiguador, dentro del cráne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rve de vehículo para transportar los nutrientes al cerebro y eliminar los desecho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uye entre el cráneo y la médula espinal para compensar los cambios en el volumen de sangre intracraneal manteniendo una presión constant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cc"/>
                </a:solidFill>
                <a:latin typeface="Arial"/>
              </a:rPr>
              <a:t>El sistema nervioso central</a:t>
            </a:r>
            <a:br>
              <a:rPr sz="4000"/>
            </a:br>
            <a:r>
              <a:rPr b="1" lang="en-US" sz="4000" spc="-1" strike="noStrike">
                <a:solidFill>
                  <a:srgbClr val="cc00cc"/>
                </a:solidFill>
                <a:latin typeface="Arial"/>
              </a:rPr>
              <a:t>El encéfal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l encéfalo está cubierto por tres membranas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eninge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que son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iamad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acnoides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uramad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a funciones de las meninge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tección biológica: impide la entrada de sustancias nocivas para el sistema nervios, protegiéndolo de infecciones como encefalitis o meningit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tección mecánic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859280" y="2349360"/>
            <a:ext cx="3995640" cy="36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cc"/>
                </a:solidFill>
                <a:latin typeface="Arial"/>
              </a:rPr>
              <a:t>El sistema nervioso central</a:t>
            </a:r>
            <a:br>
              <a:rPr sz="4000"/>
            </a:br>
            <a:r>
              <a:rPr b="1" lang="en-US" sz="4000" spc="-1" strike="noStrike">
                <a:solidFill>
                  <a:srgbClr val="cc00cc"/>
                </a:solidFill>
                <a:latin typeface="Arial"/>
              </a:rPr>
              <a:t>El encéfalo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l encéfalo está dividido en tres region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ncéfalo anterior o Prosencéfa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ncéfalo medio o Mesencéfa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ncéfalo posterior o Rombencéfa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mbrión de 4 seman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4788000" y="1557360"/>
            <a:ext cx="4038480" cy="4535640"/>
            <a:chOff x="4788000" y="1557360"/>
            <a:chExt cx="4038480" cy="4535640"/>
          </a:xfrm>
        </p:grpSpPr>
        <p:pic>
          <p:nvPicPr>
            <p:cNvPr id="57" name="" descr=""/>
            <p:cNvPicPr/>
            <p:nvPr/>
          </p:nvPicPr>
          <p:blipFill>
            <a:blip r:embed="rId1"/>
            <a:stretch/>
          </p:blipFill>
          <p:spPr>
            <a:xfrm>
              <a:off x="4788000" y="1557360"/>
              <a:ext cx="4038480" cy="453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 txBox="1"/>
            <p:nvPr/>
          </p:nvSpPr>
          <p:spPr>
            <a:xfrm>
              <a:off x="4788000" y="1557360"/>
              <a:ext cx="4038480" cy="4535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6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00cc"/>
                </a:solidFill>
                <a:latin typeface="Arial"/>
              </a:rPr>
              <a:t>El sistema nervioso central</a:t>
            </a:r>
            <a:br>
              <a:rPr sz="3600"/>
            </a:br>
            <a:r>
              <a:rPr b="1" lang="es-ES" sz="3600" spc="-1" strike="noStrike">
                <a:solidFill>
                  <a:srgbClr val="cc00cc"/>
                </a:solidFill>
                <a:latin typeface="Arial"/>
              </a:rPr>
              <a:t>El encéfalo anterior o Prosencéfal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l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Prosencéfalo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: 2 par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Telencéfalo o cerebro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e perciben y elaboran sensaciones conscien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Se divide en dos hemisferios, derecho e izquier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La capa más externa se llama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orteza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y está llena de pliegues o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ircunvoluciones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Lo forman cuatro lóbulos: frontal, parietal, temporal y occipit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El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uerpo calloso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une mediante fibras nerviosas los dos hemisferi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4643280" y="1628640"/>
            <a:ext cx="4305600" cy="4824720"/>
            <a:chOff x="4643280" y="1628640"/>
            <a:chExt cx="4305600" cy="4824720"/>
          </a:xfrm>
        </p:grpSpPr>
        <p:pic>
          <p:nvPicPr>
            <p:cNvPr id="62" name="" descr=""/>
            <p:cNvPicPr/>
            <p:nvPr/>
          </p:nvPicPr>
          <p:blipFill>
            <a:blip r:embed="rId1"/>
            <a:stretch/>
          </p:blipFill>
          <p:spPr>
            <a:xfrm>
              <a:off x="4643280" y="1628640"/>
              <a:ext cx="4305600" cy="482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"/>
            <p:cNvSpPr txBox="1"/>
            <p:nvPr/>
          </p:nvSpPr>
          <p:spPr>
            <a:xfrm>
              <a:off x="4643280" y="1628640"/>
              <a:ext cx="4305600" cy="4824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80000"/>
                </a:lnSpc>
                <a:spcBef>
                  <a:spcPts val="34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00cc"/>
                </a:solidFill>
                <a:latin typeface="Arial"/>
              </a:rPr>
              <a:t>El sistema nervioso central</a:t>
            </a:r>
            <a:br>
              <a:rPr sz="3600"/>
            </a:br>
            <a:r>
              <a:rPr b="1" lang="es-ES" sz="3600" spc="-1" strike="noStrike">
                <a:solidFill>
                  <a:srgbClr val="cc00cc"/>
                </a:solidFill>
                <a:latin typeface="Arial"/>
              </a:rPr>
              <a:t>El encéfalo anterior o Prosencéfal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78920" y="1699920"/>
            <a:ext cx="374508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El diencéfa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Tres regio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El </a:t>
            </a: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tálamo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: Recoge los impulsos sensitivos y está relacionado con las emocion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El </a:t>
            </a: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hipotálamo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: Controla el sistema nervioso autónomo, regulando funciones viscerales, el apetito, la sed,la Tª corporal, y regula los patronea de sueño. Función neuroendocrina (libera oxitocina, vasopresina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0" i="1" lang="es-ES" sz="1600" spc="-1" strike="noStrike">
                <a:solidFill>
                  <a:srgbClr val="000000"/>
                </a:solidFill>
                <a:latin typeface="Arial"/>
              </a:rPr>
              <a:t>hipófisis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: Glandula que produce y  controla el resto de las glándulas, entre ellas la tiroid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El </a:t>
            </a: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epitálamo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: Con función endocrina. Contiene la glándula pineal o epífisis (en mamíferos estrechamente relacionada con la función fotosensoria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3924360" y="2924280"/>
            <a:ext cx="5219640" cy="33336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5078160" y="5614920"/>
            <a:ext cx="857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ipotálam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5724360" y="4724280"/>
            <a:ext cx="935280" cy="93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8229600" y="4653000"/>
            <a:ext cx="914400" cy="28872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pífis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164360" y="4724280"/>
            <a:ext cx="107964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3T19:54:35Z</dcterms:created>
  <dc:creator>sonia</dc:creator>
  <dc:description/>
  <dc:language>en-US</dc:language>
  <cp:lastModifiedBy>Dani</cp:lastModifiedBy>
  <dcterms:modified xsi:type="dcterms:W3CDTF">2010-05-14T11:48:01Z</dcterms:modified>
  <cp:revision>96</cp:revision>
  <dc:subject/>
  <dc:title>Diapositiva 1</dc:title>
</cp:coreProperties>
</file>