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611C-1719-48F5-8A2D-92F7141B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EE4B-3E41-4461-B8F5-D4141BCA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E25E-2D03-4781-B2EE-4B5C512D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481-BD76-4F48-8ACC-D531CE9A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A89D-1C7F-4147-8E1A-048C44DA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5751-D2A5-44C5-9DB2-5CFAF988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BE2E-0FA4-4FD4-9F82-6E5C00D7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8A80-8D3C-4D9E-BA7C-6946A084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552F-2D94-42DA-AC32-E8B96B58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5108-BDE4-4E0B-85FE-73FBD570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C810-2420-429D-8975-9EE3752C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1093-9AB7-405A-9E63-C29AE338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4A0C-6440-43DF-AE2E-D2BAFE7FB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560" y="1915920"/>
            <a:ext cx="87138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El sistema nervioso centr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El encéfalo y la  médula espin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sistema nervioso central</a:t>
            </a:r>
            <a:br>
              <a:rPr sz="3600"/>
            </a:b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encéfalo anterior o Prosencé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a corteza se pueden distingu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zona de aso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zona sens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zona mo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Z.asociacio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Recoge información sensorial externa y la compara con la almacenada (función del lenguaje, creatividad, aprendizaje y mem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Z. sensori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án localizadas en las diferentes partes del cerebro interrelacionadas con las diferentes partes del cuerp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sistema nervioso central</a:t>
            </a:r>
            <a:br>
              <a:rPr sz="3600"/>
            </a:b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encéfalo anterior o Prosencé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misfero izquier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o cerebro lógico: el analítico y verbal. Procesa información en fases lógicas, de manera lineal, fragmentaria y secu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misferio derech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o cerebro artístico: No procesa de forma analítica, sino de manera glob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caso de Phineas Cage</a:t>
            </a:r>
            <a:br>
              <a:rPr sz="40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hineas P. Gage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(1823 – 21 de mayo, 1860 fue un obrero de ferrocarriles, quien debido a un accidente, sufrió daños severos en el cerebro, específicamente en parte del lóbulo frontal. Gage sufrió cambios notorios en su personalidad y temperamento, lo que se consideró como evidencia de que los lóbulos frontales eran los encargados de procesos relacionados con las emociones, la personalidad y las funciones ejecutivas en gene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42920" y="162864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552840" cy="4546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4105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sistema nervioso central</a:t>
            </a:r>
            <a:br>
              <a:rPr sz="3600"/>
            </a:b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encéfalo medio o Mesencé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el 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esencéfa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e encuent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acueducto de Silvi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lleva el líquido cefalorraquídeo desde el tercer al cuarto ventrícu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tubérculos cuadrigemin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que controlan relacionados con el sentido de la vista y los movimientos que responden a estímulos audi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sistema nervioso central. El encéfalo posterior o Rombencé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ombencéfal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s una expansión de la médula espinal y está formado p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metencéfal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que forma el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cerebel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la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protuber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mielencéfal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ue forma el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bulbo raquíde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24360" y="2060640"/>
            <a:ext cx="4859280" cy="3168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028000" y="4437000"/>
            <a:ext cx="914400" cy="2890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V ventrícu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4437000"/>
            <a:ext cx="1224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sistema nervioso central. El encéfalo posterior o Rombencé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CEREBE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rm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bulos cerebelo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erebelo es un órgano encargado del control de la motricidad y está relacionado con ciertas funciones cognitivas como la atención, el procesamiento del lenguaje, la música y el aprendiz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003640" y="2276640"/>
            <a:ext cx="414036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sistema nervioso central. El encéfalo posterior o Rombencé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encarga de controlar y regular el equilibrio corporal y los movimientos oc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ular los movimientos de las extremidades y el tro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cepción visuoespa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cesamiento lingü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dulación de las emo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lanificación general de actividades motoras secuenciadas y el aprendizaje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sistema nervioso central. El encéfalo posterior o Rombencé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 El Pu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te de Varol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una protuberancia que está formada por fibras y conecta los hemisferios cerebelo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 E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ulbo raquíde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tá situado entre la médula espinal y el encéfalo y su funciones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ontrol de las funciones viscerales involuntarias: El ritmo cardiaco, el respiratorio, el reflejo de la deglución, el vómito y la dilatación de los vasos sanguíneos y fibras musc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716360" y="1628640"/>
            <a:ext cx="442764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sistema nervioso central:</a:t>
            </a:r>
            <a:br>
              <a:rPr sz="4000"/>
            </a:b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La médula esp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édula esp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a parte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ervioso central y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cuentra dentro 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lumna verteb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la altura lumbar,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a una ramificación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ésta llamada col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ba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péndi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 un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el que fluye el líqu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efaloraquíd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4149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sistema nervioso central:</a:t>
            </a:r>
            <a:br>
              <a:rPr sz="4000"/>
            </a:b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La médula esp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divide en dos surcos y en ello se distingue la materia gris de la materia blan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ateria blanca está formada por los axones que forman fibras ascendentes (hacia el encéfalo) y descendentes (hacia los órgan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ateria gris la forman los cuerpos de las neuronas (som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3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858920" y="1628640"/>
            <a:ext cx="3822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4284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sistema nervioso central:</a:t>
            </a:r>
            <a:br>
              <a:rPr sz="4000"/>
            </a:b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encéfalo y la médula espinal</a:t>
            </a: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sistema nervioso central lo form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encéfa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édula esp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sistema nervioso central:</a:t>
            </a:r>
            <a:br>
              <a:rPr sz="4000"/>
            </a:b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La médula esp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médula existen 31 nervios espinales o raquídeos  que salen de su parte dorsal y ventr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8 cervi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2 dor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 lumb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 sacros (cola de caball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cada raiz dorsal existe un ganglio espinal donde se encuentran los cuerpos neur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aices dors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Vía de entrada de estimulos sensitivos a la médu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aices ventr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s la vía de salida de estímulos mo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651640" y="1773360"/>
            <a:ext cx="3240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El sistema nervioso perifé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istema nervioso periféric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 SNP, es el sistema nervioso formado por nervios y neuronas que residen o extienden fuera del sistema nervioso central, hacia los miembros y órgan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diferencia con el sistema nervioso central está en que el sistema nervioso periférico no está protegido por huesos o por barrera hematoencefálica, permitiendo la exposición a toxinas y a daños mecá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el que coordina, regula e integra nuestros órganos internos, por medio de respuestas inconsci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nervios están formados por gran cantidad de fibras nerviosas (axones), las cuales se cubren de tres membra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doneu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ubre el ax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erineu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ubre un haz de fibr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pineu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ubre varios haces de fibras y vasos sanguíne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El sistema nervioso perifé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ún el sentido del impulso, los nervios se divi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ios sensitivos: Conducen impulsos desde los receptores hasta los centros nervio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ios motores: Conducen impulsos desde los centros nerviosos a los efect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ios mixtos: Tienen fibras sensitivas y mo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El sistema nervioso perifé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rvios cran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olfatorio (par craneal I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óptico (par craneal II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oculomotor (par craneal III) o nervio motor ocular común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troclear (par craneal IV) o nervio patétic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trigémino (par craneal V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abducens (par craneal VI) o nervio motor ocular extern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facial (par craneal VII) o nervio intermediofacial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vestibulococlear (par craneal VIII) o nervio auditivo o estatoacústic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glosofaríngeo (par craneal IX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vago (par craneal X) pariasco nervio cardioneumogastroentérico. (control en las víscer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accesorio (par craneal XI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hipogloso (par craneal XII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751280" y="2349360"/>
            <a:ext cx="4392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cc"/>
                </a:solidFill>
                <a:latin typeface="Arial"/>
              </a:rPr>
              <a:t>El sistema nervioso autónom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istema nervioso autónom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vegetativo), a diferencia del sistema nervioso somático, recibe la información de las vísceras y del medio interno, para actuar sobre sus músculos, glándulas y vasos sanguíne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sistema nervioso autónomo es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voluntari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ctivándose principalmente por centros nerviosos situados en la médula espinal, tallo cerebral e hipotálamo. También, algunas porciones de la corteza cerebral como la corteza límb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cc"/>
                </a:solidFill>
                <a:latin typeface="Arial"/>
              </a:rPr>
              <a:t>El sistema nervioso autónom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ivide en dos sistemas: Simpático y parasimpático con funciones antagón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stema simpát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usa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noradrenal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mo neurotransmisor, y lo constituye una cadena de ganglios. Está implicado en actividades que requieren gasto de energía. También es llamado sistema adrenérgico o noradrenérgico; ya que es el que prepara al cuerpo para reaccionar ante una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ituacion de estré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stema parasimpát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o forman los ganglios aislados y usa la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acetilcol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stá encargado de almacenar y conservar la energía. Es llamado también sistema colinérgico; ya que es el que mantiene al cuerpo en situaciones normales y luego de haber pasado la situación de estrés es antagónico al simpát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cc"/>
                </a:solidFill>
                <a:latin typeface="Arial"/>
              </a:rPr>
              <a:t>El sistema nervioso autónom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vías aferentes del SNA están formadas por neuronas sensoriales visce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vías eferentes están formadas por dos neuronas motoras conectadas en serie neurona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gangliona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se localizan en médula o encéfalo y el axón llega hasta un ganglio autónomo donde hace sinapsis con la segunda neuron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stganglion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con axón amielínico y va hasta el órgano efector correspond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4427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cc"/>
                </a:solidFill>
                <a:latin typeface="Arial"/>
              </a:rPr>
              <a:t>El sistema nervioso autónom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Simpát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a el gasto de energía en condiciones adver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ata la pup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lera el ritmo cardi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oconstricción 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minuye el peristaltismo intes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a la secreción de glándulas sudorípa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ja la musculatura bronqu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Parasimp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ta un excesiva gasto energ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e la pup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minuye el ritmo cardi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odilatación 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a el peristaltismo intes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minuye la secreción de glándulas sudorípa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e la musculatura bronqu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sistema nervioso central</a:t>
            </a:r>
            <a:br>
              <a:rPr sz="4000"/>
            </a:b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encéfal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encéf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encuentran los centros nerviosos superiores de coordinación e integ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 forma materia gris (cuepos neuronales) y la materia blanca (axon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forma en la etapa embrionaria por una dilatación del tubo neural: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vesícula encefá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sistema nervioso central:</a:t>
            </a:r>
            <a:br>
              <a:rPr sz="4000"/>
            </a:b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encéfa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isten 4 cavidades en el encéfalo llamad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entrículo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s cuales se desarrolla el sistema ventricular que da origen a la luz del tubo ne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ventrículos laterales lo forman los hemisferios late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tecer ventrículo abarca el diencéf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acueducto de Silvio se encuentra el mesencéf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cuarto ventrículo abarca el Prosencéf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49680" y="1628640"/>
            <a:ext cx="42703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sistema nervioso central:</a:t>
            </a:r>
            <a:br>
              <a:rPr sz="4000"/>
            </a:b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encéfa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íquido cefalorraquíde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3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tener flotante el encéfalo, actuando amortiguador, dentro del crán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rve de vehículo para transportar los nutrientes al cerebro y eliminar los desech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ye entre el cráneo y la médula espinal para compensar los cambios en el volumen de sangre intracraneal manteniendo una presión consta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sistema nervioso central</a:t>
            </a:r>
            <a:br>
              <a:rPr sz="4000"/>
            </a:b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encéfa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 encéfalo está cubierto por tres membrana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ning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que s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am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acnoid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m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funciones de las mening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ección biológica: impide la entrada de sustancias nocivas para el sistema nervios, protegiéndolo de infecciones como encefalitis o meningit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ección mecá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59280" y="2349360"/>
            <a:ext cx="399564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sistema nervioso central</a:t>
            </a:r>
            <a:br>
              <a:rPr sz="4000"/>
            </a:b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encéfal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encéfalo está dividido en tres reg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céfalo anterior o Prosencéf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céfalo medio o Mesencéf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céfalo posterior o Rombencéf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brión de 4 sem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788000" y="1557360"/>
            <a:ext cx="4038480" cy="4535640"/>
            <a:chOff x="4788000" y="1557360"/>
            <a:chExt cx="4038480" cy="453564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4788000" y="1557360"/>
              <a:ext cx="403848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 txBox="1"/>
            <p:nvPr/>
          </p:nvSpPr>
          <p:spPr>
            <a:xfrm>
              <a:off x="4788000" y="1557360"/>
              <a:ext cx="4038480" cy="453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sistema nervioso central</a:t>
            </a:r>
            <a:br>
              <a:rPr sz="3600"/>
            </a:b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encéfalo anterior o Prosencé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sencéfal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2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lencéfalo o cereb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erciben y elaboran sensaciones consc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divide en dos hemisferios, derecho e izquie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capa más externa se llam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rtez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está llena de pliegues o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rcunvolucion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 forman cuatro lóbulos: frontal, parietal, temporal y occi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erpo callos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une mediante fibras nerviosas los dos hemisfe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643280" y="1628640"/>
            <a:ext cx="4305600" cy="4824720"/>
            <a:chOff x="4643280" y="1628640"/>
            <a:chExt cx="4305600" cy="482472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4643280" y="1628640"/>
              <a:ext cx="4305600" cy="48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 txBox="1"/>
            <p:nvPr/>
          </p:nvSpPr>
          <p:spPr>
            <a:xfrm>
              <a:off x="4643280" y="1628640"/>
              <a:ext cx="4305600" cy="482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3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sistema nervioso central</a:t>
            </a:r>
            <a:br>
              <a:rPr sz="3600"/>
            </a:b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encéfalo anterior o Prosencé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3745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diencéf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es reg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álam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Recoge los impulsos sensitivos y está relacionado con las emo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hipotálam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ontrola el sistema nervioso autónomo, regulando funciones viscerales, el apetito, la sed,la Tª corporal, y regula los patronea de sueño. Función neuroendocrina (libera oxitocina, vasopresin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hipófisi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Glandula que produce y  controla el resto de las glándulas, entre ellas la tiroi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pitálam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on función endocrina. Contiene la glándula pineal o epífisis (en mamíferos estrechamente relacionada con la función fotosensori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24360" y="2924280"/>
            <a:ext cx="5219640" cy="3333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078160" y="5614920"/>
            <a:ext cx="85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potála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724360" y="4724280"/>
            <a:ext cx="935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29600" y="4653000"/>
            <a:ext cx="914400" cy="2887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pífi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64360" y="4724280"/>
            <a:ext cx="1079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9:54:35Z</dcterms:created>
  <dc:creator>sonia</dc:creator>
  <dc:description/>
  <dc:language>en-US</dc:language>
  <cp:lastModifiedBy>Dani</cp:lastModifiedBy>
  <dcterms:modified xsi:type="dcterms:W3CDTF">2010-05-14T11:48:01Z</dcterms:modified>
  <cp:revision>96</cp:revision>
  <dc:subject/>
  <dc:title>Diapositiva 1</dc:title>
</cp:coreProperties>
</file>