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4DC-5315-4616-B52A-F8F17C47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A16-1539-4C13-870A-E9341856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D80-8F42-4972-9791-26FED6EC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928-9BE0-4A91-ABCD-18E93A14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F18-690B-45E5-853F-0DC5C9A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76A-21B1-4C28-B4DD-961C61EF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618-F6FF-4EF3-B763-FF20DA2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742-5282-4118-9055-12415D5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CE5-6905-48ED-909F-181B9766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D91-4B03-47C0-9528-EC0E18D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18F-88DF-4605-AD4C-AE7A5FA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05F-C068-435B-8634-9198B39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D168-5039-4E97-A1B9-C8CD3C81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8713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encéfalo y la  médula espi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corteza se pueden distin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de as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sens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zona m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asociac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Recoge información sensorial externa y la compara con la almacenada (función del lenguaje, creatividad, aprendizaje y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. sensori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localizadas en las diferentes partes del cerebro interrelacionadas con las diferentes partes del cuer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o izquier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lógico: el analítico y verbal. Procesa información en fases lógicas, de manera lineal, fragmentaria y secu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misferio derech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 cerebro artístico: No procesa de forma analítica, sino de manera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caso de Phineas Cage</a:t>
            </a:r>
            <a:br>
              <a:rPr sz="40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hineas P. Gag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(1823 – 21 de mayo, 1860 fue un obrero de ferrocarriles, quien debido a un accidente, sufrió daños severos en el cerebro, específicamente en parte del lóbulo frontal. Gage sufrió cambios notorios en su personalidad y temperamento, lo que se consideró como evidencia de que los lóbulos frontales eran los encargados de procesos relacionados con las emociones, la personalidad y las funciones ejecutivas en gene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2920" y="162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552840" cy="454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medio o Me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el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sencéfa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se encuent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acueducto de Silv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leva el líquido cefalorraquídeo desde el tercer al cuarto ventr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ubérculos cuadrigemin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controlan relacionados con el sentido de la vista y los movimientos que responden a estímulos audi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omb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una expansión de la médula espinal y está formado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etencéfa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ebe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rotuber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ielencéfal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 forma 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485928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028000" y="4437000"/>
            <a:ext cx="914400" cy="28908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 ventríc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4437000"/>
            <a:ext cx="122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CEREBE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r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bul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erebelo es un órgano encargado del control de la motricidad y está relacionado con ciertas funciones cognitivas como la atención, el procesamiento del lenguaje, la música y el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4140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encarga de controlar y regular el equilibrio corporal y los movimientos o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ular los movimientos de las extremidades y el tro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cepción visuoesp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cesamiento lingü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ulación de las emo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ificación general de actividades motoras secuenciadas y el aprendizaje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. El encéfalo posterior o Romb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El Pu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e de Varol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una protuberancia que está formada por fibras y conecta los hemisferios cerebel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ulbo raquíde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tá situado entre la médula espinal y el encéfalo y su funcion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ntrol de las funciones viscerales involuntarias: El ritmo cardiaco, el respiratorio, el reflejo de la deglución, el vómito y la dilatación de los vasos sanguíneos y fibras mus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42764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édula esp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parte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rvioso central y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uentra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umna verteb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altura lumbar,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 una ramifica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sta llamada col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ba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pénd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l que fluye e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faloraquí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149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vide en dos surcos y en ello se distingue la materia gris de la materia bl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blanca está formada por los axones que forman fibras ascendentes (hacia el encéfalo) y descendentes (hacia los órgan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teria gris la forman los cuerpos de las neuronas (so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858920" y="162864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y la médula espinal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nervioso central lo for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ncéfa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édula esp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La médula esp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médula existen 31 nervios espinales o raquídeos  que salen de su parte dorsal y vent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 cervi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 do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lumb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 sacros (cola de caba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aiz dorsal existe un ganglio espinal donde se encuentran los cuerpos neur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dors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ía de entrada de estimulos sensitivos a la méd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ices vent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 la vía de salida de estímulos mo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24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stema nervioso perifér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SNP, es el sistema nervioso formado por nervios y neuronas que residen o extienden fuera del sistema nervioso central, hacia los miembros y órga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con el sistema nervioso central está en que el sistema nervioso periférico no está protegido por huesos o por barrera hematoencefálica, permitiendo la exposición a toxinas y a daños mec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que coordina, regula e integra nuestros órganos internos, por medio de respuestas incons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nervios están formados por gran cantidad de fibras nerviosas (axones), las cuales se cubren de tres membra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do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el ax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un haz de fib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pine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bre varios haces de fibras y vasos sanguíne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ún el sentido del impulso, los nervios se divi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sensitivos: Conducen impulsos desde los receptores hasta los centros nervi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otores: Conducen impulsos desde los centros nerviosos a los efe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ios mixtos: Tienen fibras sensitivas y mo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El sistema nervioso perif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vios cran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lfatorio (par craneal 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óptico (par craneal 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oculomotor (par craneal III) o nervio motor ocular común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oclear (par craneal IV) o nervio paté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trigémino (par craneal V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bducens (par craneal VI) o nervio motor ocular exter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facial (par craneal VII) o nervio intermediofacial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estibulococlear (par craneal VIII) o nervio auditivo o estatoacúst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glosofaríngeo (par craneal IX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vago (par craneal X) pariasco nervio cardioneumogastroentérico. (control en las vísce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accesorio (par craneal X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ervio hipogloso (par craneal XI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51280" y="2349360"/>
            <a:ext cx="439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stema nervioso autón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egetativo), a diferencia del sistema nervioso somático, recibe la información de las vísceras y del medio interno, para actuar sobre sus músculos, glándulas y vasos sanguíne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autónomo es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oluntari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tivándose principalmente por centros nerviosos situados en la médula espinal, tallo cerebral e hipotálamo. También, algunas porciones de la corteza cerebral como la corteza lím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ivide en dos sistemas: Simpático y parasimpático con funciones antagón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us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radrena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neurotransmisor, y lo constituye una cadena de ganglios. Está implicado en actividades que requieren gasto de energía. También es llamado sistema adrenérgico o noradrenérgico; ya que es el que prepara al cuerpo para reaccionar ante un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on de estré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 forman los ganglios aislados y usa l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cetilco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á encargado de almacenar y conservar la energía. Es llamado también sistema colinérgico; ya que es el que mantiene al cuerpo en situaciones normales y luego de haber pasado la situación de estrés es antagónico al simpá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aferentes del SNA están formadas por neuronas sensoriales visc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ías eferentes están formadas por dos neuronas motoras conectadas en serie neuron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anglion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se localizan en médula o encéfalo y el axón llega hasta un ganglio autónomo donde hace sinapsis con la segunda neuro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stganglio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xón amielínico y va hasta el órgano efector correspo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4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cc"/>
                </a:solidFill>
                <a:latin typeface="Arial"/>
              </a:rPr>
              <a:t>El sistema nervioso autónom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Simpá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 el gasto de energía en condiciones adver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a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lera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constric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ja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arasimp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 un excesiva gast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pu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el ritmo cardi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dilatación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 el peristaltismo intest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ye la secreción de glándulas sudorípa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e la musculatura bronqu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encé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n los centros nerviosos superiores de coordinación e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 forma materia gris (cuepos neuronales) y la materia blanca (axon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forma en la etapa embrionaria por una dilatación del tubo neural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sícula encefá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isten 4 cavidades en el encéfalo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ntrícul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s cuales se desarrolla el sistema ventricular que da origen a la luz del tubo ne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entrículos laterales lo forman los hemisferios lat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ecer ventrículo abarca el di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acueducto de Silvio se encuentra el me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uarto ventrículo abarca el Prosencéf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49680" y="1628640"/>
            <a:ext cx="42703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: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íquido cefalorraquíde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er flotante el encéfalo, actuando amortiguador, dentro del crán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de vehículo para transportar los nutrientes al cerebro y eliminar los desech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ye entre el cráneo y la médula espinal para compensar los cambios en el volumen de sangre intracraneal manteniendo una presión const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ncéfalo está cubierto por tres membran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i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 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cnoi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m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funciones de las meni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biológica: impide la entrada de sustancias nocivas para el sistema nervios, protegiéndolo de infecciones como encefalitis o meningit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ción mec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9956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4000"/>
            </a:b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El encéfa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ncéfalo está dividido en tres reg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anterior o Pro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medio o Mes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céfalo posterior o Romb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brión de 4 sem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788000" y="1557360"/>
            <a:ext cx="4038480" cy="4535640"/>
            <a:chOff x="4788000" y="1557360"/>
            <a:chExt cx="4038480" cy="453564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788000" y="1557360"/>
              <a:ext cx="40384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788000" y="1557360"/>
              <a:ext cx="4038480" cy="453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sencéfal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2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encéfalo o cere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erciben y elaboran sensaciones consc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ivide en dos hemisferios, derecho e izquie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apa más externa se lla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tez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está llena de pliegues o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rcunvolucion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forman cuatro lóbulos: frontal, parietal, temporal y occi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rpo callos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ne mediante fibras nerviosas los dos hemisfe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43280" y="1628640"/>
            <a:ext cx="4305600" cy="4824720"/>
            <a:chOff x="4643280" y="1628640"/>
            <a:chExt cx="4305600" cy="48247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643280" y="1628640"/>
              <a:ext cx="4305600" cy="48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4643280" y="1628640"/>
              <a:ext cx="4305600" cy="482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sistema nervioso central</a:t>
            </a:r>
            <a:br>
              <a:rPr sz="3600"/>
            </a:br>
            <a:r>
              <a:rPr b="1" lang="es-ES" sz="3600" spc="-1" strike="noStrike">
                <a:solidFill>
                  <a:srgbClr val="cc00cc"/>
                </a:solidFill>
                <a:latin typeface="Arial"/>
              </a:rPr>
              <a:t>El encéfalo anterior o Prosencé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374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iencéf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es reg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Recoge los impulsos sensitivos y está relacionado con las emo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hipo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trola el sistema nervioso autónomo, regulando funciones viscerales, el apetito, la sed,la Tª corporal, y regula los patronea de sueño. Función neuroendocrina (libera oxitocina, vasopresi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hipófisi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landula que produce y  controla el resto de las glándulas, entre ellas la tiroi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epitálam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on función endocrina. Contiene la glándula pineal o epífisis (en mamíferos estrechamente relacionada con la función fotosensori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52196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78160" y="561492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potála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724360" y="472428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29600" y="4653000"/>
            <a:ext cx="914400" cy="288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píf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72428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9:54:35Z</dcterms:created>
  <dc:creator>sonia</dc:creator>
  <dc:description/>
  <dc:language>en-US</dc:language>
  <cp:lastModifiedBy>Dani</cp:lastModifiedBy>
  <dcterms:modified xsi:type="dcterms:W3CDTF">2010-05-14T11:48:01Z</dcterms:modified>
  <cp:revision>96</cp:revision>
  <dc:subject/>
  <dc:title>Diapositiva 1</dc:title>
</cp:coreProperties>
</file>