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9DA8-C1EE-4330-B99D-D9EC5CEDF6D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0E2C-5806-4ABC-B1FE-26C4190C3386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70AA-05AF-42CD-8EFE-2D88BE73F82C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309C-8FAC-4462-81E3-B7FD3A18036B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D520-B3EA-4F32-9FC8-861600D6D39D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0D66-B64E-46A1-9CDD-86551E2BB241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6581-D0E1-4E41-A16B-C4E36871C484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4C08-8800-4009-A872-407C88D6DEDF}" type="slidenum">
              <a:rPr b="0" lang="es-ES" sz="1200" spc="-1" strike="noStrike">
                <a:solidFill>
                  <a:srgbClr val="36003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CA35-9947-4951-8A00-63863E9B5CF2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B4B3-2543-462F-A5BB-C9BA3CA07058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C6E6-2247-474F-83E6-11C52924716C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4A87-5774-4E8E-B92C-9C870A4BD82F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8288-DA01-491B-B30C-5020752F601A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B2FD-8B0A-4F46-A980-692FD2CD7825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A85E-977E-409F-BA75-1F2585DF9941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6CF4-7B4B-415B-BBC1-E99D1051C8ED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A91F-49FD-4B2F-8277-04459C427863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A5E8-CEB2-4305-9B12-FD6BE017F5EE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1A34-D0A2-449C-9A9A-3A2C9C91CDE6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4CC7-2EA0-4547-A5FE-30ECFB0AAD9B}" type="slidenum">
              <a:rPr b="0" lang="es-ES" sz="1200" spc="-1" strike="noStrike">
                <a:solidFill>
                  <a:srgbClr val="36003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1D11-4408-44AE-8537-AA12BC18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9C88-8205-463C-AFDC-1B28610C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A8D9-CCBD-4454-BEDD-6B813661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898B-FB41-49C8-9CFC-3B91C127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6D6F-F8BA-49F3-87BB-2C28DF29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7499-476F-4355-BD88-A9553EE4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BDB8-7D21-4FAD-8B69-E385121D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8B86-627E-4F42-A229-16704F3D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86CD-D6C8-47EF-950E-E3D77B21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3935-DFC9-4ABE-9385-E11C96D0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F25E-9178-4068-98D6-5C14C526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102E-F185-4C95-ADFA-B72B2F04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BCD0-4F07-4B6D-AD8E-E54C399B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3BCA-EF9D-4B57-A160-1E2B4004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B8E5-57DB-4071-891D-E453A8F4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F052-68A3-4FF4-AC89-E72CCDE9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0518-B248-4D02-A847-3C5C8F00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06E2-F79E-4247-AC93-D29EC48B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1009-AA95-4E3E-9EC7-72D32A51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952E-FBF8-4960-A9D4-602BCA12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E6E5-E562-4EED-8043-FFBD9466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ED67-A1A7-4933-810E-4797F746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1C1D-7BDC-42BE-8D74-49255A96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8E5F-4992-4080-BFED-975E1002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c3a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9144000" cy="19051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99da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EF2F-DC01-4182-88D4-733F1FCD9B22}" type="slidenum">
              <a:rPr b="0" lang="en-US" sz="1400" spc="-1" strike="noStrike">
                <a:solidFill>
                  <a:srgbClr val="c99da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c3a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0" y="0"/>
              <a:ext cx="9144000" cy="38098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9E1E-FB62-4CF2-9F2B-AB5E80168C24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ema 10: Anatomía y fisiología del sistema nervios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Picture 4" descr="300px-Nervous_system_diagram"/>
          <p:cNvPicPr/>
          <p:nvPr/>
        </p:nvPicPr>
        <p:blipFill>
          <a:blip r:embed="rId1"/>
          <a:stretch/>
        </p:blipFill>
        <p:spPr>
          <a:xfrm>
            <a:off x="5148360" y="260280"/>
            <a:ext cx="3811320" cy="6289920"/>
          </a:xfrm>
          <a:prstGeom prst="rect">
            <a:avLst/>
          </a:prstGeom>
          <a:ln w="25560">
            <a:solidFill>
              <a:srgbClr val="c3a3c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Organización del sistema nervios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b1cd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1cd4"/>
                </a:solidFill>
                <a:latin typeface="Tahoma"/>
              </a:rPr>
              <a:t>Sistema nervioso central</a:t>
            </a: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: Reciben estímulos y elaboran respuesta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Encéfalo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Médula espinal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b1cd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1cd4"/>
                </a:solidFill>
                <a:latin typeface="Tahoma"/>
              </a:rPr>
              <a:t>Sistema nervioso periférico</a:t>
            </a: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: nervios que conectan los centros nerviosos con los receptores y los efectore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S. N. vegetativo (actividades involuntarias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S. N. somático (actividades voluntarias y actos reflejos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471840" y="0"/>
            <a:ext cx="567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Picture 2" descr="C:\Users\Pablo\Desktop\Clara\Documentos Daniel\BH15-07-2004 (E)\Imagenes\Unidad10\Fig10_21_SNC-SNP-SNA.jpg"/>
          <p:cNvPicPr/>
          <p:nvPr/>
        </p:nvPicPr>
        <p:blipFill>
          <a:blip r:embed="rId1"/>
          <a:stretch/>
        </p:blipFill>
        <p:spPr>
          <a:xfrm>
            <a:off x="0" y="1373040"/>
            <a:ext cx="91440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8" name="Picture 2" descr="C:\Users\Pablo\Desktop\Clara\Documentos Daniel\BH15-07-2004 (E)\Imagenes\Unidad10\Fig10_08_NEURONA AFERENTE Y EFERENTE.jpg"/>
          <p:cNvPicPr/>
          <p:nvPr/>
        </p:nvPicPr>
        <p:blipFill>
          <a:blip r:embed="rId1"/>
          <a:stretch/>
        </p:blipFill>
        <p:spPr>
          <a:xfrm>
            <a:off x="1619280" y="2147760"/>
            <a:ext cx="752472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IPOS DE NEURONAS O FIBRAS NERVIOSAS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►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ibras aferentes (sensitivas)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►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ibras eferentes (motoras o secretoras)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►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Neuronas de asociación-interneuronas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Organización del sistema nervioso</a:t>
            </a:r>
            <a:endParaRPr b="0" lang="en-US" sz="4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rco reflej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50920" y="1981080"/>
            <a:ext cx="5187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Formado por: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b1cd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1cd4"/>
                </a:solidFill>
                <a:latin typeface="Tahoma"/>
              </a:rPr>
              <a:t>Receptor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b1cd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1cd4"/>
                </a:solidFill>
                <a:latin typeface="Tahoma"/>
              </a:rPr>
              <a:t>Neurona sensitiva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: lleva el impulso al centro nervioso (</a:t>
            </a:r>
            <a:r>
              <a:rPr b="0" lang="en-US" sz="2400" spc="-1" strike="noStrike">
                <a:solidFill>
                  <a:srgbClr val="d51703"/>
                </a:solidFill>
                <a:latin typeface="Tahoma"/>
              </a:rPr>
              <a:t>médula espinal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b1cd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1cd4"/>
                </a:solidFill>
                <a:latin typeface="Tahoma"/>
              </a:rPr>
              <a:t>Neurona de asociación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, en la médula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b1cd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1cd4"/>
                </a:solidFill>
                <a:latin typeface="Tahoma"/>
              </a:rPr>
              <a:t>Neurona motora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: lleva el impulso al efector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b1cd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1cd4"/>
                </a:solidFill>
                <a:latin typeface="Tahoma"/>
              </a:rPr>
              <a:t>Efector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  <p:pic>
        <p:nvPicPr>
          <p:cNvPr id="133" name="Picture 9" descr="arco_reflejo"/>
          <p:cNvPicPr/>
          <p:nvPr/>
        </p:nvPicPr>
        <p:blipFill>
          <a:blip r:embed="rId1"/>
          <a:stretch/>
        </p:blipFill>
        <p:spPr>
          <a:xfrm>
            <a:off x="395280" y="2205000"/>
            <a:ext cx="3067200" cy="4114800"/>
          </a:xfrm>
          <a:prstGeom prst="rect">
            <a:avLst/>
          </a:prstGeom>
          <a:ln w="25560">
            <a:solidFill>
              <a:srgbClr val="c3a3c2"/>
            </a:solidFill>
            <a:miter/>
          </a:ln>
        </p:spPr>
      </p:pic>
      <p:sp>
        <p:nvSpPr>
          <p:cNvPr id="134" name="Line 10"/>
          <p:cNvSpPr/>
          <p:nvPr/>
        </p:nvSpPr>
        <p:spPr>
          <a:xfrm flipV="1">
            <a:off x="2627280" y="2708280"/>
            <a:ext cx="1728720" cy="1728720"/>
          </a:xfrm>
          <a:prstGeom prst="line">
            <a:avLst/>
          </a:prstGeom>
          <a:ln w="25560">
            <a:solidFill>
              <a:srgbClr val="c3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5" name="Line 11"/>
          <p:cNvSpPr/>
          <p:nvPr/>
        </p:nvSpPr>
        <p:spPr>
          <a:xfrm flipH="1">
            <a:off x="1332000" y="3068640"/>
            <a:ext cx="3024000" cy="1655640"/>
          </a:xfrm>
          <a:prstGeom prst="line">
            <a:avLst/>
          </a:prstGeom>
          <a:ln w="25560">
            <a:solidFill>
              <a:srgbClr val="c3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6" name="Line 12"/>
          <p:cNvSpPr/>
          <p:nvPr/>
        </p:nvSpPr>
        <p:spPr>
          <a:xfrm flipH="1" flipV="1">
            <a:off x="2124000" y="2997360"/>
            <a:ext cx="2232000" cy="1079280"/>
          </a:xfrm>
          <a:prstGeom prst="line">
            <a:avLst/>
          </a:prstGeom>
          <a:ln w="25560">
            <a:solidFill>
              <a:srgbClr val="c3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7" name="Line 13"/>
          <p:cNvSpPr/>
          <p:nvPr/>
        </p:nvSpPr>
        <p:spPr>
          <a:xfrm flipH="1" flipV="1">
            <a:off x="826560" y="3284280"/>
            <a:ext cx="3529080" cy="1584360"/>
          </a:xfrm>
          <a:prstGeom prst="line">
            <a:avLst/>
          </a:prstGeom>
          <a:ln w="25560">
            <a:solidFill>
              <a:srgbClr val="c3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8" name="Line 14"/>
          <p:cNvSpPr/>
          <p:nvPr/>
        </p:nvSpPr>
        <p:spPr>
          <a:xfrm flipH="1" flipV="1">
            <a:off x="1476000" y="4005360"/>
            <a:ext cx="2879640" cy="1511280"/>
          </a:xfrm>
          <a:prstGeom prst="line">
            <a:avLst/>
          </a:prstGeom>
          <a:ln w="25560">
            <a:solidFill>
              <a:srgbClr val="c3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rco reflej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4824360" y="0"/>
            <a:ext cx="431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ncéfal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1619280" y="1981080"/>
          <a:ext cx="6723000" cy="433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981080"/>
                    <a:ext cx="6723000" cy="43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s funciones de relació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Los organismos detectan cambios en el entorno, llamados </a:t>
            </a:r>
            <a:r>
              <a:rPr b="0" lang="en-US" sz="2400" spc="-1" strike="noStrike">
                <a:solidFill>
                  <a:srgbClr val="3b1cd4"/>
                </a:solidFill>
                <a:latin typeface="Tahoma"/>
              </a:rPr>
              <a:t>estímulos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, y elaboran acciones llamadas </a:t>
            </a:r>
            <a:r>
              <a:rPr b="0" lang="en-US" sz="2400" spc="-1" strike="noStrike">
                <a:solidFill>
                  <a:srgbClr val="3b1cd4"/>
                </a:solidFill>
                <a:latin typeface="Tahoma"/>
              </a:rPr>
              <a:t>respuestas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Los estímulos son captados por </a:t>
            </a:r>
            <a:r>
              <a:rPr b="0" lang="en-US" sz="2400" spc="-1" strike="noStrike">
                <a:solidFill>
                  <a:srgbClr val="4dba26"/>
                </a:solidFill>
                <a:latin typeface="Tahoma"/>
              </a:rPr>
              <a:t>células sensoriales receptoras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y los convierten en </a:t>
            </a:r>
            <a:r>
              <a:rPr b="0" lang="en-US" sz="2400" spc="-1" strike="noStrike">
                <a:solidFill>
                  <a:srgbClr val="3b1cd4"/>
                </a:solidFill>
                <a:latin typeface="Tahoma"/>
              </a:rPr>
              <a:t>impulsos nerviosos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, que se transmiten hasta un </a:t>
            </a:r>
            <a:r>
              <a:rPr b="0" lang="en-US" sz="2400" spc="-1" strike="noStrike">
                <a:solidFill>
                  <a:srgbClr val="4dba26"/>
                </a:solidFill>
                <a:latin typeface="Tahoma"/>
              </a:rPr>
              <a:t>centro nervioso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El centro nervioso emite otro impulso que llega al </a:t>
            </a:r>
            <a:r>
              <a:rPr b="0" lang="en-US" sz="2400" spc="-1" strike="noStrike">
                <a:solidFill>
                  <a:srgbClr val="4dba26"/>
                </a:solidFill>
                <a:latin typeface="Tahoma"/>
              </a:rPr>
              <a:t>órgano efector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, y éste elabora la </a:t>
            </a:r>
            <a:r>
              <a:rPr b="0" lang="en-US" sz="2400" spc="-1" strike="noStrike">
                <a:solidFill>
                  <a:srgbClr val="3b1cd4"/>
                </a:solidFill>
                <a:latin typeface="Tahoma"/>
              </a:rPr>
              <a:t>respuesta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Las respuestas pueden ser </a:t>
            </a:r>
            <a:r>
              <a:rPr b="0" lang="en-US" sz="2400" spc="-1" strike="noStrike">
                <a:solidFill>
                  <a:srgbClr val="d51703"/>
                </a:solidFill>
                <a:latin typeface="Tahoma"/>
              </a:rPr>
              <a:t>motoras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o </a:t>
            </a:r>
            <a:r>
              <a:rPr b="0" lang="en-US" sz="2400" spc="-1" strike="noStrike">
                <a:solidFill>
                  <a:srgbClr val="d51703"/>
                </a:solidFill>
                <a:latin typeface="Tahoma"/>
              </a:rPr>
              <a:t>secretoras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Los sistemas de relación son el </a:t>
            </a:r>
            <a:r>
              <a:rPr b="0" lang="en-US" sz="2400" spc="-1" strike="noStrike">
                <a:solidFill>
                  <a:srgbClr val="4dba26"/>
                </a:solidFill>
                <a:latin typeface="Tahoma"/>
              </a:rPr>
              <a:t>sistema nervioso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y el </a:t>
            </a:r>
            <a:r>
              <a:rPr b="0" lang="en-US" sz="2400" spc="-1" strike="noStrike">
                <a:solidFill>
                  <a:srgbClr val="4dba26"/>
                </a:solidFill>
                <a:latin typeface="Tahoma"/>
              </a:rPr>
              <a:t>sistema endocrino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041 Neurona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1268280"/>
            <a:ext cx="8604000" cy="5146920"/>
          </a:xfrm>
          <a:prstGeom prst="rect">
            <a:avLst/>
          </a:prstGeom>
          <a:ln w="25560">
            <a:solidFill>
              <a:srgbClr val="c3a3c2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neuro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5290920" y="5805360"/>
            <a:ext cx="1716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60036"/>
                </a:solidFill>
                <a:latin typeface="Arial"/>
              </a:rPr>
              <a:t>Célula de Schwann</a:t>
            </a:r>
            <a:endParaRPr b="0" lang="en-US" sz="1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485680" y="400356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60036"/>
                </a:solidFill>
                <a:latin typeface="Arial"/>
              </a:rPr>
              <a:t>Nódulo de Ranvier</a:t>
            </a:r>
            <a:endParaRPr b="0" lang="en-US" sz="1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6156360" y="4292640"/>
            <a:ext cx="287280" cy="720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impulso nervio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En reposo la membrana está polarizada debido a la acción de la </a:t>
            </a:r>
            <a:r>
              <a:rPr b="0" lang="es-ES" sz="2400" spc="-1" strike="noStrike">
                <a:solidFill>
                  <a:srgbClr val="d51703"/>
                </a:solidFill>
                <a:latin typeface="Tahoma"/>
              </a:rPr>
              <a:t>bomba de Na-K</a:t>
            </a: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: hay más concentración de iones </a:t>
            </a:r>
            <a:r>
              <a:rPr b="0" lang="es-ES" sz="2400" spc="-1" strike="noStrike">
                <a:solidFill>
                  <a:srgbClr val="0099cc"/>
                </a:solidFill>
                <a:latin typeface="Tahoma"/>
              </a:rPr>
              <a:t>Na+</a:t>
            </a: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 en el exterior, y más concentración de iones </a:t>
            </a:r>
            <a:r>
              <a:rPr b="0" lang="es-ES" sz="2400" spc="-1" strike="noStrike">
                <a:solidFill>
                  <a:srgbClr val="0099cc"/>
                </a:solidFill>
                <a:latin typeface="Tahoma"/>
              </a:rPr>
              <a:t>K+</a:t>
            </a: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 en el interior (expulsa 3 Na+ por cada 2 K+ que entran)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La llegada de un estímulo provoca la apertura de canales de Na+. El </a:t>
            </a:r>
            <a:r>
              <a:rPr b="0" lang="es-ES" sz="2400" spc="-1" strike="noStrike">
                <a:solidFill>
                  <a:srgbClr val="0099cc"/>
                </a:solidFill>
                <a:latin typeface="Tahoma"/>
              </a:rPr>
              <a:t>Na+ entra</a:t>
            </a: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 a favor de gradiente y se produce la despolarización de la membrana (</a:t>
            </a:r>
            <a:r>
              <a:rPr b="0" lang="es-ES" sz="2400" spc="-1" strike="noStrike">
                <a:solidFill>
                  <a:srgbClr val="3b1cd4"/>
                </a:solidFill>
                <a:latin typeface="Tahoma"/>
              </a:rPr>
              <a:t>potencial de acción</a:t>
            </a: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Se cierran los canales de Na+ y se abren los canales de K+. </a:t>
            </a:r>
            <a:r>
              <a:rPr b="0" lang="es-ES" sz="2400" spc="-1" strike="noStrike">
                <a:solidFill>
                  <a:srgbClr val="0099cc"/>
                </a:solidFill>
                <a:latin typeface="Tahoma"/>
              </a:rPr>
              <a:t>Sale K+</a:t>
            </a: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 y la membrana se repolariza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La bomba de Na-K restablece las concentraciones iniciales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tencial de Acció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Picture 6" descr="potencial_accion"/>
          <p:cNvPicPr/>
          <p:nvPr/>
        </p:nvPicPr>
        <p:blipFill>
          <a:blip r:embed="rId1"/>
          <a:srcRect l="4666" t="6999" r="4666" b="6999"/>
          <a:stretch/>
        </p:blipFill>
        <p:spPr>
          <a:xfrm>
            <a:off x="1692360" y="2057400"/>
            <a:ext cx="727236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ropagación del impulso nervios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Picture 6" descr="impulso_nervioso_2"/>
          <p:cNvPicPr/>
          <p:nvPr/>
        </p:nvPicPr>
        <p:blipFill>
          <a:blip r:embed="rId1"/>
          <a:stretch/>
        </p:blipFill>
        <p:spPr>
          <a:xfrm>
            <a:off x="1619280" y="1959120"/>
            <a:ext cx="752472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El impulso nervioso se desplaza como una onda a lo largo del axón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Mientras la membrana está despolarizada no se originan nuevos impulsos (</a:t>
            </a:r>
            <a:r>
              <a:rPr b="0" lang="es-ES" sz="2800" spc="-1" strike="noStrike">
                <a:solidFill>
                  <a:srgbClr val="d51703"/>
                </a:solidFill>
                <a:latin typeface="Tahoma"/>
              </a:rPr>
              <a:t>período refractario</a:t>
            </a: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Pueden transmitirse 500 – 1000 impulsos por segundo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El impulso se propaga más rápidamente en axones con mielina. La despolarización sólo se produce en los </a:t>
            </a:r>
            <a:r>
              <a:rPr b="0" lang="es-ES" sz="2800" spc="-1" strike="noStrike">
                <a:solidFill>
                  <a:srgbClr val="3b1cd4"/>
                </a:solidFill>
                <a:latin typeface="Tahoma"/>
              </a:rPr>
              <a:t>nódulos de Ranvier</a:t>
            </a: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 (</a:t>
            </a:r>
            <a:r>
              <a:rPr b="0" lang="es-ES" sz="2800" spc="-1" strike="noStrike">
                <a:solidFill>
                  <a:srgbClr val="d51703"/>
                </a:solidFill>
                <a:latin typeface="Tahoma"/>
              </a:rPr>
              <a:t>conducción saltatoria</a:t>
            </a: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ropagación del impulso nervios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inapsi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76720" y="2349000"/>
            <a:ext cx="38102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60036"/>
                </a:solidFill>
                <a:latin typeface="Tahoma"/>
              </a:rPr>
              <a:t>No hay contacto físico entre las neuronas.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60036"/>
                </a:solidFill>
                <a:latin typeface="Tahoma"/>
              </a:rPr>
              <a:t>La llegada del impulso a la </a:t>
            </a:r>
            <a:r>
              <a:rPr b="0" lang="es-ES" sz="2000" spc="-1" strike="noStrike">
                <a:solidFill>
                  <a:srgbClr val="d51703"/>
                </a:solidFill>
                <a:latin typeface="Tahoma"/>
              </a:rPr>
              <a:t>membrana presináptica</a:t>
            </a:r>
            <a:r>
              <a:rPr b="0" lang="es-ES" sz="2000" spc="-1" strike="noStrike">
                <a:solidFill>
                  <a:srgbClr val="360036"/>
                </a:solidFill>
                <a:latin typeface="Tahoma"/>
              </a:rPr>
              <a:t> provoca liberación de </a:t>
            </a:r>
            <a:r>
              <a:rPr b="0" lang="es-ES" sz="2000" spc="-1" strike="noStrike">
                <a:solidFill>
                  <a:srgbClr val="3b1cd4"/>
                </a:solidFill>
                <a:latin typeface="Tahoma"/>
              </a:rPr>
              <a:t>neurotransmisores </a:t>
            </a:r>
            <a:r>
              <a:rPr b="0" lang="es-ES" sz="2000" spc="-1" strike="noStrike">
                <a:solidFill>
                  <a:srgbClr val="360036"/>
                </a:solidFill>
                <a:latin typeface="Tahoma"/>
              </a:rPr>
              <a:t>(acetilcolina, noradrenalina) al </a:t>
            </a:r>
            <a:r>
              <a:rPr b="0" lang="es-ES" sz="2000" spc="-1" strike="noStrike">
                <a:solidFill>
                  <a:srgbClr val="d51703"/>
                </a:solidFill>
                <a:latin typeface="Tahoma"/>
              </a:rPr>
              <a:t>espacio sináptico</a:t>
            </a:r>
            <a:r>
              <a:rPr b="0" lang="es-ES" sz="2000" spc="-1" strike="noStrike">
                <a:solidFill>
                  <a:srgbClr val="36003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60036"/>
                </a:solidFill>
                <a:latin typeface="Tahoma"/>
              </a:rPr>
              <a:t>El neurotransmisor se une a receptores específicos de la </a:t>
            </a:r>
            <a:r>
              <a:rPr b="0" lang="es-ES" sz="2000" spc="-1" strike="noStrike">
                <a:solidFill>
                  <a:srgbClr val="d51703"/>
                </a:solidFill>
                <a:latin typeface="Tahoma"/>
              </a:rPr>
              <a:t>membrana postsináptica</a:t>
            </a:r>
            <a:r>
              <a:rPr b="0" lang="es-ES" sz="2000" spc="-1" strike="noStrike">
                <a:solidFill>
                  <a:srgbClr val="360036"/>
                </a:solidFill>
                <a:latin typeface="Tahoma"/>
              </a:rPr>
              <a:t> y provoca su despolarización, propagando el impulso.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  <p:pic>
        <p:nvPicPr>
          <p:cNvPr id="116" name="Picture 6" descr="sinapsis"/>
          <p:cNvPicPr/>
          <p:nvPr/>
        </p:nvPicPr>
        <p:blipFill>
          <a:blip r:embed="rId1"/>
          <a:stretch/>
        </p:blipFill>
        <p:spPr>
          <a:xfrm>
            <a:off x="324000" y="2276640"/>
            <a:ext cx="4679640" cy="4340160"/>
          </a:xfrm>
          <a:prstGeom prst="rect">
            <a:avLst/>
          </a:prstGeom>
          <a:ln w="25560">
            <a:solidFill>
              <a:srgbClr val="c3a3c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Organización del sistema nervios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FUNCIONES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►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Conectar 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receptores sensoriales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centros nerviosos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órganos efectores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►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Conducir impulsos nerviosos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►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Integrar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stímulos sensitivos       respuesta fisiológica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19" name="3 Llamada de flecha a la derecha"/>
          <p:cNvSpPr/>
          <p:nvPr/>
        </p:nvSpPr>
        <p:spPr>
          <a:xfrm>
            <a:off x="4211640" y="2781360"/>
            <a:ext cx="639720" cy="1214280"/>
          </a:xfrm>
          <a:prstGeom prst="rightArrowCallout">
            <a:avLst>
              <a:gd name="adj1" fmla="val 24994"/>
              <a:gd name="adj2" fmla="val 25001"/>
              <a:gd name="adj3" fmla="val 25000"/>
              <a:gd name="adj4" fmla="val 64977"/>
            </a:avLst>
          </a:prstGeom>
          <a:solidFill>
            <a:srgbClr val="c3a3c2"/>
          </a:solidFill>
          <a:ln w="25560">
            <a:solidFill>
              <a:srgbClr val="8f77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20" name="5 Flecha curvada hacia arriba"/>
          <p:cNvSpPr/>
          <p:nvPr/>
        </p:nvSpPr>
        <p:spPr>
          <a:xfrm>
            <a:off x="4500720" y="5516640"/>
            <a:ext cx="1428480" cy="642960"/>
          </a:xfrm>
          <a:custGeom>
            <a:avLst/>
            <a:gdLst>
              <a:gd name="textAreaLeft" fmla="*/ 297720 w 1428480"/>
              <a:gd name="textAreaRight" fmla="*/ 1053720 w 142848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04" hR="21600" stAng="10800000" swAng="-5400000"/>
                <a:lnTo>
                  <a:pt x="11433" y="21600"/>
                </a:lnTo>
                <a:arcTo wR="9004" hR="21600" stAng="5400000" swAng="-3493465"/>
                <a:lnTo>
                  <a:pt x="21314" y="5400"/>
                </a:lnTo>
                <a:lnTo>
                  <a:pt x="19222" y="0"/>
                </a:lnTo>
                <a:lnTo>
                  <a:pt x="16557" y="5400"/>
                </a:lnTo>
                <a:lnTo>
                  <a:pt x="17721" y="5400"/>
                </a:lnTo>
                <a:arcTo wR="9004" hR="21600" stAng="1906535" swAng="3298597"/>
                <a:lnTo>
                  <a:pt x="10218" y="21403"/>
                </a:lnTo>
                <a:arcTo wR="9004" hR="21600" stAng="5594868" swAng="5205132"/>
                <a:close/>
              </a:path>
              <a:path fill="darkenLess" w="21600" h="21600">
                <a:moveTo>
                  <a:pt x="0" y="0"/>
                </a:moveTo>
                <a:arcTo wR="9004" hR="21600" stAng="10800000" swAng="-5400000"/>
                <a:lnTo>
                  <a:pt x="11433" y="21600"/>
                </a:lnTo>
                <a:arcTo wR="9004" hR="21600" stAng="5400000" swAng="194868"/>
                <a:lnTo>
                  <a:pt x="10218" y="21403"/>
                </a:lnTo>
                <a:arcTo wR="9004" hR="21600" stAng="5594868" swAng="5205132"/>
                <a:close/>
              </a:path>
            </a:pathLst>
          </a:custGeom>
          <a:solidFill>
            <a:srgbClr val="c3a3c2"/>
          </a:solidFill>
          <a:ln w="25560">
            <a:solidFill>
              <a:srgbClr val="8f77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8:03:07Z</dcterms:created>
  <dc:creator>Daniel</dc:creator>
  <dc:description/>
  <dc:language>en-US</dc:language>
  <cp:lastModifiedBy>Dani</cp:lastModifiedBy>
  <dcterms:modified xsi:type="dcterms:W3CDTF">2010-05-14T11:51:11Z</dcterms:modified>
  <cp:revision>8</cp:revision>
  <dc:subject/>
  <dc:title>Tema 10: Anatomía y fisiología del sistema nervioso</dc:title>
</cp:coreProperties>
</file>