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BC77-19DD-44E6-8636-6F1F1D3C49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A0FF-956E-4C4A-99F0-B3A9EFC24FB5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3107-7E3B-489B-B459-18723CC28187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A55D-CDE1-428B-842B-AF7B4A700D17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F844-611D-47FE-BD69-087395C3F133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3116-1E48-472C-A658-C978D7A0F70D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8F67-B5C6-4E74-A963-5D4B4D73D5CD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7FC4-1456-4A05-A262-B34822B42D62}" type="slidenum">
              <a:rPr b="0" lang="es-ES" sz="1200" spc="-1" strike="noStrike">
                <a:solidFill>
                  <a:srgbClr val="36003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C5CC-0403-428A-8EA5-B1A4E13AFE79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A1D6-1B2A-40CF-B98E-CEEC1FEF5F55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FC63-E49B-4C5B-8357-3C473885B6F7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DD6D-5945-4C9D-83AB-996217857837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7EFB-714F-4A6F-941F-B4BCFB4F378F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2FD6-626B-440F-A29D-B18041CF87FF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7102-3A34-45BC-A02A-9550A2A88BEA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11CA-FBAC-450B-9E24-9676FAA4947E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47EC-D511-48B8-8824-4BC5994364F0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8176-72A3-4CC9-81D5-8621400FF588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6243-EC4C-4551-B8A0-9660E9956EC8}" type="slidenum">
              <a:rPr b="0" lang="es-ES" sz="1200" spc="-1" strike="noStrike">
                <a:solidFill>
                  <a:srgbClr val="36003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0202-9289-4487-A00E-BE4E0F782912}" type="slidenum">
              <a:rPr b="0" lang="es-ES" sz="1200" spc="-1" strike="noStrike">
                <a:solidFill>
                  <a:srgbClr val="36003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EDA-3C9D-486E-93F8-7FD074D1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3C5-A59E-408E-AB38-3C700657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72F-D28C-43B6-994E-74165414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8DE-2543-45E4-A97D-A90AB9DF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6652-5772-43DE-9B13-F3F0A614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33ED-4BFF-4045-B197-C5840326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0C82-B10D-4924-B86E-1D03D446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88DF-FEC6-419B-B0A3-4CBEC11B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E098-F21C-46C0-9BC6-EC5DAA94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CD9A-A44A-496C-AFBF-D360D8AA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CFE4-6916-48ED-8CC2-DF6B53E0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D49-DC53-4354-8B3F-E52CE8D2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387F-CEA5-4DF8-A59D-17DDD1FA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ABF0-4427-4988-BE8E-75D7AA79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6248-FC59-4ED4-A1DC-263C34CB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2616-C548-4AA7-A3BC-833C1B5C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5F46-E70A-4E6A-83D4-D670350A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AA9-BE70-46AE-95AB-54131705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CC0-F337-47F7-AEF3-CF6AB7BA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EAA-4B4B-4CB3-AE06-63C8F3E9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391-0CFF-4C57-AA6D-A3E45AE7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A42-9B1E-41D5-9A4F-CA8E160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2C8-79D5-4CD0-8E4C-D63EEE6F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EAF-0783-4236-9B24-B85851EA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c3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9da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4D07-EE34-4A44-AB8F-ED2A3E5E00A9}" type="slidenum">
              <a:rPr b="0" lang="en-US" sz="1400" spc="-1" strike="noStrike">
                <a:solidFill>
                  <a:srgbClr val="c99da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c3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8232-17E9-41C2-8FE8-B1BA6976DF8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ema 10: Anatomía y fisiología del sistema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300px-Nervous_system_diagram"/>
          <p:cNvPicPr/>
          <p:nvPr/>
        </p:nvPicPr>
        <p:blipFill>
          <a:blip r:embed="rId1"/>
          <a:stretch/>
        </p:blipFill>
        <p:spPr>
          <a:xfrm>
            <a:off x="5148360" y="260280"/>
            <a:ext cx="3811320" cy="6289920"/>
          </a:xfrm>
          <a:prstGeom prst="rect">
            <a:avLst/>
          </a:prstGeom>
          <a:ln w="25560">
            <a:solidFill>
              <a:srgbClr val="c3a3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rganización del sistema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b1cd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1cd4"/>
                </a:solidFill>
                <a:latin typeface="Tahoma"/>
              </a:rPr>
              <a:t>Sistema nervioso central</a:t>
            </a: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: Reciben estímulos y elaboran respuesta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Encéfalo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édula espinal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b1cd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1cd4"/>
                </a:solidFill>
                <a:latin typeface="Tahoma"/>
              </a:rPr>
              <a:t>Sistema nervioso periférico</a:t>
            </a: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: nervios que conectan los centros nerviosos con los receptores y los efectores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. N. vegetativo (actividades involuntarias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. N. somático (actividades voluntarias y actos reflejos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471840" y="0"/>
            <a:ext cx="567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" descr="C:\Users\Pablo\Desktop\Clara\Documentos Daniel\BH15-07-2004 (E)\Imagenes\Unidad10\Fig10_21_SNC-SNP-SNA.jpg"/>
          <p:cNvPicPr/>
          <p:nvPr/>
        </p:nvPicPr>
        <p:blipFill>
          <a:blip r:embed="rId1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2" descr="C:\Users\Pablo\Desktop\Clara\Documentos Daniel\BH15-07-2004 (E)\Imagenes\Unidad10\Fig10_08_NEURONA AFERENTE Y EFERENTE.jpg"/>
          <p:cNvPicPr/>
          <p:nvPr/>
        </p:nvPicPr>
        <p:blipFill>
          <a:blip r:embed="rId1"/>
          <a:stretch/>
        </p:blipFill>
        <p:spPr>
          <a:xfrm>
            <a:off x="1619280" y="2147760"/>
            <a:ext cx="752472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IPOS DE NEURONAS O FIBRAS NERVIOSAS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bras aferentes (sensitivas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bras eferentes (motoras o secretoras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Neuronas de asociación-interneuronas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rganización del sistema nervioso</a:t>
            </a:r>
            <a:endParaRPr b="0" lang="en-US" sz="4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co reflej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0920" y="1981080"/>
            <a:ext cx="518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Formado por: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Receptor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Neurona sensitiva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: lleva el impulso al centro nervioso (</a:t>
            </a:r>
            <a:r>
              <a:rPr b="0" lang="en-US" sz="2400" spc="-1" strike="noStrike">
                <a:solidFill>
                  <a:srgbClr val="d51703"/>
                </a:solidFill>
                <a:latin typeface="Tahoma"/>
              </a:rPr>
              <a:t>médula espinal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Neurona de asociación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, en la médul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Neurona motora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: lleva el impulso al efector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b1cd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Efector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  <p:pic>
        <p:nvPicPr>
          <p:cNvPr id="133" name="Picture 9" descr="arco_reflejo"/>
          <p:cNvPicPr/>
          <p:nvPr/>
        </p:nvPicPr>
        <p:blipFill>
          <a:blip r:embed="rId1"/>
          <a:stretch/>
        </p:blipFill>
        <p:spPr>
          <a:xfrm>
            <a:off x="395280" y="2205000"/>
            <a:ext cx="3067200" cy="4114800"/>
          </a:xfrm>
          <a:prstGeom prst="rect">
            <a:avLst/>
          </a:prstGeom>
          <a:ln w="25560">
            <a:solidFill>
              <a:srgbClr val="c3a3c2"/>
            </a:solidFill>
            <a:miter/>
          </a:ln>
        </p:spPr>
      </p:pic>
      <p:sp>
        <p:nvSpPr>
          <p:cNvPr id="134" name="Line 10"/>
          <p:cNvSpPr/>
          <p:nvPr/>
        </p:nvSpPr>
        <p:spPr>
          <a:xfrm flipV="1">
            <a:off x="2627280" y="2708280"/>
            <a:ext cx="1728720" cy="172872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5" name="Line 11"/>
          <p:cNvSpPr/>
          <p:nvPr/>
        </p:nvSpPr>
        <p:spPr>
          <a:xfrm flipH="1">
            <a:off x="1332000" y="3068640"/>
            <a:ext cx="3024000" cy="165564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 flipH="1" flipV="1">
            <a:off x="2124000" y="2997360"/>
            <a:ext cx="2232000" cy="107928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7" name="Line 13"/>
          <p:cNvSpPr/>
          <p:nvPr/>
        </p:nvSpPr>
        <p:spPr>
          <a:xfrm flipH="1" flipV="1">
            <a:off x="826560" y="3284280"/>
            <a:ext cx="3529080" cy="158436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8" name="Line 14"/>
          <p:cNvSpPr/>
          <p:nvPr/>
        </p:nvSpPr>
        <p:spPr>
          <a:xfrm flipH="1" flipV="1">
            <a:off x="1476000" y="4005360"/>
            <a:ext cx="2879640" cy="1511280"/>
          </a:xfrm>
          <a:prstGeom prst="line">
            <a:avLst/>
          </a:prstGeom>
          <a:ln w="25560">
            <a:solidFill>
              <a:srgbClr val="c3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co reflej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824360" y="0"/>
            <a:ext cx="43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céfal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619280" y="1981080"/>
          <a:ext cx="6723000" cy="43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81080"/>
                    <a:ext cx="6723000" cy="43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funciones de rel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Los organismos detectan cambios en el entorno, llamados </a:t>
            </a: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estímulo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, y elaboran acciones llamadas </a:t>
            </a: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respuesta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Los estímulos son captados por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células sensoriales receptora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y los convierten en </a:t>
            </a: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impulsos nervioso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, que se transmiten hasta un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centro nervioso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El centro nervioso emite otro impulso que llega al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órgano efector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, y éste elabora la </a:t>
            </a:r>
            <a:r>
              <a:rPr b="0" lang="en-US" sz="2400" spc="-1" strike="noStrike">
                <a:solidFill>
                  <a:srgbClr val="3b1cd4"/>
                </a:solidFill>
                <a:latin typeface="Tahoma"/>
              </a:rPr>
              <a:t>respuesta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Las respuestas pueden ser </a:t>
            </a:r>
            <a:r>
              <a:rPr b="0" lang="en-US" sz="2400" spc="-1" strike="noStrike">
                <a:solidFill>
                  <a:srgbClr val="d51703"/>
                </a:solidFill>
                <a:latin typeface="Tahoma"/>
              </a:rPr>
              <a:t>motora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o </a:t>
            </a:r>
            <a:r>
              <a:rPr b="0" lang="en-US" sz="2400" spc="-1" strike="noStrike">
                <a:solidFill>
                  <a:srgbClr val="d51703"/>
                </a:solidFill>
                <a:latin typeface="Tahoma"/>
              </a:rPr>
              <a:t>secretoras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Los sistemas de relación son el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sistema nervioso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y el </a:t>
            </a:r>
            <a:r>
              <a:rPr b="0" lang="en-US" sz="2400" spc="-1" strike="noStrike">
                <a:solidFill>
                  <a:srgbClr val="4dba26"/>
                </a:solidFill>
                <a:latin typeface="Tahoma"/>
              </a:rPr>
              <a:t>sistema endocrino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041 Neurona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1268280"/>
            <a:ext cx="8604000" cy="5146920"/>
          </a:xfrm>
          <a:prstGeom prst="rect">
            <a:avLst/>
          </a:prstGeom>
          <a:ln w="25560">
            <a:solidFill>
              <a:srgbClr val="c3a3c2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neuro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290920" y="5805360"/>
            <a:ext cx="1716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60036"/>
                </a:solidFill>
                <a:latin typeface="Arial"/>
              </a:rPr>
              <a:t>Célula de Schwann</a:t>
            </a:r>
            <a:endParaRPr b="0" lang="en-US" sz="1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485680" y="400356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60036"/>
                </a:solidFill>
                <a:latin typeface="Arial"/>
              </a:rPr>
              <a:t>Nódulo de Ranvier</a:t>
            </a:r>
            <a:endParaRPr b="0" lang="en-US" sz="1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6156360" y="4292640"/>
            <a:ext cx="287280" cy="7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impulso nervio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En reposo la membrana está polarizada debido a la acción de la </a:t>
            </a:r>
            <a:r>
              <a:rPr b="0" lang="es-ES" sz="2400" spc="-1" strike="noStrike">
                <a:solidFill>
                  <a:srgbClr val="d51703"/>
                </a:solidFill>
                <a:latin typeface="Tahoma"/>
              </a:rPr>
              <a:t>bomba de Na-K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: hay más concentración de iones </a:t>
            </a:r>
            <a:r>
              <a:rPr b="0" lang="es-ES" sz="2400" spc="-1" strike="noStrike">
                <a:solidFill>
                  <a:srgbClr val="0099cc"/>
                </a:solidFill>
                <a:latin typeface="Tahoma"/>
              </a:rPr>
              <a:t>Na+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en el exterior, y más concentración de iones </a:t>
            </a:r>
            <a:r>
              <a:rPr b="0" lang="es-ES" sz="2400" spc="-1" strike="noStrike">
                <a:solidFill>
                  <a:srgbClr val="0099cc"/>
                </a:solidFill>
                <a:latin typeface="Tahoma"/>
              </a:rPr>
              <a:t>K+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en el interior (expulsa 3 Na+ por cada 2 K+ que entran)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La llegada de un estímulo provoca la apertura de canales de Na+. El </a:t>
            </a:r>
            <a:r>
              <a:rPr b="0" lang="es-ES" sz="2400" spc="-1" strike="noStrike">
                <a:solidFill>
                  <a:srgbClr val="0099cc"/>
                </a:solidFill>
                <a:latin typeface="Tahoma"/>
              </a:rPr>
              <a:t>Na+ entra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a favor de gradiente y se produce la despolarización de la membrana (</a:t>
            </a:r>
            <a:r>
              <a:rPr b="0" lang="es-ES" sz="2400" spc="-1" strike="noStrike">
                <a:solidFill>
                  <a:srgbClr val="3b1cd4"/>
                </a:solidFill>
                <a:latin typeface="Tahoma"/>
              </a:rPr>
              <a:t>potencial de acción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Se cierran los canales de Na+ y se abren los canales de K+. </a:t>
            </a:r>
            <a:r>
              <a:rPr b="0" lang="es-ES" sz="2400" spc="-1" strike="noStrike">
                <a:solidFill>
                  <a:srgbClr val="0099cc"/>
                </a:solidFill>
                <a:latin typeface="Tahoma"/>
              </a:rPr>
              <a:t>Sale K+</a:t>
            </a: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 y la membrana se repolariza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60036"/>
                </a:solidFill>
                <a:latin typeface="Tahoma"/>
              </a:rPr>
              <a:t>La bomba de Na-K restablece las concentraciones iniciale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tencial de Ac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6" descr="potencial_accion"/>
          <p:cNvPicPr/>
          <p:nvPr/>
        </p:nvPicPr>
        <p:blipFill>
          <a:blip r:embed="rId1"/>
          <a:srcRect l="4666" t="6999" r="4666" b="6999"/>
          <a:stretch/>
        </p:blipFill>
        <p:spPr>
          <a:xfrm>
            <a:off x="1692360" y="2057400"/>
            <a:ext cx="72723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pagación del impulso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6" descr="impulso_nervioso_2"/>
          <p:cNvPicPr/>
          <p:nvPr/>
        </p:nvPicPr>
        <p:blipFill>
          <a:blip r:embed="rId1"/>
          <a:stretch/>
        </p:blipFill>
        <p:spPr>
          <a:xfrm>
            <a:off x="1619280" y="1959120"/>
            <a:ext cx="752472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El impulso nervioso se desplaza como una onda a lo largo del axón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Mientras la membrana está despolarizada no se originan nuevos impulsos (</a:t>
            </a:r>
            <a:r>
              <a:rPr b="0" lang="es-ES" sz="2800" spc="-1" strike="noStrike">
                <a:solidFill>
                  <a:srgbClr val="d51703"/>
                </a:solidFill>
                <a:latin typeface="Tahoma"/>
              </a:rPr>
              <a:t>período refractario</a:t>
            </a: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Pueden transmitirse 500 – 1000 impulsos por segundo.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El impulso se propaga más rápidamente en axones con mielina. La despolarización sólo se produce en los </a:t>
            </a:r>
            <a:r>
              <a:rPr b="0" lang="es-ES" sz="2800" spc="-1" strike="noStrike">
                <a:solidFill>
                  <a:srgbClr val="3b1cd4"/>
                </a:solidFill>
                <a:latin typeface="Tahoma"/>
              </a:rPr>
              <a:t>nódulos de Ranvier</a:t>
            </a: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 (</a:t>
            </a:r>
            <a:r>
              <a:rPr b="0" lang="es-ES" sz="2800" spc="-1" strike="noStrike">
                <a:solidFill>
                  <a:srgbClr val="d51703"/>
                </a:solidFill>
                <a:latin typeface="Tahoma"/>
              </a:rPr>
              <a:t>conducción saltatoria</a:t>
            </a:r>
            <a:r>
              <a:rPr b="0" lang="es-ES" sz="2800" spc="-1" strike="noStrike">
                <a:solidFill>
                  <a:srgbClr val="36003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pagación del impulso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naps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6720" y="2349000"/>
            <a:ext cx="38102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No hay contacto físico entre las neuronas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La llegada del impulso a la </a:t>
            </a:r>
            <a:r>
              <a:rPr b="0" lang="es-ES" sz="2000" spc="-1" strike="noStrike">
                <a:solidFill>
                  <a:srgbClr val="d51703"/>
                </a:solidFill>
                <a:latin typeface="Tahoma"/>
              </a:rPr>
              <a:t>membrana presináptica</a:t>
            </a: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 provoca liberación de </a:t>
            </a:r>
            <a:r>
              <a:rPr b="0" lang="es-ES" sz="2000" spc="-1" strike="noStrike">
                <a:solidFill>
                  <a:srgbClr val="3b1cd4"/>
                </a:solidFill>
                <a:latin typeface="Tahoma"/>
              </a:rPr>
              <a:t>neurotransmisores </a:t>
            </a: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(acetilcolina, noradrenalina) al </a:t>
            </a:r>
            <a:r>
              <a:rPr b="0" lang="es-ES" sz="2000" spc="-1" strike="noStrike">
                <a:solidFill>
                  <a:srgbClr val="d51703"/>
                </a:solidFill>
                <a:latin typeface="Tahoma"/>
              </a:rPr>
              <a:t>espacio sináptico</a:t>
            </a: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El neurotransmisor se une a receptores específicos de la </a:t>
            </a:r>
            <a:r>
              <a:rPr b="0" lang="es-ES" sz="2000" spc="-1" strike="noStrike">
                <a:solidFill>
                  <a:srgbClr val="d51703"/>
                </a:solidFill>
                <a:latin typeface="Tahoma"/>
              </a:rPr>
              <a:t>membrana postsináptica</a:t>
            </a:r>
            <a:r>
              <a:rPr b="0" lang="es-ES" sz="2000" spc="-1" strike="noStrike">
                <a:solidFill>
                  <a:srgbClr val="360036"/>
                </a:solidFill>
                <a:latin typeface="Tahoma"/>
              </a:rPr>
              <a:t> y provoca su despolarización, propagando el impulso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pic>
        <p:nvPicPr>
          <p:cNvPr id="116" name="Picture 6" descr="sinapsis"/>
          <p:cNvPicPr/>
          <p:nvPr/>
        </p:nvPicPr>
        <p:blipFill>
          <a:blip r:embed="rId1"/>
          <a:stretch/>
        </p:blipFill>
        <p:spPr>
          <a:xfrm>
            <a:off x="324000" y="2276640"/>
            <a:ext cx="4679640" cy="4340160"/>
          </a:xfrm>
          <a:prstGeom prst="rect">
            <a:avLst/>
          </a:prstGeom>
          <a:ln w="25560">
            <a:solidFill>
              <a:srgbClr val="c3a3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rganización del sistema nervios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FUNCIONE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Conectar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receptores sensoriale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centros nerviosos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órganos efectores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Conducir impulsos nervioso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►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ntegrar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stímulos sensitivos       respuesta fisiológica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19" name="3 Llamada de flecha a la derecha"/>
          <p:cNvSpPr/>
          <p:nvPr/>
        </p:nvSpPr>
        <p:spPr>
          <a:xfrm>
            <a:off x="4211640" y="2781360"/>
            <a:ext cx="639720" cy="1214280"/>
          </a:xfrm>
          <a:prstGeom prst="rightArrowCallout">
            <a:avLst>
              <a:gd name="adj1" fmla="val 24994"/>
              <a:gd name="adj2" fmla="val 25001"/>
              <a:gd name="adj3" fmla="val 25000"/>
              <a:gd name="adj4" fmla="val 64977"/>
            </a:avLst>
          </a:prstGeom>
          <a:solidFill>
            <a:srgbClr val="c3a3c2"/>
          </a:solidFill>
          <a:ln w="25560">
            <a:solidFill>
              <a:srgbClr val="8f7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20" name="5 Flecha curvada hacia arriba"/>
          <p:cNvSpPr/>
          <p:nvPr/>
        </p:nvSpPr>
        <p:spPr>
          <a:xfrm>
            <a:off x="4500720" y="5516640"/>
            <a:ext cx="1428480" cy="642960"/>
          </a:xfrm>
          <a:custGeom>
            <a:avLst/>
            <a:gdLst>
              <a:gd name="textAreaLeft" fmla="*/ 297720 w 1428480"/>
              <a:gd name="textAreaRight" fmla="*/ 1053720 w 142848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04" hR="21600" stAng="10800000" swAng="-5400000"/>
                <a:lnTo>
                  <a:pt x="11433" y="21600"/>
                </a:lnTo>
                <a:arcTo wR="9004" hR="21600" stAng="5400000" swAng="-3493465"/>
                <a:lnTo>
                  <a:pt x="21314" y="5400"/>
                </a:lnTo>
                <a:lnTo>
                  <a:pt x="19222" y="0"/>
                </a:lnTo>
                <a:lnTo>
                  <a:pt x="16557" y="5400"/>
                </a:lnTo>
                <a:lnTo>
                  <a:pt x="17721" y="5400"/>
                </a:lnTo>
                <a:arcTo wR="9004" hR="21600" stAng="1906535" swAng="3298597"/>
                <a:lnTo>
                  <a:pt x="10218" y="21403"/>
                </a:lnTo>
                <a:arcTo wR="9004" hR="21600" stAng="5594868" swAng="5205132"/>
                <a:close/>
              </a:path>
              <a:path fill="darkenLess" w="21600" h="21600">
                <a:moveTo>
                  <a:pt x="0" y="0"/>
                </a:moveTo>
                <a:arcTo wR="9004" hR="21600" stAng="10800000" swAng="-5400000"/>
                <a:lnTo>
                  <a:pt x="11433" y="21600"/>
                </a:lnTo>
                <a:arcTo wR="9004" hR="21600" stAng="5400000" swAng="194868"/>
                <a:lnTo>
                  <a:pt x="10218" y="21403"/>
                </a:lnTo>
                <a:arcTo wR="9004" hR="21600" stAng="5594868" swAng="5205132"/>
                <a:close/>
              </a:path>
            </a:pathLst>
          </a:custGeom>
          <a:solidFill>
            <a:srgbClr val="c3a3c2"/>
          </a:solidFill>
          <a:ln w="25560">
            <a:solidFill>
              <a:srgbClr val="8f77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8:03:07Z</dcterms:created>
  <dc:creator>Daniel</dc:creator>
  <dc:description/>
  <dc:language>en-US</dc:language>
  <cp:lastModifiedBy>Dani</cp:lastModifiedBy>
  <dcterms:modified xsi:type="dcterms:W3CDTF">2010-05-14T11:51:11Z</dcterms:modified>
  <cp:revision>8</cp:revision>
  <dc:subject/>
  <dc:title>Tema 10: Anatomía y fisiología del sistema nervioso</dc:title>
</cp:coreProperties>
</file>