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1D43-9F8D-4D60-9DAA-7433A387BE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96B-E8DC-401E-A2AF-F377F772F45F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DE03-8488-484B-B7DE-280EED314C08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110-67A7-49CC-9D54-C2E2D846D2C7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BAF6-92A0-464A-A7F5-1E3AF5747401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DFA-699A-4847-ABCF-A4A19F46AC81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F570-F226-447C-861B-6CFB43DA0FC9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AE89-CC24-4790-886D-568CE8D1AF67}" type="slidenum">
              <a:rPr b="0" lang="es-ES" sz="1200" spc="-1" strike="noStrike">
                <a:solidFill>
                  <a:srgbClr val="36003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1301-2C95-430E-B1A7-B4DF195369D1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3794-92CB-44EB-BC74-4D7A4715A44F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D58D-50ED-476E-9DEA-D5F85AD72EC0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19F-2203-4338-A804-183AF5DC3EA5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0010-B3D6-44A8-A1A0-054E28FE6EA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A2AB-6E8E-429D-AF51-FFDA9E719ABC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A026-4F04-41DE-AE40-D450183B618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D6F-979D-4AE8-9BDC-7FDADE458C9F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9C0-7C86-404B-8A67-42E742BB03EA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910B-FE4C-4FE0-87CE-43955C15A4D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F15D-83D5-4483-8191-5F5BC3EF7610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BF7F-39DC-4817-8EE0-19D25D7E4720}" type="slidenum">
              <a:rPr b="0" lang="es-ES" sz="1200" spc="-1" strike="noStrike">
                <a:solidFill>
                  <a:srgbClr val="36003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B66-D337-4FA6-90D8-7987184E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2DF-4F7F-4EAB-A415-09DE02F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BCF-05D2-4791-826D-5816FA78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DE4-5889-4A55-919D-8D594308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AAFD-A840-4D95-91A6-4E26F647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766-66AE-4FAB-9F76-DBF6D9C4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51C5-DDD5-41E6-89D4-0F83914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BF66-BDDC-481B-8E80-D41161B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BD2D-C630-4D3A-9E61-2B0735C9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893-27A7-4FC7-A4A8-2C2B2A28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5F08-DB66-429D-9C9D-2ACA4F72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178-5914-47EB-B1E2-AA46014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B31-CF74-475C-9931-CDB6523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78DD-5E76-422B-8AF8-19E4E3C0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1205-BDFB-42FA-A846-4609A1A6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B4F7-D11D-498B-9342-7DED6D76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4302-8645-4831-B246-D224C98F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9CF-8A4E-4F5F-8031-7AB35E39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1AF-237F-46AA-B7B8-8D76E09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A9A-F2BD-4C9B-B3DD-C9B6A524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D68-40D8-4C5A-8D00-1A8B467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9F9-158A-4450-B652-B294571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249-517A-46F6-B0B1-DBBAE57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998-4465-40B0-AF14-02272FF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c3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C675-727E-491C-AC4E-329EC9A3D63A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c3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6840-A2CE-462E-9A2A-363C63A6351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ma 10: Anatomía y fisiología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300px-Nervous_system_diagram"/>
          <p:cNvPicPr/>
          <p:nvPr/>
        </p:nvPicPr>
        <p:blipFill>
          <a:blip r:embed="rId1"/>
          <a:stretch/>
        </p:blipFill>
        <p:spPr>
          <a:xfrm>
            <a:off x="5148360" y="260280"/>
            <a:ext cx="3811320" cy="628992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b1cd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1cd4"/>
                </a:solidFill>
                <a:latin typeface="Tahoma"/>
              </a:rPr>
              <a:t>Sistema nervioso central</a:t>
            </a: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: Reciben estímulos y elaboran respuest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Encéfalo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édula espinal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b1cd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1cd4"/>
                </a:solidFill>
                <a:latin typeface="Tahoma"/>
              </a:rPr>
              <a:t>Sistema nervioso periférico</a:t>
            </a: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: nervios que conectan los centros nerviosos con los receptores y los efect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. N. vegetativo (actividades involuntaria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. N. somático (actividades voluntarias y actos reflejo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71840" y="0"/>
            <a:ext cx="56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" descr="C:\Users\Pablo\Desktop\Clara\Documentos Daniel\BH15-07-2004 (E)\Imagenes\Unidad10\Fig10_21_SNC-SNP-SNA.jpg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2" descr="C:\Users\Pablo\Desktop\Clara\Documentos Daniel\BH15-07-2004 (E)\Imagenes\Unidad10\Fig10_08_NEURONA AFERENTE Y EFERENTE.jpg"/>
          <p:cNvPicPr/>
          <p:nvPr/>
        </p:nvPicPr>
        <p:blipFill>
          <a:blip r:embed="rId1"/>
          <a:stretch/>
        </p:blipFill>
        <p:spPr>
          <a:xfrm>
            <a:off x="1619280" y="2147760"/>
            <a:ext cx="7524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IPOS DE NEURONAS O FIBRAS NERVIOSAS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bras aferentes (sensitivas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bras eferentes (motoras o secretoras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Neuronas de asociación-interneurona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o reflej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0920" y="1981080"/>
            <a:ext cx="518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Formado por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cep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sensitiv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: lleva el impulso al centro nervioso (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médula espin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de asociación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en la médul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motor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: lleva el impulso al efector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Efec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33" name="Picture 9" descr="arco_reflejo"/>
          <p:cNvPicPr/>
          <p:nvPr/>
        </p:nvPicPr>
        <p:blipFill>
          <a:blip r:embed="rId1"/>
          <a:stretch/>
        </p:blipFill>
        <p:spPr>
          <a:xfrm>
            <a:off x="395280" y="2205000"/>
            <a:ext cx="3067200" cy="411480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  <p:sp>
        <p:nvSpPr>
          <p:cNvPr id="134" name="Line 10"/>
          <p:cNvSpPr/>
          <p:nvPr/>
        </p:nvSpPr>
        <p:spPr>
          <a:xfrm flipV="1">
            <a:off x="2627280" y="2708280"/>
            <a:ext cx="1728720" cy="172872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1332000" y="3068640"/>
            <a:ext cx="3024000" cy="165564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H="1" flipV="1">
            <a:off x="2124000" y="2997360"/>
            <a:ext cx="2232000" cy="107928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 flipH="1" flipV="1">
            <a:off x="826560" y="3284280"/>
            <a:ext cx="3529080" cy="158436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 flipH="1" flipV="1">
            <a:off x="1476000" y="4005360"/>
            <a:ext cx="2879640" cy="151128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o reflej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82436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céfa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619280" y="1981080"/>
          <a:ext cx="672300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1080"/>
                    <a:ext cx="672300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funciones de rel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organismos detectan cambios en el entorno, llamados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estímulo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y elaboran acciones llamadas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spuest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estímulos son captados por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células sensoriales recep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y los convierten en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impulsos nervioso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que se transmiten hasta un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centro nervios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El centro nervioso emite otro impulso que llega a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órgano efec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y éste elabora la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spuest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as respuestas pueden ser 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mo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 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secre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sistemas de relación son e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sistema nervios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y e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sistema endocrin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41 Neurona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1268280"/>
            <a:ext cx="8604000" cy="514692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neuro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290920" y="5805360"/>
            <a:ext cx="1716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60036"/>
                </a:solidFill>
                <a:latin typeface="Arial"/>
              </a:rPr>
              <a:t>Célula de Schwann</a:t>
            </a:r>
            <a:endParaRPr b="0" lang="en-US" sz="1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485680" y="40035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60036"/>
                </a:solidFill>
                <a:latin typeface="Arial"/>
              </a:rPr>
              <a:t>Nódulo de Ranvier</a:t>
            </a:r>
            <a:endParaRPr b="0" lang="en-US" sz="1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6156360" y="4292640"/>
            <a:ext cx="287280" cy="7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impulso nervio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reposo la membrana está polarizada debido a la acción de la </a:t>
            </a:r>
            <a:r>
              <a:rPr b="0" lang="es-ES" sz="2400" spc="-1" strike="noStrike">
                <a:solidFill>
                  <a:srgbClr val="d51703"/>
                </a:solidFill>
                <a:latin typeface="Tahoma"/>
              </a:rPr>
              <a:t>bomba de Na-K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: hay más concentración de iones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Na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en el exterior, y más concentración de iones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K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en el interior (expulsa 3 Na+ por cada 2 K+ que entran)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llegada de un estímulo provoca la apertura de canales de Na+. El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Na+ entra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a favor de gradiente y se produce la despolarización de la membrana (</a:t>
            </a:r>
            <a:r>
              <a:rPr b="0" lang="es-ES" sz="2400" spc="-1" strike="noStrike">
                <a:solidFill>
                  <a:srgbClr val="3b1cd4"/>
                </a:solidFill>
                <a:latin typeface="Tahoma"/>
              </a:rPr>
              <a:t>potencial de acción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Se cierran los canales de Na+ y se abren los canales de K+.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Sale K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y la membrana se repolariz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bomba de Na-K restablece las concentraciones iniciale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tencial de Ac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6" descr="potencial_accion"/>
          <p:cNvPicPr/>
          <p:nvPr/>
        </p:nvPicPr>
        <p:blipFill>
          <a:blip r:embed="rId1"/>
          <a:srcRect l="4666" t="6999" r="4666" b="6999"/>
          <a:stretch/>
        </p:blipFill>
        <p:spPr>
          <a:xfrm>
            <a:off x="1692360" y="2057400"/>
            <a:ext cx="7272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pagación del impulso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6" descr="impulso_nervioso_2"/>
          <p:cNvPicPr/>
          <p:nvPr/>
        </p:nvPicPr>
        <p:blipFill>
          <a:blip r:embed="rId1"/>
          <a:stretch/>
        </p:blipFill>
        <p:spPr>
          <a:xfrm>
            <a:off x="1619280" y="1959120"/>
            <a:ext cx="752472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El impulso nervioso se desplaza como una onda a lo largo del ax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Mientras la membrana está despolarizada no se originan nuevos impulsos (</a:t>
            </a:r>
            <a:r>
              <a:rPr b="0" lang="es-ES" sz="2800" spc="-1" strike="noStrike">
                <a:solidFill>
                  <a:srgbClr val="d51703"/>
                </a:solidFill>
                <a:latin typeface="Tahoma"/>
              </a:rPr>
              <a:t>período refractario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Pueden transmitirse 500 – 1000 impulsos por segund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El impulso se propaga más rápidamente en axones con mielina. La despolarización sólo se produce en los </a:t>
            </a:r>
            <a:r>
              <a:rPr b="0" lang="es-ES" sz="2800" spc="-1" strike="noStrike">
                <a:solidFill>
                  <a:srgbClr val="3b1cd4"/>
                </a:solidFill>
                <a:latin typeface="Tahoma"/>
              </a:rPr>
              <a:t>nódulos de Ranvier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 (</a:t>
            </a:r>
            <a:r>
              <a:rPr b="0" lang="es-ES" sz="2800" spc="-1" strike="noStrike">
                <a:solidFill>
                  <a:srgbClr val="d51703"/>
                </a:solidFill>
                <a:latin typeface="Tahoma"/>
              </a:rPr>
              <a:t>conducción saltatoria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pagación del impulso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nap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720" y="2349000"/>
            <a:ext cx="38102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No hay contacto físico entre las neurona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La llegada del impulso a la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membrana presináptica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 provoca liberación de </a:t>
            </a:r>
            <a:r>
              <a:rPr b="0" lang="es-ES" sz="2000" spc="-1" strike="noStrike">
                <a:solidFill>
                  <a:srgbClr val="3b1cd4"/>
                </a:solidFill>
                <a:latin typeface="Tahoma"/>
              </a:rPr>
              <a:t>neurotransmisores 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(acetilcolina, noradrenalina) al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espacio sináptico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El neurotransmisor se une a receptores específicos de la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membrana postsináptica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 y provoca su despolarización, propagando el impulso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6" name="Picture 6" descr="sinapsis"/>
          <p:cNvPicPr/>
          <p:nvPr/>
        </p:nvPicPr>
        <p:blipFill>
          <a:blip r:embed="rId1"/>
          <a:stretch/>
        </p:blipFill>
        <p:spPr>
          <a:xfrm>
            <a:off x="324000" y="2276640"/>
            <a:ext cx="4679640" cy="434016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FUNCIONE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Conectar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receptores sensorial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centros nervioso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órganos efectore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Conducir impulsos nervioso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tegrar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stímulos sensitivos       respuesta fisiológic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9" name="3 Llamada de flecha a la derecha"/>
          <p:cNvSpPr/>
          <p:nvPr/>
        </p:nvSpPr>
        <p:spPr>
          <a:xfrm>
            <a:off x="4211640" y="2781360"/>
            <a:ext cx="639720" cy="1214280"/>
          </a:xfrm>
          <a:prstGeom prst="rightArrowCallout">
            <a:avLst>
              <a:gd name="adj1" fmla="val 24994"/>
              <a:gd name="adj2" fmla="val 25001"/>
              <a:gd name="adj3" fmla="val 25000"/>
              <a:gd name="adj4" fmla="val 64977"/>
            </a:avLst>
          </a:prstGeom>
          <a:solidFill>
            <a:srgbClr val="c3a3c2"/>
          </a:solidFill>
          <a:ln w="25560">
            <a:solidFill>
              <a:srgbClr val="8f7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20" name="5 Flecha curvada hacia arriba"/>
          <p:cNvSpPr/>
          <p:nvPr/>
        </p:nvSpPr>
        <p:spPr>
          <a:xfrm>
            <a:off x="4500720" y="5516640"/>
            <a:ext cx="1428480" cy="642960"/>
          </a:xfrm>
          <a:custGeom>
            <a:avLst/>
            <a:gdLst>
              <a:gd name="textAreaLeft" fmla="*/ 297720 w 1428480"/>
              <a:gd name="textAreaRight" fmla="*/ 1053720 w 142848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4" hR="21600" stAng="10800000" swAng="-5400000"/>
                <a:lnTo>
                  <a:pt x="11433" y="21600"/>
                </a:lnTo>
                <a:arcTo wR="9004" hR="21600" stAng="5400000" swAng="-3493465"/>
                <a:lnTo>
                  <a:pt x="21314" y="5400"/>
                </a:lnTo>
                <a:lnTo>
                  <a:pt x="19222" y="0"/>
                </a:lnTo>
                <a:lnTo>
                  <a:pt x="16557" y="5400"/>
                </a:lnTo>
                <a:lnTo>
                  <a:pt x="17721" y="5400"/>
                </a:lnTo>
                <a:arcTo wR="9004" hR="21600" stAng="1906535" swAng="3298597"/>
                <a:lnTo>
                  <a:pt x="10218" y="21403"/>
                </a:lnTo>
                <a:arcTo wR="9004" hR="21600" stAng="5594868" swAng="5205132"/>
                <a:close/>
              </a:path>
              <a:path fill="darkenLess" w="21600" h="21600">
                <a:moveTo>
                  <a:pt x="0" y="0"/>
                </a:moveTo>
                <a:arcTo wR="9004" hR="21600" stAng="10800000" swAng="-5400000"/>
                <a:lnTo>
                  <a:pt x="11433" y="21600"/>
                </a:lnTo>
                <a:arcTo wR="9004" hR="21600" stAng="5400000" swAng="194868"/>
                <a:lnTo>
                  <a:pt x="10218" y="21403"/>
                </a:lnTo>
                <a:arcTo wR="9004" hR="21600" stAng="5594868" swAng="5205132"/>
                <a:close/>
              </a:path>
            </a:pathLst>
          </a:custGeom>
          <a:solidFill>
            <a:srgbClr val="c3a3c2"/>
          </a:solidFill>
          <a:ln w="25560">
            <a:solidFill>
              <a:srgbClr val="8f7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03:07Z</dcterms:created>
  <dc:creator>Daniel</dc:creator>
  <dc:description/>
  <dc:language>en-US</dc:language>
  <cp:lastModifiedBy>Dani</cp:lastModifiedBy>
  <dcterms:modified xsi:type="dcterms:W3CDTF">2010-05-14T11:51:11Z</dcterms:modified>
  <cp:revision>8</cp:revision>
  <dc:subject/>
  <dc:title>Tema 10: Anatomía y fisiología del sistema nervioso</dc:title>
</cp:coreProperties>
</file>