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15.jpeg" ContentType="image/jpeg"/>
  <Override PartName="/ppt/media/image3.wmf" ContentType="image/x-wmf"/>
  <Override PartName="/ppt/media/image1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D02D1-1638-4CB6-8F82-256CF067D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9E03B-3B08-4748-B56F-E90B611E0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11D3B-0410-4A2A-BFA6-4E4D35BA6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9118A-77D3-4A74-99DB-1A860EBAB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05873-E3FF-4059-971C-AFA30705F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99CEC-A295-4DFC-82F2-42C9570C3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E8E6F-77CE-4346-A65E-F6F1CF607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5E46E-D51F-44B0-B254-7EA583158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89FEC-B4F3-41E7-ABDA-0038347C1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2FE74-F894-489D-AA74-B2CDA9AAA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CB8FD-C738-4359-9EF1-3CFA30D1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6E2BA-FB70-422D-BA0F-A4AC0BB6B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D7378-E288-40D9-91EA-DF5A70CDF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9651B-5347-4E15-AE66-B57BA9ED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D9472-0249-4223-AFD2-86647DD1A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4B435-C285-48B5-9C94-B31C0FB9A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5DB44-824A-4DBF-ADA1-BC804837E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BB96A-66A0-4B58-BAF4-DF0255A20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1B77E-2B3C-4085-84DE-CD0A9C586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755CF-E3AB-4087-BA3F-CA5F00E22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57586-A64C-4540-8ED2-AC5A17842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6D179-4F9B-48C3-9C8E-DF7F1F5B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605FA-2C4C-41B5-A701-9A046E51A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37369-E59E-4F87-B0C0-A49B19BE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C54C4-1EEF-43BE-8369-04FDF8D16A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10F5E-4EA8-4373-A954-75E594D7A2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Origen y evolución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de la especie humana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211640" y="4321080"/>
          <a:ext cx="3929040" cy="253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1640" y="4321080"/>
                    <a:ext cx="3929040" cy="253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4643280" y="189000"/>
          <a:ext cx="3313440" cy="1361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189000"/>
                    <a:ext cx="3313440" cy="13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ilogenia de los Homín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496908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sabe que los Primates derivaron evolutivamente de un pequeño mamífero arborícola, parecido a una ardilla. Un buen ejemplo al respecto debió ser el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Plesiadapi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 , que vivió hace unos 60 m.a. El pequeño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Plesiadapi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fue derivando hacia variedades y razas cada vez más grandes y pesadas de su especie, y hacia nuevas especies arborícolas de mayor tamaño fís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Plesiadapis"/>
          <p:cNvPicPr/>
          <p:nvPr/>
        </p:nvPicPr>
        <p:blipFill>
          <a:blip r:embed="rId1"/>
          <a:stretch/>
        </p:blipFill>
        <p:spPr>
          <a:xfrm>
            <a:off x="5672160" y="2098800"/>
            <a:ext cx="2932200" cy="27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ilogenia de los Homín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68000" y="1557000"/>
            <a:ext cx="65581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Proconsu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es un género de primates fósiles de Kenya, hace 23 a 14 millones de años. Se trata de monos fósiles que vivieron cerca del momento en que hombres y monos divergieron, hace unos 20-25 M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esentaban rasgos de los simios como la ausencia de cola, pero aun conservaba algunos de los monos. Por ejemplo, tenían una columna flexible y un tórax estrecho, como los monos, aunque también tenían una amplia movilidad en caderas y dedo pulgar, como simios y homb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Proconsul heseloni"/>
          <p:cNvPicPr/>
          <p:nvPr/>
        </p:nvPicPr>
        <p:blipFill>
          <a:blip r:embed="rId1"/>
          <a:stretch/>
        </p:blipFill>
        <p:spPr>
          <a:xfrm>
            <a:off x="468360" y="1773360"/>
            <a:ext cx="1806480" cy="25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6840" y="1980720"/>
            <a:ext cx="5986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rrori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encontrado en las montañas de Kenya, vivió hace  unos 6 millones de años, momento cercano a la separación de los linajes humano y de los grandes mon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aracterísticas del esqueleto evidencian que estaban capacitados ya para la bipedestación. Sin embargo, las falanges manuales recurvadas y la forma del húmero indican buena capacidad para trepar a los árbo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ilogenia de los Homín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O. tugenensis"/>
          <p:cNvPicPr/>
          <p:nvPr/>
        </p:nvPicPr>
        <p:blipFill>
          <a:blip r:embed="rId1"/>
          <a:stretch/>
        </p:blipFill>
        <p:spPr>
          <a:xfrm>
            <a:off x="6516720" y="3716280"/>
            <a:ext cx="208584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ilogenia de los homín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rdipithecu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vivió en Etiopìa hace unos 4,4 m.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 el representante más antiguo de la rama huma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Vivió en ambiente de bosque tropical lluvioso templ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os 120 cm de talla y unos 50 kg de pe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Bípedo o semi-bípedo; en el suelo no se apoya en los nudill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amaño cerebral similar al chimpanc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57200" y="2530440"/>
            <a:ext cx="403848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ilogenia de los Homín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23640" y="1988640"/>
            <a:ext cx="583236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ustralopithecu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comprende 5 especies que vivieron en África entre 4,2 y 2,5 m.a. Su capacidad craneana es muy pequeña, alrededor de 400 c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ran bípedos con capacidad para trepar a los árboles, y vivía en un ambiente forestal abierto o sabanas arbolad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 dieta era herbívora: frutos, hojas, raíces y semill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confirmación de que caminaban con una eficiente bipedestación llegó con el descubrimiento de un conjunto de huellas de homínidos impresas sobre una capa de ceniza volcánica húmeda de unos tres y medio millones de años de edad, cerca de Laetoli en Áfric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372360" y="2276640"/>
            <a:ext cx="257652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ilogenia de los Homín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003640" y="1989000"/>
            <a:ext cx="3910320" cy="328932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8920" y="2565360"/>
            <a:ext cx="45370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aranthropus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vivió entre 2,7 y 1 m.a. Sus restos se han hallado en Kenya, Tanzania y Sudáfric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forma de los dientes y de la mandíbula indica una adaptación a un estilo de vida vegetariano, que se corresponde con un ambiente semiárido de sabana y una disminución de los recursos alimentarios.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aranthropus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especializó en la masticación de tubérculos duros para lo cual desarrolló una gran mandíbula con un poderoso aparato masticato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ilogenia de los Homín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Hom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apareció hace aproximadamente 2,4 m.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representante más antiguo,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Homo habili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era similar a los Australopithecus pero con mayor volumen cerebral. Se le asocian instrumentos de piedra rudimentari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219640" y="2060640"/>
            <a:ext cx="33544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ilogenia de los Homín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564000" y="1699920"/>
            <a:ext cx="5184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tra especie, el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Homo ergaster/Homo erectu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apareció hace unos 1,5 millones de años, y llegó a habitar gran parte del Viejo Mundo, desde África hasta China e Indones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 descendiente suyo, el pequeño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Homo floresiensi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sobrevivió hasta hace unos 13000 años en islas cercanas a Jav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H. floresiensis"/>
          <p:cNvPicPr/>
          <p:nvPr/>
        </p:nvPicPr>
        <p:blipFill>
          <a:blip r:embed="rId1"/>
          <a:stretch/>
        </p:blipFill>
        <p:spPr>
          <a:xfrm>
            <a:off x="468360" y="2924280"/>
            <a:ext cx="296208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ilogenia de los Homín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26716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Hace unos 800.000 vivió en Atapuerca (Burgos) el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Homo antecessor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ancestro común de neandertales y hombres modernos. Eran cazadores y recolector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ran individuos altos, fuertes y con una cara de rasgos modernos aunque su cerebro fuera más pequeño que el del hombre actu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H. antecessor reconstrucción"/>
          <p:cNvPicPr/>
          <p:nvPr/>
        </p:nvPicPr>
        <p:blipFill>
          <a:blip r:embed="rId1"/>
          <a:stretch/>
        </p:blipFill>
        <p:spPr>
          <a:xfrm>
            <a:off x="5940360" y="1844640"/>
            <a:ext cx="281484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ilogenia de los Homín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211640" y="1628280"/>
            <a:ext cx="4681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Homo neanderthalensi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habitó Europa y partes de Asia occidental desde hace 230.000 hasta 29.000 años atrá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ienen cráneos alargados y amplios, complexión corta y robusta, y nariz grande; rasgos que denotan adaptación a climas frí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s cerebros eran igual o más grandes que los del hombre modern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 neandertal promedio tendría una altura de 1,65 m, de contextura pesada, y musculatura robust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o es antepasado del hombre actu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33520" y="2333520"/>
            <a:ext cx="353376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acterísticas generales de los Prim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9152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tán </a:t>
            </a:r>
            <a:r>
              <a:rPr b="0" lang="es-ES" sz="2400" spc="-1" strike="noStrike">
                <a:solidFill>
                  <a:srgbClr val="cc3300"/>
                </a:solidFill>
                <a:latin typeface="Arial"/>
              </a:rPr>
              <a:t>adaptados a la vida en el bosque tropica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 En la actualidad, se conocen cerca de 175 especies distribuidas por las zonas tropicales de América, Asia y Áfric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general, son </a:t>
            </a:r>
            <a:r>
              <a:rPr b="0" lang="es-ES" sz="2400" spc="-1" strike="noStrike">
                <a:solidFill>
                  <a:srgbClr val="cc3300"/>
                </a:solidFill>
                <a:latin typeface="Arial"/>
              </a:rPr>
              <a:t>vegetarianos, frugívoros y folívor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aunque sus dietas suelen ser variadas, incluyendo invertebrados y, a veces, mamífer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esentan un </a:t>
            </a:r>
            <a:r>
              <a:rPr b="0" lang="es-ES" sz="2400" spc="-1" strike="noStrike">
                <a:solidFill>
                  <a:srgbClr val="cc3300"/>
                </a:solidFill>
                <a:latin typeface="Arial"/>
              </a:rPr>
              <a:t>esqueleto básicamente primitiv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especialmente en la dentición, junto a otras características propias </a:t>
            </a:r>
            <a:r>
              <a:rPr b="0" lang="es-ES" sz="2400" spc="-1" strike="noStrike">
                <a:solidFill>
                  <a:srgbClr val="cc3300"/>
                </a:solidFill>
                <a:latin typeface="Arial"/>
              </a:rPr>
              <a:t>muy evolucionad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 Estas características están relacionadas con dos aspectos que han marcado la historia evolutiva del grupo: la </a:t>
            </a:r>
            <a:r>
              <a:rPr b="0" lang="es-ES" sz="2400" spc="-1" strike="noStrike">
                <a:solidFill>
                  <a:srgbClr val="cc3300"/>
                </a:solidFill>
                <a:latin typeface="Arial"/>
              </a:rPr>
              <a:t>vida en los árboles, y la sociabilidad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ilogenia de los Homín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Homo sapien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se originó en algún lugar de África hace alrededor de 150.000 añ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especie se expandió relativamente lento, llegando a Australia hace 40.000 añ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Europa, la especie parece haber entrado más lentamente, entre 40.000 y 35.000 años, por la península ibérica y por el es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932360" y="1916280"/>
            <a:ext cx="2378160" cy="31683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rcRect l="0" t="0" r="0" b="11339"/>
          <a:stretch/>
        </p:blipFill>
        <p:spPr>
          <a:xfrm>
            <a:off x="6804000" y="3789360"/>
            <a:ext cx="21160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acterísticas generales de los Prim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anos y pies con cinco dedos,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 con muy pocas excepciones en las especies vi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ies plantígrad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ulgar oponibl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n manos y p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dos de la man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con capacidad de flexión, divergencia y converge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lavícul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 pres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ntició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 poco especializada, con 4 incisivo, 2 caninos, 4 premolares y 6 molares en cada mandíbu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Uñas plan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n lugar de garras (en la gran mayoría de las especi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Visión a color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(en la gran mayoría de las especi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acterísticas generales de los Prim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rticulaciones del hombro y del cod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 bien desarroll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Hemisferios cerebral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 bien desarroll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Visión binocular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(en diferentes grados). Como resultado, nos permite estimar con gran precisión distanci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Órbitas ocular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rodeadas de hue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stado precoz de maduración nerviosa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l na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Viven en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grupos sociales de gran complejidad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 La compleja vida social está asociada a un notable desarrollo de su intelig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quieren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eriodos de aprendizaje más larg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que los del resto de mamíferos. Así, se hacen necesarias infancias más lar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ndencias evolutivas de los Primate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umento de la motilidad libre de los dedos, especialmente del pulg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sminución progresiva de la longitud del hoc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enor dependencia del sentido del olfato y mayor dependencia de la vis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servación del patrón de cúspide simple en los mola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sarrollo progresivo del cerebro, especialmente de la corteza cereb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sarrollo progresivo de la verticalidad del tron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longación de los períodos de vida postna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sarrollo de los procesos gestacionales relacionados con la nutrición del fe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ificación de los Prim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7360" y="2181240"/>
            <a:ext cx="5489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476360" y="1484280"/>
            <a:ext cx="6049800" cy="33433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24000" y="4869000"/>
            <a:ext cx="8397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1" lang="es-ES" sz="1800" spc="-1" strike="noStrike">
                <a:solidFill>
                  <a:srgbClr val="cc3300"/>
                </a:solidFill>
                <a:latin typeface="Arial"/>
              </a:rPr>
              <a:t>estrepsirrin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representados por el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emur de cola anillad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Lemur catt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 (izquierda) tienen la piel desnuda y húmeda alrededor de las aberturas nasales y el labio inferior partido y fijado a las encías por la línea media. Los </a:t>
            </a:r>
            <a:r>
              <a:rPr b="1" lang="es-ES" sz="1800" spc="-1" strike="noStrike">
                <a:solidFill>
                  <a:srgbClr val="cc3300"/>
                </a:solidFill>
                <a:latin typeface="Arial"/>
              </a:rPr>
              <a:t>haplorrin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aquí representados por un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oril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Gorilla gorill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 (derecha) tienen la piel que rodea los orificios nasales del mismo tipo que la del resto de la cara y el labio superior está fusionado y es móvi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868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ificación de los Prim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ificación de los Prim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828800" y="2233440"/>
            <a:ext cx="1828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tarsero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2168640" cy="3240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828800" y="2233440"/>
            <a:ext cx="1828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titi_Callithrix_jacchus" descr=""/>
          <p:cNvPicPr/>
          <p:nvPr/>
        </p:nvPicPr>
        <p:blipFill>
          <a:blip r:embed="rId2"/>
          <a:stretch/>
        </p:blipFill>
        <p:spPr>
          <a:xfrm>
            <a:off x="3203640" y="3141720"/>
            <a:ext cx="2322360" cy="34700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828800" y="2233440"/>
            <a:ext cx="1830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manDRIL" descr=""/>
          <p:cNvPicPr/>
          <p:nvPr/>
        </p:nvPicPr>
        <p:blipFill>
          <a:blip r:embed="rId3"/>
          <a:stretch/>
        </p:blipFill>
        <p:spPr>
          <a:xfrm>
            <a:off x="6012000" y="1773360"/>
            <a:ext cx="2627280" cy="33130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69800" y="5157000"/>
            <a:ext cx="227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arsero: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Tarsius sp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7600" y="2491560"/>
            <a:ext cx="29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latirrino: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allithrix jacchu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612400" y="5157000"/>
            <a:ext cx="35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ercopitécido: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Mandrillus sphinx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lasificación de los Hominoide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95280" y="2708280"/>
            <a:ext cx="8497800" cy="28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9T17:47:20Z</dcterms:created>
  <dc:creator>Dani</dc:creator>
  <dc:description/>
  <dc:language>en-US</dc:language>
  <cp:lastModifiedBy>Dani</cp:lastModifiedBy>
  <dcterms:modified xsi:type="dcterms:W3CDTF">2009-10-02T11:51:22Z</dcterms:modified>
  <cp:revision>19</cp:revision>
  <dc:subject/>
  <dc:title>Origen y evolución de la especie humana</dc:title>
</cp:coreProperties>
</file>