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A5BC-6386-4AF1-8545-1600C65A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DF1C-89E5-4E76-B015-20FD3C7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C3E0-FD50-4B80-AF68-73E570BD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FB4A-9B73-4F20-A6DC-89AD6E4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CE68-7B2C-416A-A632-A6501B4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1AD2-5874-4728-AA31-8278D57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9310-FD0F-4F73-BFFF-913BF83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A53E-4A5E-452E-AB44-A66A3BE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EC2-CE82-4379-93E6-BEEB339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F6C8-9E4D-4CB5-80DC-FA3DA432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877-E612-47F3-BFD8-61C700A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38BA-EB71-41B7-A01A-479F544B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A027-4B3E-4097-B76D-9F34A4E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D548-1A2E-45DA-B2F7-3EDA95E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F48A-436E-47AE-8FF2-86D28C0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D52-7EF8-449C-8C78-949B7BDF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2B2E-89D3-4813-99FE-E4CCCD1C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0174-50F0-4B84-9794-7984DFF2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4CCD-9CBA-4E75-B1E1-8829B9C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7E35-2ADA-4D15-8102-F281FCF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FC1A-F25C-4495-8529-707FFFB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B4B4-BB66-4305-832F-E0FB41E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66B7-6862-486D-B275-CB07F3A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E1F0-AA17-44CB-99B0-8D5913D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832-A48F-465A-87B9-03C626175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34AE-DD54-4FF3-96C3-87E6D00C4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Origen y evolució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e la especie human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1640" y="4321080"/>
          <a:ext cx="392904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4321080"/>
                    <a:ext cx="392904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43280" y="189000"/>
          <a:ext cx="3313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9000"/>
                    <a:ext cx="3313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9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sabe que los Primates derivaron evolutivamente de un pequeño mamífero arborícola, parecido a una ardilla. Un buen ejemplo al respecto debió ser e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, que vivió hace unos 60 m.a. El pequeñ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ue derivando hacia variedades y razas cada vez más grandes y pesadas de su especie, y hacia nuevas especies arborícolas de mayor tamaño fís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Plesiadapis"/>
          <p:cNvPicPr/>
          <p:nvPr/>
        </p:nvPicPr>
        <p:blipFill>
          <a:blip r:embed="rId1"/>
          <a:stretch/>
        </p:blipFill>
        <p:spPr>
          <a:xfrm>
            <a:off x="5672160" y="2098800"/>
            <a:ext cx="29322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558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cons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es un género de primates fósiles de Kenya, hace 23 a 14 millones de años. Se trata de monos fósiles que vivieron cerca del momento en que hombres y monos divergieron, hace unos 20-25 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ban rasgos de los simios como la ausencia de cola, pero aun conservaba algunos de los monos. Por ejemplo, tenían una columna flexible y un tórax estrecho, como los monos, aunque también tenían una amplia movilidad en caderas y dedo pulgar, como simios y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roconsul heseloni"/>
          <p:cNvPicPr/>
          <p:nvPr/>
        </p:nvPicPr>
        <p:blipFill>
          <a:blip r:embed="rId1"/>
          <a:stretch/>
        </p:blipFill>
        <p:spPr>
          <a:xfrm>
            <a:off x="468360" y="1773360"/>
            <a:ext cx="18064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598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ro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contrado en las montañas de Kenya, vivió hace  unos 6 millones de años, momento cercano a la separación de los linajes humano y de los grandes mo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l esqueleto evidencian que estaban capacitados ya para la bipedestación. Sin embargo, las falanges manuales recurvadas y la forma del húmero indican buena capacidad para trepar a los árb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O. tugenensis"/>
          <p:cNvPicPr/>
          <p:nvPr/>
        </p:nvPicPr>
        <p:blipFill>
          <a:blip r:embed="rId1"/>
          <a:stretch/>
        </p:blipFill>
        <p:spPr>
          <a:xfrm>
            <a:off x="6516720" y="3716280"/>
            <a:ext cx="20858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di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ivió en Etiopìa hace unos 4,4 m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representante más antiguo de la rama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 ambiente de bosque tropical lluvioso temp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120 cm de talla y unos 50 kg de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ípedo o semi-bípedo; en el suelo no se apoya en los nudi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año cerebral similar al chimpanc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403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8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prende 5 especies que vivieron en África entre 4,2 y 2,5 m.a. Su capacidad craneana es muy pequeña, alrededor de 400 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an bípedos con capacidad para trepar a los árboles, y vivía en un ambiente forestal abierto o sabanas arbol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ieta era herbívora: frutos, hojas, raíces y semi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firmación de que caminaban con una eficiente bipedestación llegó con el descubrimiento de un conjunto de huellas de homínidos impresas sobre una capa de ceniza volcánica húmeda de unos tres y medio millones de años de edad, cerca de Laetoli en 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2276640"/>
            <a:ext cx="257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910320" cy="3289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tre 2,7 y 1 m.a. Sus restos se han hallado en Kenya, Tanzania y Sud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orma de los dientes y de la mandíbula indica una adaptación a un estilo de vida vegetariano, que se corresponde con un ambiente semiárido de sabana y una disminución de los recursos alimentario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pecializó en la masticación de tubérculos duros para lo cual desarrolló una gran mandíbula con un poderoso aparato mastica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pareció hace aproximadamente 2,4 m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presentante más antiguo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ra similar a los Australopithecus pero con mayor volumen cerebral. Se le asocian instrumentos de piedra rudimenta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354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64000" y="1699920"/>
            <a:ext cx="518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a especie,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ergaster/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pareció hace unos 1,5 millones de años, y llegó a habitar gran parte del Viejo Mundo, desde África hasta China e Indone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escendiente suyo, el pequeñ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obrevivió hasta hace unos 13000 años en islas cercanas a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H. floresiensis"/>
          <p:cNvPicPr/>
          <p:nvPr/>
        </p:nvPicPr>
        <p:blipFill>
          <a:blip r:embed="rId1"/>
          <a:stretch/>
        </p:blipFill>
        <p:spPr>
          <a:xfrm>
            <a:off x="468360" y="2924280"/>
            <a:ext cx="296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 unos 800.000 vivió en Atapuerca (Burgos)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antecess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ncestro común de neandertales y hombres modernos. Eran cazadores y recole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an individuos altos, fuertes y con una cara de rasgos modernos aunque su cerebro fuera más pequeño que el del hombre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H. antecessor reconstrucción"/>
          <p:cNvPicPr/>
          <p:nvPr/>
        </p:nvPicPr>
        <p:blipFill>
          <a:blip r:embed="rId1"/>
          <a:stretch/>
        </p:blipFill>
        <p:spPr>
          <a:xfrm>
            <a:off x="5940360" y="1844640"/>
            <a:ext cx="2814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640" y="1628280"/>
            <a:ext cx="4681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neanderthalen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bitó Europa y partes de Asia occidental desde hace 230.000 hasta 29.000 años atr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cráneos alargados y amplios, complexión corta y robusta, y nariz grande; rasgos que denotan adaptación a climas fr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cerebros eran igual o más grandes que los del hombre mod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neandertal promedio tendría una altura de 1,65 m, de contextura pesada, y musculatura robu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es antepasado del hombre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3335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adaptados a la vida en el bosque tropic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la actualidad, se conocen cerca de 175 especies distribuidas por las zonas tropicales de América, Asia y Áf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, so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egetarianos, frugívoros y folívo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unque sus dietas suelen ser variadas, incluyendo invertebrados y, a veces, mamíf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u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squeleto básicamente primi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pecialmente en la dentición, junto a otras características propias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muy evolucion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as características están relacionadas con dos aspectos que han marcado la historia evolutiva del grupo: la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ida en los árboles, y la sociabi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originó en algún lugar de África hace alrededor de 15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pecie se expandió relativamente lento, llegando a Australia hace 4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, la especie parece haber entrado más lentamente, entre 40.000 y 35.000 años, por la península ibérica y por el 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2378160" cy="316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0" t="0" r="0" b="11339"/>
          <a:stretch/>
        </p:blipFill>
        <p:spPr>
          <a:xfrm>
            <a:off x="6804000" y="3789360"/>
            <a:ext cx="2116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nos y pies con cinco dedo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con muy pocas excepciones en las especies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es plantíg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gar oponi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manos y p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dos de la 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capacidad de flexión, divergencia y conver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víc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res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nti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co especializada, con 4 incisivo, 2 caninos, 4 premolares y 6 molares en cada mandíb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ñas pla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ugar de garras 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a c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iculaciones del hombro y del c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isferios cereb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bino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diferentes grados). Como resultado, nos permite estimar con gran precisión dist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Órbitas ocu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deadas de hu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ado precoz de maduración nervi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en 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sociales de gran complej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La compleja vida social está asociada a un notable desarrollo de su intel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er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iodos de aprendizaje más larg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los del resto de mamíferos. Así, se hacen necesarias infancias más l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cias evolutivas de los Prim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o de la motilidad libre de los dedos, especialmente del pul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ción progresiva de la longitud del hoc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dependencia del sentido del olfato y mayor dependencia de la 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l patrón de cúspide simple en los m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l cerebro, especialmente de la corteza cereb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 la verticalidad del tro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longación de los períodos de vida postna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de los procesos gestacionales relacionados con la nutrición del f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7360" y="2181240"/>
            <a:ext cx="54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49800" cy="3343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48690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estrepsi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presentados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mur de cola anill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mur cat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izquierda) tienen la piel desnuda y húmeda alrededor de las aberturas nasales y el labio inferior partido y fijado a las encías por la línea media. 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haplo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quí representados por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r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orilla gori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derecha) tienen la piel que rodea los orificios nasales del mismo tipo que la del resto de la cara y el labio superior está fusionado y es mó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arsero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16864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titi_Callithrix_jacchus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322360" cy="3470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2233440"/>
            <a:ext cx="183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nDRIL" descr=""/>
          <p:cNvPicPr/>
          <p:nvPr/>
        </p:nvPicPr>
        <p:blipFill>
          <a:blip r:embed="rId3"/>
          <a:stretch/>
        </p:blipFill>
        <p:spPr>
          <a:xfrm>
            <a:off x="6012000" y="1773360"/>
            <a:ext cx="2627280" cy="331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9800" y="51570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rser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rsius s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7600" y="24915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irrin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llithrix jacch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2400" y="5157000"/>
            <a:ext cx="35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rcopitécid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drillus sphin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los Homino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4978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7:20Z</dcterms:created>
  <dc:creator>Dani</dc:creator>
  <dc:description/>
  <dc:language>en-US</dc:language>
  <cp:lastModifiedBy>Dani</cp:lastModifiedBy>
  <dcterms:modified xsi:type="dcterms:W3CDTF">2009-10-02T11:51:22Z</dcterms:modified>
  <cp:revision>19</cp:revision>
  <dc:subject/>
  <dc:title>Origen y evolución de la especie humana</dc:title>
</cp:coreProperties>
</file>