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D8B9-7ECA-4727-91DC-2C348642D4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E1B-C3E4-4EB5-B8C8-986EB1F05C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790-7ADB-4842-BFAC-58D54754D6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B5AD-DAFB-4E43-BBB4-4F96A6E3092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FF4B-585C-413B-9E71-D1C2BCBA938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6690-AF9E-465B-97C4-8C07209909F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4C6A-2E5B-405D-853E-2EDF5CDBB3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3080-E725-46C2-851C-90F59C287F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D285-05A7-40EE-BCB4-03CEC868BE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BAF7-0096-4E67-81B4-9CB105552E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D720-3966-4ACF-BD84-93C1CB35E6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68EC-26CD-464C-B471-E6A7044FB1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EC3C-4681-4E09-8080-FC0EDF901F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C1BB-5DD0-440C-A588-592AA42368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1C62-3E3D-4D0C-B4DB-F6325B5C64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F10-A91F-460B-893A-4087C00979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08B-9771-4AEC-A5CE-6521BE96BB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094-16A3-4D4C-AB72-30C15D6230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3D5-73C9-476D-81AB-3B7DB3D2864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A6B-475F-452C-8A32-48A161CF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8E1-964B-4676-93C3-BCC8B14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FA7-C10E-4C6C-9155-717C0F78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9F8-7566-4C8E-BC58-98922220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363-A17A-4543-965A-926D3A9C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9DF-9B0E-4F44-831C-C6F7CB07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B6B-FCE1-4343-96EB-7556A72A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CE4-C00E-492C-AD54-F17C973F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5FF-7092-41D4-9C2F-670DECE4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6A2-81C0-4C1F-8DE5-D178108A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35E-9D36-4EA4-B057-29A56C24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523-D71A-4DEE-A1DA-D38E733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2552-C57B-4F26-B1AA-A0AF0E8C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izado por células de gran longitud, cuyo carácter más específico es la presencia de miofibrillas contráctiles que permiten los movimientos corpo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células se denominan fibras musculares y en su citoplasma es donde se encuentran las miofibrillas, formadas por proteínas de actina y mios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lasificación de los tejidos musculares se hace teniendo en cuent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f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476280"/>
            <a:ext cx="748800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jid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jido nervioso está disperso por el organismo interenlazándose y formando una red de comunicaciones que constituye el sistema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, transmitir, analizar y utilizar las informaciones generadas por los estímulos senso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zar y coordinar directa o indirectamente el funcionamiento de casi todas las funciones del organismo mediante la transmisión del impulso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18440" cy="703080"/>
          </a:xfrm>
          <a:prstGeom prst="rect">
            <a:avLst/>
          </a:prstGeom>
          <a:solidFill>
            <a:srgbClr val="99ccff"/>
          </a:solidFill>
          <a:ln cap="rnd" w="64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ejido nervio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ejido nervioso está formado por dos component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80"/>
                </a:solidFill>
                <a:latin typeface="Arial"/>
              </a:rPr>
              <a:t>La neuron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unidad funcional básica del sistema nervio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cuerpo neuronal (soma) está el núcleo, los orgánulos y una serie de neurofibri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cuerpo neuronal se extiende una o varias prolongaciones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(dendritas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reciben estímulos de diferentes t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stímulos recibidos son transportados a través de una larga prolongación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(axón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la conexión funcional de dos neuronas o una neurona y un órgano efector se denomin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sinap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4 CuadroTexto"/>
          <p:cNvSpPr/>
          <p:nvPr/>
        </p:nvSpPr>
        <p:spPr>
          <a:xfrm>
            <a:off x="1835280" y="58053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neuronab"/>
          <p:cNvPicPr/>
          <p:nvPr/>
        </p:nvPicPr>
        <p:blipFill>
          <a:blip r:embed="rId1"/>
          <a:stretch/>
        </p:blipFill>
        <p:spPr>
          <a:xfrm>
            <a:off x="468360" y="351000"/>
            <a:ext cx="4248000" cy="5238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788000" y="62532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dendrit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cortas y numerosas con muc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ificaciones, reciben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ñales de otras neur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ax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 largos y ramificado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xtremo final, transmiten señale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as neuronas, a las células muscu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a las glánd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jido nerv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euron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 celular o soma, axón, prolongaciones dendrí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élulas de la gl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croglía              defensa patógenos y fagoc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trocitos             fagocitos, regeneran heridas, nutren a las neuronas, sostén, precursores de las neuronas (regeneración-nove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ligodendrocitos             vaina de mielina S.N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de Schwann            vaina de mielina S.N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ependimárias            epitelio de prot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3 Flecha derecha"/>
          <p:cNvSpPr/>
          <p:nvPr/>
        </p:nvSpPr>
        <p:spPr>
          <a:xfrm>
            <a:off x="2786040" y="29289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 Flecha derecha"/>
          <p:cNvSpPr/>
          <p:nvPr/>
        </p:nvSpPr>
        <p:spPr>
          <a:xfrm>
            <a:off x="3929040" y="47862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Flecha derecha"/>
          <p:cNvSpPr/>
          <p:nvPr/>
        </p:nvSpPr>
        <p:spPr>
          <a:xfrm>
            <a:off x="4286160" y="5286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6 Flecha derecha"/>
          <p:cNvSpPr/>
          <p:nvPr/>
        </p:nvSpPr>
        <p:spPr>
          <a:xfrm>
            <a:off x="2857680" y="335772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Flecha derecha"/>
          <p:cNvSpPr/>
          <p:nvPr/>
        </p:nvSpPr>
        <p:spPr>
          <a:xfrm>
            <a:off x="4429080" y="578628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neuronaes.jpg"/>
          <p:cNvPicPr/>
          <p:nvPr/>
        </p:nvPicPr>
        <p:blipFill>
          <a:blip r:embed="rId1"/>
          <a:stretch/>
        </p:blipFill>
        <p:spPr>
          <a:xfrm>
            <a:off x="600120" y="1600200"/>
            <a:ext cx="79437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92" name="5 Conector recto de flecha"/>
          <p:cNvCxnSpPr/>
          <p:nvPr/>
        </p:nvCxnSpPr>
        <p:spPr>
          <a:xfrm flipH="1">
            <a:off x="3357720" y="3500280"/>
            <a:ext cx="70200" cy="85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7 CuadroTexto"/>
          <p:cNvSpPr/>
          <p:nvPr/>
        </p:nvSpPr>
        <p:spPr>
          <a:xfrm>
            <a:off x="3143160" y="30718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x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apsis neur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 Marcador de contenido" descr="neuronas.jpg"/>
          <p:cNvPicPr/>
          <p:nvPr/>
        </p:nvPicPr>
        <p:blipFill>
          <a:blip r:embed="rId1"/>
          <a:stretch/>
        </p:blipFill>
        <p:spPr>
          <a:xfrm>
            <a:off x="1071720" y="1071720"/>
            <a:ext cx="71992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neur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3 Marcador de contenido" descr="tipos de neuronas.jpg"/>
          <p:cNvPicPr/>
          <p:nvPr/>
        </p:nvPicPr>
        <p:blipFill>
          <a:blip r:embed="rId1"/>
          <a:stretch/>
        </p:blipFill>
        <p:spPr>
          <a:xfrm>
            <a:off x="1857240" y="1214280"/>
            <a:ext cx="5286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Imagen" descr="neuronas tinción de Golgi.jpg"/>
          <p:cNvPicPr/>
          <p:nvPr/>
        </p:nvPicPr>
        <p:blipFill>
          <a:blip r:embed="rId1"/>
          <a:srcRect l="1867" t="1586" r="3217" b="6667"/>
          <a:stretch/>
        </p:blipFill>
        <p:spPr>
          <a:xfrm>
            <a:off x="3571920" y="2571840"/>
            <a:ext cx="5072040" cy="3929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uro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3 Marcador de contenido" descr="neuronas cerebrales.jpg"/>
          <p:cNvPicPr/>
          <p:nvPr/>
        </p:nvPicPr>
        <p:blipFill>
          <a:blip r:embed="rId2"/>
          <a:stretch/>
        </p:blipFill>
        <p:spPr>
          <a:xfrm>
            <a:off x="214200" y="1285920"/>
            <a:ext cx="4237200" cy="2786040"/>
          </a:xfrm>
          <a:prstGeom prst="rect">
            <a:avLst/>
          </a:prstGeom>
          <a:ln w="0">
            <a:noFill/>
          </a:ln>
        </p:spPr>
      </p:pic>
      <p:sp>
        <p:nvSpPr>
          <p:cNvPr id="101" name="4 CuadroTexto"/>
          <p:cNvSpPr/>
          <p:nvPr/>
        </p:nvSpPr>
        <p:spPr>
          <a:xfrm>
            <a:off x="1071720" y="5000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erpo celular  o 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6 Conector recto de flecha"/>
          <p:cNvCxnSpPr/>
          <p:nvPr/>
        </p:nvCxnSpPr>
        <p:spPr>
          <a:xfrm>
            <a:off x="1714680" y="1142640"/>
            <a:ext cx="7200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35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Las células gliales o neurog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012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zan funciones metabólicas de soporte y protección de las neuronas, ejemplo, las células de Schwann (envuelven el axón de las neuronas), participan en la transmisión del impulso nervi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n ser de varios tipos siendo la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strocit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 forma de estrella, nutren y sostienen a la neu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élulas de microglia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gocitan sustancias extrañas, función de def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3300"/>
              </a:buClr>
              <a:buFont typeface="Wingdings" charset="2"/>
              <a:buChar char="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élulas de Schwan y oligodendrocit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gregan una sustancia lipídica llamada mie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79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élulas gl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3 Marcador de contenido" descr="células de la glia.jpg"/>
          <p:cNvPicPr/>
          <p:nvPr/>
        </p:nvPicPr>
        <p:blipFill>
          <a:blip r:embed="rId1"/>
          <a:stretch/>
        </p:blipFill>
        <p:spPr>
          <a:xfrm>
            <a:off x="857160" y="1214280"/>
            <a:ext cx="75376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44600"/>
            <a:ext cx="7632720" cy="63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ejido muscular. Tip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Fibra muscular li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sin estriaciones, con células uninucleadas, largas y con forma de huso, rodean órganos internos y su contracción es in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</a:rPr>
              <a:t>Fibra muscular estriada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las miofibrillas poseen actina y miosina lo que les da apariencia estri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sculo esquelético, mueven el esqueleto y su contracción es 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úsculo cardiaco, exclusivas del corazón y su contracción es involun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285840" y="4857840"/>
            <a:ext cx="8545320" cy="1819080"/>
            <a:chOff x="285840" y="4857840"/>
            <a:chExt cx="8545320" cy="1819080"/>
          </a:xfrm>
        </p:grpSpPr>
        <p:pic>
          <p:nvPicPr>
            <p:cNvPr id="53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4857840"/>
              <a:ext cx="2743200" cy="18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" descr=""/>
            <p:cNvPicPr/>
            <p:nvPr/>
          </p:nvPicPr>
          <p:blipFill>
            <a:blip r:embed="rId2"/>
            <a:stretch/>
          </p:blipFill>
          <p:spPr>
            <a:xfrm>
              <a:off x="3143160" y="4857840"/>
              <a:ext cx="2648160" cy="17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4" descr=""/>
            <p:cNvPicPr/>
            <p:nvPr/>
          </p:nvPicPr>
          <p:blipFill>
            <a:blip r:embed="rId3"/>
            <a:stretch/>
          </p:blipFill>
          <p:spPr>
            <a:xfrm>
              <a:off x="6012000" y="4869000"/>
              <a:ext cx="2819160" cy="178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élulas gliales: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icrog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3 Marcador de contenido" descr="microglia1.jpg"/>
          <p:cNvPicPr/>
          <p:nvPr/>
        </p:nvPicPr>
        <p:blipFill>
          <a:blip r:embed="rId1"/>
          <a:stretch/>
        </p:blipFill>
        <p:spPr>
          <a:xfrm>
            <a:off x="4572000" y="214200"/>
            <a:ext cx="4386240" cy="3387960"/>
          </a:xfrm>
          <a:prstGeom prst="rect">
            <a:avLst/>
          </a:prstGeom>
          <a:ln w="0">
            <a:noFill/>
          </a:ln>
        </p:spPr>
      </p:pic>
      <p:pic>
        <p:nvPicPr>
          <p:cNvPr id="109" name="5 Imagen" descr="microglia.jpg"/>
          <p:cNvPicPr/>
          <p:nvPr/>
        </p:nvPicPr>
        <p:blipFill>
          <a:blip r:embed="rId2"/>
          <a:srcRect l="2342" t="3128" r="3125" b="3128"/>
          <a:stretch/>
        </p:blipFill>
        <p:spPr>
          <a:xfrm>
            <a:off x="214200" y="2606760"/>
            <a:ext cx="55008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6840" y="285480"/>
            <a:ext cx="6715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élulas gliales: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stroc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3 Marcador de contenido" descr="astrocito2.jpg"/>
          <p:cNvPicPr/>
          <p:nvPr/>
        </p:nvPicPr>
        <p:blipFill>
          <a:blip r:embed="rId1"/>
          <a:stretch/>
        </p:blipFill>
        <p:spPr>
          <a:xfrm>
            <a:off x="317520" y="1214280"/>
            <a:ext cx="4651200" cy="3643560"/>
          </a:xfrm>
          <a:prstGeom prst="rect">
            <a:avLst/>
          </a:prstGeom>
          <a:ln w="0">
            <a:noFill/>
          </a:ln>
        </p:spPr>
      </p:pic>
      <p:pic>
        <p:nvPicPr>
          <p:cNvPr id="112" name="4 Imagen" descr="astrocito1.jpg"/>
          <p:cNvPicPr/>
          <p:nvPr/>
        </p:nvPicPr>
        <p:blipFill>
          <a:blip r:embed="rId2"/>
          <a:stretch/>
        </p:blipFill>
        <p:spPr>
          <a:xfrm>
            <a:off x="4214880" y="2928960"/>
            <a:ext cx="4538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ligodendrocitos y células de schwa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3 Marcador de contenido" descr="oligodendrocitos.jpg"/>
          <p:cNvPicPr/>
          <p:nvPr/>
        </p:nvPicPr>
        <p:blipFill>
          <a:blip r:embed="rId1"/>
          <a:stretch/>
        </p:blipFill>
        <p:spPr>
          <a:xfrm>
            <a:off x="1217520" y="1600200"/>
            <a:ext cx="670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57520" y="571680"/>
            <a:ext cx="3500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élulas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pendim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Marcador de contenido" descr="células ependimarias.jpg"/>
          <p:cNvPicPr/>
          <p:nvPr/>
        </p:nvPicPr>
        <p:blipFill>
          <a:blip r:embed="rId1"/>
          <a:stretch/>
        </p:blipFill>
        <p:spPr>
          <a:xfrm>
            <a:off x="214200" y="571680"/>
            <a:ext cx="5048280" cy="3786120"/>
          </a:xfrm>
          <a:prstGeom prst="rect">
            <a:avLst/>
          </a:prstGeom>
          <a:ln w="0">
            <a:noFill/>
          </a:ln>
        </p:spPr>
      </p:pic>
      <p:pic>
        <p:nvPicPr>
          <p:cNvPr id="117" name="4 Imagen" descr="nervioso-ependimo-.jpg"/>
          <p:cNvPicPr/>
          <p:nvPr/>
        </p:nvPicPr>
        <p:blipFill>
          <a:blip r:embed="rId2"/>
          <a:srcRect l="0" t="0" r="37020" b="5955"/>
          <a:stretch/>
        </p:blipFill>
        <p:spPr>
          <a:xfrm>
            <a:off x="4429080" y="2016000"/>
            <a:ext cx="450684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645840"/>
            <a:ext cx="7848720" cy="5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ibras nerviosas o ax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ser de dos tip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MIELÍNIC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llamadas así por estar recubiertas con la membrana de  las células de Schwann. Su membrana es rica en mielina y se enrolla varias veces alrededor de la fibra nerviosa. De este modo, varias células de Schwann llegan a cubrir toda la fibra  constituyendo una especie de cubierta llamada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vaina de mielin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Como la vaina está formada por varias  células, en los puntos de contacto entre células contiguas esa cubierta queda interrumpida, recibiendo esos  lugares el nombre de </a:t>
            </a:r>
            <a:r>
              <a:rPr b="0" lang="es-ES" sz="2400" spc="-1" strike="noStrike">
                <a:solidFill>
                  <a:srgbClr val="800080"/>
                </a:solidFill>
                <a:latin typeface="Arial"/>
              </a:rPr>
              <a:t>nódulos de Ranvi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El impulso nervioso avanza a saltos, de nodo en nodo, por lo que avanza más depri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AMIELÍNICAS</a:t>
            </a:r>
            <a:r>
              <a:rPr b="0" lang="es-E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 desnudas, son las fibras que no están recubiertas por vaina de mielina. El impulso nervioso avanza recorriendo todo el axón, por lo que no va tan depr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ibras mieliniz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3 Marcador de contenido" descr="fibra mielínica.gif"/>
          <p:cNvPicPr/>
          <p:nvPr/>
        </p:nvPicPr>
        <p:blipFill>
          <a:blip r:embed="rId1"/>
          <a:stretch/>
        </p:blipFill>
        <p:spPr>
          <a:xfrm>
            <a:off x="214200" y="1214280"/>
            <a:ext cx="3689640" cy="4740480"/>
          </a:xfrm>
          <a:prstGeom prst="rect">
            <a:avLst/>
          </a:prstGeom>
          <a:ln w="0">
            <a:noFill/>
          </a:ln>
        </p:spPr>
      </p:pic>
      <p:pic>
        <p:nvPicPr>
          <p:cNvPr id="122" name="4 Imagen" descr="fibras_mielinizadas.jpg"/>
          <p:cNvPicPr/>
          <p:nvPr/>
        </p:nvPicPr>
        <p:blipFill>
          <a:blip r:embed="rId2"/>
          <a:stretch/>
        </p:blipFill>
        <p:spPr>
          <a:xfrm>
            <a:off x="3929040" y="1071720"/>
            <a:ext cx="50022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estr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4 Imagen" descr="muscular-estriado.jpg"/>
          <p:cNvPicPr/>
          <p:nvPr/>
        </p:nvPicPr>
        <p:blipFill>
          <a:blip r:embed="rId1"/>
          <a:stretch/>
        </p:blipFill>
        <p:spPr>
          <a:xfrm>
            <a:off x="1785960" y="1357200"/>
            <a:ext cx="5143320" cy="5112000"/>
          </a:xfrm>
          <a:prstGeom prst="rect">
            <a:avLst/>
          </a:prstGeom>
          <a:ln w="0">
            <a:noFill/>
          </a:ln>
        </p:spPr>
      </p:pic>
      <p:cxnSp>
        <p:nvCxnSpPr>
          <p:cNvPr id="58" name="7 Conector recto de flecha"/>
          <p:cNvCxnSpPr/>
          <p:nvPr/>
        </p:nvCxnSpPr>
        <p:spPr>
          <a:xfrm>
            <a:off x="6286320" y="2071800"/>
            <a:ext cx="857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8 Conector recto de flecha"/>
          <p:cNvCxnSpPr/>
          <p:nvPr/>
        </p:nvCxnSpPr>
        <p:spPr>
          <a:xfrm>
            <a:off x="6572160" y="321480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5 CuadroTexto"/>
          <p:cNvSpPr/>
          <p:nvPr/>
        </p:nvSpPr>
        <p:spPr>
          <a:xfrm>
            <a:off x="7143840" y="171468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úcleos periféricos de la fibra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7215120" y="2928960"/>
            <a:ext cx="171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andas claras y oscuras de los sarcómeros o estriaciones transv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estriado o esquel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Marcador de contenido" descr="músculo estriado...jpg"/>
          <p:cNvPicPr/>
          <p:nvPr/>
        </p:nvPicPr>
        <p:blipFill>
          <a:blip r:embed="rId1"/>
          <a:stretch/>
        </p:blipFill>
        <p:spPr>
          <a:xfrm>
            <a:off x="1357200" y="1214280"/>
            <a:ext cx="67644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úsculo estriado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 trans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Marcador de contenido" descr="músculo estriado-corte tranversal.jpg"/>
          <p:cNvPicPr/>
          <p:nvPr/>
        </p:nvPicPr>
        <p:blipFill>
          <a:blip r:embed="rId1"/>
          <a:stretch/>
        </p:blipFill>
        <p:spPr>
          <a:xfrm>
            <a:off x="642960" y="1285920"/>
            <a:ext cx="78757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l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3 Marcador de contenido" descr="músculo liso.-.jpg"/>
          <p:cNvPicPr/>
          <p:nvPr/>
        </p:nvPicPr>
        <p:blipFill>
          <a:blip r:embed="rId1"/>
          <a:stretch/>
        </p:blipFill>
        <p:spPr>
          <a:xfrm>
            <a:off x="785880" y="1428840"/>
            <a:ext cx="744840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l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4 Marcador de contenido" descr="musculo-liso.jpg"/>
          <p:cNvPicPr/>
          <p:nvPr/>
        </p:nvPicPr>
        <p:blipFill>
          <a:blip r:embed="rId1"/>
          <a:stretch/>
        </p:blipFill>
        <p:spPr>
          <a:xfrm>
            <a:off x="571680" y="1357200"/>
            <a:ext cx="807876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cardía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5 Marcador de contenido" descr="músculo cardíaco.jpg"/>
          <p:cNvPicPr/>
          <p:nvPr/>
        </p:nvPicPr>
        <p:blipFill>
          <a:blip r:embed="rId1"/>
          <a:stretch/>
        </p:blipFill>
        <p:spPr>
          <a:xfrm>
            <a:off x="642960" y="1428840"/>
            <a:ext cx="7385040" cy="4929120"/>
          </a:xfrm>
          <a:prstGeom prst="rect">
            <a:avLst/>
          </a:prstGeom>
          <a:ln w="0">
            <a:noFill/>
          </a:ln>
        </p:spPr>
      </p:pic>
      <p:cxnSp>
        <p:nvCxnSpPr>
          <p:cNvPr id="72" name="4 Conector recto de flecha"/>
          <p:cNvCxnSpPr/>
          <p:nvPr/>
        </p:nvCxnSpPr>
        <p:spPr>
          <a:xfrm flipH="1">
            <a:off x="7214760" y="3214800"/>
            <a:ext cx="929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8 CuadroTexto"/>
          <p:cNvSpPr/>
          <p:nvPr/>
        </p:nvSpPr>
        <p:spPr>
          <a:xfrm>
            <a:off x="8072280" y="285768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úcle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úsculo cardíaco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te longitudi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3 Marcador de contenido" descr="musculo cardíaco.jpg"/>
          <p:cNvPicPr/>
          <p:nvPr/>
        </p:nvPicPr>
        <p:blipFill>
          <a:blip r:embed="rId1"/>
          <a:stretch/>
        </p:blipFill>
        <p:spPr>
          <a:xfrm>
            <a:off x="857160" y="1571760"/>
            <a:ext cx="7385040" cy="481968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786280" y="4143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s interca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8:35:25Z</dcterms:created>
  <dc:creator>Daniel</dc:creator>
  <dc:description/>
  <dc:language>en-US</dc:language>
  <cp:lastModifiedBy>Daniel</cp:lastModifiedBy>
  <dcterms:modified xsi:type="dcterms:W3CDTF">2011-10-06T18:39:14Z</dcterms:modified>
  <cp:revision>1</cp:revision>
  <dc:subject/>
  <dc:title>Diapositiva 1</dc:title>
</cp:coreProperties>
</file>