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6F7B-E1C5-4E8A-938A-09F04978D6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1F70-51F3-4298-B5E1-B5CC7EED03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EF20-5398-41CE-BFD7-FD98107CD7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01A2-38BF-4B98-AC57-981B9DE157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9779-8F36-42A2-A03D-F193C55F18D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7531-48D0-41C8-A3A5-748C5A6A13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CDD5-6BBA-4D2C-BFE7-938600E1AA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022C-3D5B-4F89-AF48-2BD4A85296C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75BE-7B82-4AB1-B899-ED1799B5822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A84E-5221-4F44-87BF-6AE64EC43C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D6D8-8F41-46AA-B54D-9606A06C96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DEC5-20E9-4E3D-89FE-3356E80512F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5B8E-8BBC-4A4E-A6D2-8F722B483F9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F3FB-A8AB-4BA8-8BEA-C54FA434B6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3849-1788-4EE8-8674-AFFA866235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2061-780D-4F24-9880-9C8810C668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CA2-8791-47F8-88A5-637D9ACF0A6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F7B0-4F67-4151-ACD1-A171E8FA94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7C0-3AAF-4609-817F-0FFEC15393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5D4-A405-48B5-9B3A-9989C22D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5BC-2FFB-4891-BFFE-BBAEC802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A7F-074C-4A4D-A303-5F429FBD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64E-0E1B-4C41-B485-1014461E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FFC-8A6C-4AD9-958E-88DFB66C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1F8-67FD-4D87-AFD5-2D11D69C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28B-EA1C-4065-B095-705C93ED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5F4-874D-410F-9A3B-58553B16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4F0-B091-480B-BC39-8B27DF04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6DA-C525-4402-A521-4565C66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84F-8083-4AEE-AB5B-A50B4F8B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BBC-5CF7-4ADA-A39E-C910D382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4A86-7994-400A-AA9F-60B038FDB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148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izado por células de gran longitud, cuyo carácter más específico es la presencia de miofibrillas contráctiles que permiten los movimientos corpo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células se denominan fibras musculares y en su citoplasma es donde se encuentran las miofibrillas, formadas por proteínas de actina y mios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lasificación de los tejidos musculares se hace teniendo en cuent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rf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71640" y="476280"/>
            <a:ext cx="748800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jid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ejido nervioso está disperso por el organismo interenlazándose y formando una red de comunicaciones que constituye el sistema nervi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ctar, transmitir, analizar y utilizar las informaciones generadas por los estímulos senso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ganizar y coordinar directa o indirectamente el funcionamiento de casi todas las funciones del organismo mediante la transmisión del impulso nervi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18440" cy="703080"/>
          </a:xfrm>
          <a:prstGeom prst="rect">
            <a:avLst/>
          </a:prstGeom>
          <a:solidFill>
            <a:srgbClr val="99ccff"/>
          </a:solidFill>
          <a:ln cap="rnd" w="648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ejido nervio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ejido nervioso está formado por dos componente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La neuron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unidad funcional básica del sistema nervio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l cuerpo neuronal (soma) está el núcleo, los orgánulos y una serie de neurofibri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 cuerpo neuronal se extiende una o varias prolongacione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(dendritas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reciben estímulos de diferentes ti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estímulos recibidos son transportados a través de una larga prolongació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(axón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la conexión funcional de dos neuronas o una neurona y un órgano efector se denomin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sinap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4 CuadroTexto"/>
          <p:cNvSpPr/>
          <p:nvPr/>
        </p:nvSpPr>
        <p:spPr>
          <a:xfrm>
            <a:off x="1835280" y="58053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neuronab"/>
          <p:cNvPicPr/>
          <p:nvPr/>
        </p:nvPicPr>
        <p:blipFill>
          <a:blip r:embed="rId1"/>
          <a:stretch/>
        </p:blipFill>
        <p:spPr>
          <a:xfrm>
            <a:off x="468360" y="351000"/>
            <a:ext cx="4248000" cy="5238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4788000" y="62532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dendrit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cortas y numerosas con much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ificaciones, reciben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ñales de otras neur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ax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 largos y ramificado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extremo final, transmiten señal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as neuronas, a las células muscu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a las glánd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jido nerv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euron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rpo celular o soma, axón, prolongaciones dendrí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élulas de la gl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croglía              defensa patógenos y fagoc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trocitos             fagocitos, regeneran heridas, nutren a las neuronas, sostén, precursores de las neuronas (regeneración-nove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ligodendrocitos             vaina de mielina S.N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élulas de Schwann            vaina de mielina S.N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élulas ependimárias            epitelio de prot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3 Flecha derecha"/>
          <p:cNvSpPr/>
          <p:nvPr/>
        </p:nvSpPr>
        <p:spPr>
          <a:xfrm>
            <a:off x="2786040" y="29289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 Flecha derecha"/>
          <p:cNvSpPr/>
          <p:nvPr/>
        </p:nvSpPr>
        <p:spPr>
          <a:xfrm>
            <a:off x="3929040" y="478620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 Flecha derecha"/>
          <p:cNvSpPr/>
          <p:nvPr/>
        </p:nvSpPr>
        <p:spPr>
          <a:xfrm>
            <a:off x="4286160" y="5286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6 Flecha derecha"/>
          <p:cNvSpPr/>
          <p:nvPr/>
        </p:nvSpPr>
        <p:spPr>
          <a:xfrm>
            <a:off x="2857680" y="335772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Flecha derecha"/>
          <p:cNvSpPr/>
          <p:nvPr/>
        </p:nvSpPr>
        <p:spPr>
          <a:xfrm>
            <a:off x="4429080" y="578628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3 Marcador de contenido" descr="neuronaes.jpg"/>
          <p:cNvPicPr/>
          <p:nvPr/>
        </p:nvPicPr>
        <p:blipFill>
          <a:blip r:embed="rId1"/>
          <a:stretch/>
        </p:blipFill>
        <p:spPr>
          <a:xfrm>
            <a:off x="600120" y="1600200"/>
            <a:ext cx="7943760" cy="4525920"/>
          </a:xfrm>
          <a:prstGeom prst="rect">
            <a:avLst/>
          </a:prstGeom>
          <a:ln w="0">
            <a:noFill/>
          </a:ln>
        </p:spPr>
      </p:pic>
      <p:cxnSp>
        <p:nvCxnSpPr>
          <p:cNvPr id="92" name="5 Conector recto de flecha"/>
          <p:cNvCxnSpPr/>
          <p:nvPr/>
        </p:nvCxnSpPr>
        <p:spPr>
          <a:xfrm flipH="1">
            <a:off x="3357720" y="3500280"/>
            <a:ext cx="70200" cy="85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7 CuadroTexto"/>
          <p:cNvSpPr/>
          <p:nvPr/>
        </p:nvSpPr>
        <p:spPr>
          <a:xfrm>
            <a:off x="3143160" y="30718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x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apsis neur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 Marcador de contenido" descr="neuronas.jpg"/>
          <p:cNvPicPr/>
          <p:nvPr/>
        </p:nvPicPr>
        <p:blipFill>
          <a:blip r:embed="rId1"/>
          <a:stretch/>
        </p:blipFill>
        <p:spPr>
          <a:xfrm>
            <a:off x="1071720" y="1071720"/>
            <a:ext cx="719928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neur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3 Marcador de contenido" descr="tipos de neuronas.jpg"/>
          <p:cNvPicPr/>
          <p:nvPr/>
        </p:nvPicPr>
        <p:blipFill>
          <a:blip r:embed="rId1"/>
          <a:stretch/>
        </p:blipFill>
        <p:spPr>
          <a:xfrm>
            <a:off x="1857240" y="1214280"/>
            <a:ext cx="52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8 Imagen" descr="neuronas tinción de Golgi.jpg"/>
          <p:cNvPicPr/>
          <p:nvPr/>
        </p:nvPicPr>
        <p:blipFill>
          <a:blip r:embed="rId1"/>
          <a:srcRect l="1867" t="1586" r="3217" b="6667"/>
          <a:stretch/>
        </p:blipFill>
        <p:spPr>
          <a:xfrm>
            <a:off x="3571920" y="2571840"/>
            <a:ext cx="5072040" cy="3929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ro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3 Marcador de contenido" descr="neuronas cerebrales.jpg"/>
          <p:cNvPicPr/>
          <p:nvPr/>
        </p:nvPicPr>
        <p:blipFill>
          <a:blip r:embed="rId2"/>
          <a:stretch/>
        </p:blipFill>
        <p:spPr>
          <a:xfrm>
            <a:off x="214200" y="1285920"/>
            <a:ext cx="4237200" cy="2786040"/>
          </a:xfrm>
          <a:prstGeom prst="rect">
            <a:avLst/>
          </a:prstGeom>
          <a:ln w="0">
            <a:noFill/>
          </a:ln>
        </p:spPr>
      </p:pic>
      <p:sp>
        <p:nvSpPr>
          <p:cNvPr id="101" name="4 CuadroTexto"/>
          <p:cNvSpPr/>
          <p:nvPr/>
        </p:nvSpPr>
        <p:spPr>
          <a:xfrm>
            <a:off x="1071720" y="50004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erpo celular  o 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6 Conector recto de flecha"/>
          <p:cNvCxnSpPr/>
          <p:nvPr/>
        </p:nvCxnSpPr>
        <p:spPr>
          <a:xfrm>
            <a:off x="1714680" y="1142640"/>
            <a:ext cx="7200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35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Las células gliales o neurogl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012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lizan funciones metabólicas de soporte y protección de las neuronas, ejemplo, las células de Schwann (envuelven el axón de las neuronas), participan en la transmisión del impulso nervi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n ser de varios tipos siendo la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strocito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forma de estrella, nutren y sostienen a la neu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élulas de microglia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gocitan sustancias extrañas, función de defe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993300"/>
              </a:buClr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élulas de Schwan y oligodendrocito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gregan una sustancia lipídica llamada mie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élulas gl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3 Marcador de contenido" descr="células de la glia.jpg"/>
          <p:cNvPicPr/>
          <p:nvPr/>
        </p:nvPicPr>
        <p:blipFill>
          <a:blip r:embed="rId1"/>
          <a:stretch/>
        </p:blipFill>
        <p:spPr>
          <a:xfrm>
            <a:off x="857160" y="1214280"/>
            <a:ext cx="75376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444600"/>
            <a:ext cx="7632720" cy="63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ejido muscular. Tip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Fibra muscular li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sin estriaciones, con células uninucleadas, largas y con forma de huso, rodean órganos internos y su contracción es involun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Fibra muscular estriada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as miofibrillas poseen actina y miosina lo que les da apariencia estri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sculo esquelético, mueven el esqueleto y su contracción es volun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úsculo cardiaco, exclusivas del corazón y su contracción es involun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285840" y="4857840"/>
            <a:ext cx="8545320" cy="1819080"/>
            <a:chOff x="285840" y="4857840"/>
            <a:chExt cx="8545320" cy="1819080"/>
          </a:xfrm>
        </p:grpSpPr>
        <p:pic>
          <p:nvPicPr>
            <p:cNvPr id="53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4857840"/>
              <a:ext cx="2743200" cy="18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" descr=""/>
            <p:cNvPicPr/>
            <p:nvPr/>
          </p:nvPicPr>
          <p:blipFill>
            <a:blip r:embed="rId2"/>
            <a:stretch/>
          </p:blipFill>
          <p:spPr>
            <a:xfrm>
              <a:off x="3143160" y="4857840"/>
              <a:ext cx="264816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4" descr=""/>
            <p:cNvPicPr/>
            <p:nvPr/>
          </p:nvPicPr>
          <p:blipFill>
            <a:blip r:embed="rId3"/>
            <a:stretch/>
          </p:blipFill>
          <p:spPr>
            <a:xfrm>
              <a:off x="6012000" y="4869000"/>
              <a:ext cx="2819160" cy="1785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élulas gliales: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icrog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3 Marcador de contenido" descr="microglia1.jpg"/>
          <p:cNvPicPr/>
          <p:nvPr/>
        </p:nvPicPr>
        <p:blipFill>
          <a:blip r:embed="rId1"/>
          <a:stretch/>
        </p:blipFill>
        <p:spPr>
          <a:xfrm>
            <a:off x="4572000" y="214200"/>
            <a:ext cx="4386240" cy="3387960"/>
          </a:xfrm>
          <a:prstGeom prst="rect">
            <a:avLst/>
          </a:prstGeom>
          <a:ln w="0">
            <a:noFill/>
          </a:ln>
        </p:spPr>
      </p:pic>
      <p:pic>
        <p:nvPicPr>
          <p:cNvPr id="109" name="5 Imagen" descr="microglia.jpg"/>
          <p:cNvPicPr/>
          <p:nvPr/>
        </p:nvPicPr>
        <p:blipFill>
          <a:blip r:embed="rId2"/>
          <a:srcRect l="2342" t="3128" r="3125" b="3128"/>
          <a:stretch/>
        </p:blipFill>
        <p:spPr>
          <a:xfrm>
            <a:off x="214200" y="2606760"/>
            <a:ext cx="55008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6715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élulas gliales: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stroc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3 Marcador de contenido" descr="astrocito2.jpg"/>
          <p:cNvPicPr/>
          <p:nvPr/>
        </p:nvPicPr>
        <p:blipFill>
          <a:blip r:embed="rId1"/>
          <a:stretch/>
        </p:blipFill>
        <p:spPr>
          <a:xfrm>
            <a:off x="317520" y="1214280"/>
            <a:ext cx="4651200" cy="3643560"/>
          </a:xfrm>
          <a:prstGeom prst="rect">
            <a:avLst/>
          </a:prstGeom>
          <a:ln w="0">
            <a:noFill/>
          </a:ln>
        </p:spPr>
      </p:pic>
      <p:pic>
        <p:nvPicPr>
          <p:cNvPr id="112" name="4 Imagen" descr="astrocito1.jpg"/>
          <p:cNvPicPr/>
          <p:nvPr/>
        </p:nvPicPr>
        <p:blipFill>
          <a:blip r:embed="rId2"/>
          <a:stretch/>
        </p:blipFill>
        <p:spPr>
          <a:xfrm>
            <a:off x="4214880" y="2928960"/>
            <a:ext cx="4538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ligodendrocitos y células de schw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3 Marcador de contenido" descr="oligodendrocitos.jpg"/>
          <p:cNvPicPr/>
          <p:nvPr/>
        </p:nvPicPr>
        <p:blipFill>
          <a:blip r:embed="rId1"/>
          <a:stretch/>
        </p:blipFill>
        <p:spPr>
          <a:xfrm>
            <a:off x="1217520" y="1600200"/>
            <a:ext cx="670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57520" y="571680"/>
            <a:ext cx="3500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élula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pendim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 Marcador de contenido" descr="células ependimarias.jpg"/>
          <p:cNvPicPr/>
          <p:nvPr/>
        </p:nvPicPr>
        <p:blipFill>
          <a:blip r:embed="rId1"/>
          <a:stretch/>
        </p:blipFill>
        <p:spPr>
          <a:xfrm>
            <a:off x="214200" y="571680"/>
            <a:ext cx="5048280" cy="3786120"/>
          </a:xfrm>
          <a:prstGeom prst="rect">
            <a:avLst/>
          </a:prstGeom>
          <a:ln w="0">
            <a:noFill/>
          </a:ln>
        </p:spPr>
      </p:pic>
      <p:pic>
        <p:nvPicPr>
          <p:cNvPr id="117" name="4 Imagen" descr="nervioso-ependimo-.jpg"/>
          <p:cNvPicPr/>
          <p:nvPr/>
        </p:nvPicPr>
        <p:blipFill>
          <a:blip r:embed="rId2"/>
          <a:srcRect l="0" t="0" r="37020" b="5955"/>
          <a:stretch/>
        </p:blipFill>
        <p:spPr>
          <a:xfrm>
            <a:off x="4429080" y="2016000"/>
            <a:ext cx="450684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645840"/>
            <a:ext cx="7848720" cy="569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fibras nerviosas o ax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 ser de dos tip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MIELÍN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lamadas así por estar recubiertas con la membrana de  las células de Schwann. Su membrana es rica en mielina y se enrolla varias veces alrededor de la fibra nerviosa. De este modo, varias células de Schwann llegan a cubrir toda la fibra  constituyendo una especie de cubierta llamad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aina de mie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Como la vaina está formada por varias  células, en los puntos de contacto entre células contiguas esa cubierta queda interrumpida, recibiendo esos  lugares el nombre d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nódulos de Ranvi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l impulso nervioso avanza a saltos, de nodo en nodo, por lo que avanza más depri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AMIELÍNICAS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 desnudas, son las fibras que no están recubiertas por vaina de mielina. El impulso nervioso avanza recorriendo todo el axón, por lo que no va tan depr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ibras mieliniz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3 Marcador de contenido" descr="fibra mielínica.gif"/>
          <p:cNvPicPr/>
          <p:nvPr/>
        </p:nvPicPr>
        <p:blipFill>
          <a:blip r:embed="rId1"/>
          <a:stretch/>
        </p:blipFill>
        <p:spPr>
          <a:xfrm>
            <a:off x="214200" y="1214280"/>
            <a:ext cx="3689640" cy="4740480"/>
          </a:xfrm>
          <a:prstGeom prst="rect">
            <a:avLst/>
          </a:prstGeom>
          <a:ln w="0">
            <a:noFill/>
          </a:ln>
        </p:spPr>
      </p:pic>
      <p:pic>
        <p:nvPicPr>
          <p:cNvPr id="122" name="4 Imagen" descr="fibras_mielinizadas.jpg"/>
          <p:cNvPicPr/>
          <p:nvPr/>
        </p:nvPicPr>
        <p:blipFill>
          <a:blip r:embed="rId2"/>
          <a:stretch/>
        </p:blipFill>
        <p:spPr>
          <a:xfrm>
            <a:off x="3929040" y="1071720"/>
            <a:ext cx="50022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estr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4 Imagen" descr="muscular-estriado.jpg"/>
          <p:cNvPicPr/>
          <p:nvPr/>
        </p:nvPicPr>
        <p:blipFill>
          <a:blip r:embed="rId1"/>
          <a:stretch/>
        </p:blipFill>
        <p:spPr>
          <a:xfrm>
            <a:off x="1785960" y="1357200"/>
            <a:ext cx="5143320" cy="5112000"/>
          </a:xfrm>
          <a:prstGeom prst="rect">
            <a:avLst/>
          </a:prstGeom>
          <a:ln w="0">
            <a:noFill/>
          </a:ln>
        </p:spPr>
      </p:pic>
      <p:cxnSp>
        <p:nvCxnSpPr>
          <p:cNvPr id="58" name="7 Conector recto de flecha"/>
          <p:cNvCxnSpPr/>
          <p:nvPr/>
        </p:nvCxnSpPr>
        <p:spPr>
          <a:xfrm>
            <a:off x="6286320" y="2071800"/>
            <a:ext cx="857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8 Conector recto de flecha"/>
          <p:cNvCxnSpPr/>
          <p:nvPr/>
        </p:nvCxnSpPr>
        <p:spPr>
          <a:xfrm>
            <a:off x="6572160" y="32148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5 CuadroTexto"/>
          <p:cNvSpPr/>
          <p:nvPr/>
        </p:nvSpPr>
        <p:spPr>
          <a:xfrm>
            <a:off x="7143840" y="1714680"/>
            <a:ext cx="171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úcleos periféricos de la fibra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2 CuadroTexto"/>
          <p:cNvSpPr/>
          <p:nvPr/>
        </p:nvSpPr>
        <p:spPr>
          <a:xfrm>
            <a:off x="7215120" y="2928960"/>
            <a:ext cx="171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andas claras y oscuras de los sarcómeros o estriaciones transv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estriado o esquelé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Marcador de contenido" descr="músculo estriado...jpg"/>
          <p:cNvPicPr/>
          <p:nvPr/>
        </p:nvPicPr>
        <p:blipFill>
          <a:blip r:embed="rId1"/>
          <a:stretch/>
        </p:blipFill>
        <p:spPr>
          <a:xfrm>
            <a:off x="1357200" y="1214280"/>
            <a:ext cx="67644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úsculo estriado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 trans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 Marcador de contenido" descr="músculo estriado-corte tranversal.jpg"/>
          <p:cNvPicPr/>
          <p:nvPr/>
        </p:nvPicPr>
        <p:blipFill>
          <a:blip r:embed="rId1"/>
          <a:stretch/>
        </p:blipFill>
        <p:spPr>
          <a:xfrm>
            <a:off x="642960" y="1285920"/>
            <a:ext cx="787572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li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3 Marcador de contenido" descr="músculo liso.-.jpg"/>
          <p:cNvPicPr/>
          <p:nvPr/>
        </p:nvPicPr>
        <p:blipFill>
          <a:blip r:embed="rId1"/>
          <a:stretch/>
        </p:blipFill>
        <p:spPr>
          <a:xfrm>
            <a:off x="785880" y="1428840"/>
            <a:ext cx="744840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li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4 Marcador de contenido" descr="musculo-liso.jpg"/>
          <p:cNvPicPr/>
          <p:nvPr/>
        </p:nvPicPr>
        <p:blipFill>
          <a:blip r:embed="rId1"/>
          <a:stretch/>
        </p:blipFill>
        <p:spPr>
          <a:xfrm>
            <a:off x="571680" y="1357200"/>
            <a:ext cx="807876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cardía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5 Marcador de contenido" descr="músculo cardíaco.jpg"/>
          <p:cNvPicPr/>
          <p:nvPr/>
        </p:nvPicPr>
        <p:blipFill>
          <a:blip r:embed="rId1"/>
          <a:stretch/>
        </p:blipFill>
        <p:spPr>
          <a:xfrm>
            <a:off x="642960" y="1428840"/>
            <a:ext cx="7385040" cy="4929120"/>
          </a:xfrm>
          <a:prstGeom prst="rect">
            <a:avLst/>
          </a:prstGeom>
          <a:ln w="0">
            <a:noFill/>
          </a:ln>
        </p:spPr>
      </p:pic>
      <p:cxnSp>
        <p:nvCxnSpPr>
          <p:cNvPr id="72" name="4 Conector recto de flecha"/>
          <p:cNvCxnSpPr/>
          <p:nvPr/>
        </p:nvCxnSpPr>
        <p:spPr>
          <a:xfrm flipH="1">
            <a:off x="7214760" y="3214800"/>
            <a:ext cx="9295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8 CuadroTexto"/>
          <p:cNvSpPr/>
          <p:nvPr/>
        </p:nvSpPr>
        <p:spPr>
          <a:xfrm>
            <a:off x="8072280" y="285768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úcleo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cardíaco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rte longitudi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3 Marcador de contenido" descr="musculo cardíaco.jpg"/>
          <p:cNvPicPr/>
          <p:nvPr/>
        </p:nvPicPr>
        <p:blipFill>
          <a:blip r:embed="rId1"/>
          <a:stretch/>
        </p:blipFill>
        <p:spPr>
          <a:xfrm>
            <a:off x="857160" y="1571760"/>
            <a:ext cx="7385040" cy="481968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5786280" y="4143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s interca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8:35:25Z</dcterms:created>
  <dc:creator>Daniel</dc:creator>
  <dc:description/>
  <dc:language>en-US</dc:language>
  <cp:lastModifiedBy>Daniel</cp:lastModifiedBy>
  <dcterms:modified xsi:type="dcterms:W3CDTF">2011-10-06T18:39:14Z</dcterms:modified>
  <cp:revision>1</cp:revision>
  <dc:subject/>
  <dc:title>Diapositiva 1</dc:title>
</cp:coreProperties>
</file>