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0CC-7E84-4461-B8CC-93B60FFE8B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4C6-7A31-4C42-BBFE-51392375BE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08A-2C9B-46EA-ABAC-8E1696A905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71B-830A-4F87-A618-5F16284CB0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C31-4016-43DD-BF5D-B6F0CA9C26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476B-AF4A-4444-9278-54AB385743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582-8C26-40A4-AD98-1A76B04352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4610-EF11-430F-8346-06D8EA0777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A050-2F6A-4FDE-A839-7681329CCA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E7B-ED51-46F2-AC08-0F11280493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519-FE99-47A4-AE28-CE32F6CC89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BE9-4A69-4CBE-B43B-03B1C2BDC7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22D4-E145-4E8A-9D80-A87C5E9163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331B-4660-41FE-B237-61EE8A1D11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676-32E9-4211-B016-BFF76C5A15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68E-D968-4579-83F3-C111FDAFE9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F737-8573-42A7-B352-EA32165BC8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A71-CF20-4E7E-96C8-9720BD6AD4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FCF-6B90-4EA6-AD8F-2791B78681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A43-F83D-4DB3-B7B5-D579867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26E-0F82-4E44-B2C0-53CA68A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C42-641C-40B8-98A5-BAA2C46C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8A9-6896-4FBE-867E-138CBC89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BB1-93A5-427D-BEA3-DAD11245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CD3-F5C8-43BC-95C6-1158AA3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B8C-B546-4048-A49D-57029EB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2CC-3CC0-4FC0-9CE8-6821D14C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BEA-0909-477A-B922-F7310AD5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53D-39C6-47EE-A4AF-AB2D934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33D-1E40-4EB8-BAEF-CA6E6D6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98E-AFDF-4AC3-8E83-FA58EEE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C8E-AB4D-404C-876A-E1BE6CBE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izado por células de gran longitud, cuyo carácter más específico es la presencia de miofibrillas contráctiles que permiten los movimientos corpo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élulas se denominan fibras musculares y en su citoplasma es donde se encuentran las miofibrillas, formadas por proteínas de actina y mio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lasificación de los tejidos musculares se hace teniendo en cuent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476280"/>
            <a:ext cx="7488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jid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disperso por el organismo interenlazándose y formando una red de comunicaciones que constituye el sistema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, transmitir, analizar y utilizar las informaciones generadas por los estímulos senso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r y coordinar directa o indirectamente el funcionamiento de casi todas las funciones del organismo mediante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703080"/>
          </a:xfrm>
          <a:prstGeom prst="rect">
            <a:avLst/>
          </a:prstGeom>
          <a:solidFill>
            <a:srgbClr val="99ccff"/>
          </a:solidFill>
          <a:ln cap="rnd" w="64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formado por dos componen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La neuro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unidad funcional básica del sistema nervio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uerpo neuronal (soma) está el núcleo, los orgánulos y una serie de neurofibr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cuerpo neuronal se extiende una o varias prolongacione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dendrita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reciben estímulos de diferentes t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stímulos recibidos son transportados a través de una larga prolongació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axón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a conexión funcional de dos neuronas o una neurona y un órgano efector se denomin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sinap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CuadroTexto"/>
          <p:cNvSpPr/>
          <p:nvPr/>
        </p:nvSpPr>
        <p:spPr>
          <a:xfrm>
            <a:off x="1835280" y="58053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neuronab"/>
          <p:cNvPicPr/>
          <p:nvPr/>
        </p:nvPicPr>
        <p:blipFill>
          <a:blip r:embed="rId1"/>
          <a:stretch/>
        </p:blipFill>
        <p:spPr>
          <a:xfrm>
            <a:off x="468360" y="351000"/>
            <a:ext cx="4248000" cy="523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788000" y="62532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endri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cortas y numerosas con muc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ificaciones, reciben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ñales de otras neur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x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largos y ramificado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xtremo final, transmiten señal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as neuronas, a las células musc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 las glánd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euron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 celular o soma, axón, prolongaciones dendrí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élulas de la gl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glía              defensa patógenos y fagoc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trocitos             fagocitos, regeneran heridas, nutren a las neuronas, sostén, precursores de las neuronas (regeneración-nove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dendrocitos             vaina de mielina S.N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de Schwann            vaina de mielina S.N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ependimárias            epitelio de prot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Flecha derecha"/>
          <p:cNvSpPr/>
          <p:nvPr/>
        </p:nvSpPr>
        <p:spPr>
          <a:xfrm>
            <a:off x="2786040" y="29289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 Flecha derecha"/>
          <p:cNvSpPr/>
          <p:nvPr/>
        </p:nvSpPr>
        <p:spPr>
          <a:xfrm>
            <a:off x="3929040" y="47862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Flecha derecha"/>
          <p:cNvSpPr/>
          <p:nvPr/>
        </p:nvSpPr>
        <p:spPr>
          <a:xfrm>
            <a:off x="4286160" y="5286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Flecha derecha"/>
          <p:cNvSpPr/>
          <p:nvPr/>
        </p:nvSpPr>
        <p:spPr>
          <a:xfrm>
            <a:off x="2857680" y="335772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Flecha derecha"/>
          <p:cNvSpPr/>
          <p:nvPr/>
        </p:nvSpPr>
        <p:spPr>
          <a:xfrm>
            <a:off x="4429080" y="578628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neuronaes.jpg"/>
          <p:cNvPicPr/>
          <p:nvPr/>
        </p:nvPicPr>
        <p:blipFill>
          <a:blip r:embed="rId1"/>
          <a:stretch/>
        </p:blipFill>
        <p:spPr>
          <a:xfrm>
            <a:off x="600120" y="1600200"/>
            <a:ext cx="79437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92" name="5 Conector recto de flecha"/>
          <p:cNvCxnSpPr/>
          <p:nvPr/>
        </p:nvCxnSpPr>
        <p:spPr>
          <a:xfrm flipH="1">
            <a:off x="3357720" y="3500280"/>
            <a:ext cx="70200" cy="85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7 CuadroTexto"/>
          <p:cNvSpPr/>
          <p:nvPr/>
        </p:nvSpPr>
        <p:spPr>
          <a:xfrm>
            <a:off x="3143160" y="3071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apsis neur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Marcador de contenido" descr="neuronas.jpg"/>
          <p:cNvPicPr/>
          <p:nvPr/>
        </p:nvPicPr>
        <p:blipFill>
          <a:blip r:embed="rId1"/>
          <a:stretch/>
        </p:blipFill>
        <p:spPr>
          <a:xfrm>
            <a:off x="1071720" y="1071720"/>
            <a:ext cx="71992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neur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3 Marcador de contenido" descr="tipos de neuronas.jpg"/>
          <p:cNvPicPr/>
          <p:nvPr/>
        </p:nvPicPr>
        <p:blipFill>
          <a:blip r:embed="rId1"/>
          <a:stretch/>
        </p:blipFill>
        <p:spPr>
          <a:xfrm>
            <a:off x="1857240" y="1214280"/>
            <a:ext cx="52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neuronas tinción de Golgi.jpg"/>
          <p:cNvPicPr/>
          <p:nvPr/>
        </p:nvPicPr>
        <p:blipFill>
          <a:blip r:embed="rId1"/>
          <a:srcRect l="1867" t="1586" r="3217" b="6667"/>
          <a:stretch/>
        </p:blipFill>
        <p:spPr>
          <a:xfrm>
            <a:off x="3571920" y="2571840"/>
            <a:ext cx="5072040" cy="3929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3 Marcador de contenido" descr="neuronas cerebrales.jpg"/>
          <p:cNvPicPr/>
          <p:nvPr/>
        </p:nvPicPr>
        <p:blipFill>
          <a:blip r:embed="rId2"/>
          <a:stretch/>
        </p:blipFill>
        <p:spPr>
          <a:xfrm>
            <a:off x="214200" y="1285920"/>
            <a:ext cx="4237200" cy="2786040"/>
          </a:xfrm>
          <a:prstGeom prst="rect">
            <a:avLst/>
          </a:prstGeom>
          <a:ln w="0">
            <a:noFill/>
          </a:ln>
        </p:spPr>
      </p:pic>
      <p:sp>
        <p:nvSpPr>
          <p:cNvPr id="101" name="4 CuadroTexto"/>
          <p:cNvSpPr/>
          <p:nvPr/>
        </p:nvSpPr>
        <p:spPr>
          <a:xfrm>
            <a:off x="1071720" y="5000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erpo celular  o 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6 Conector recto de flecha"/>
          <p:cNvCxnSpPr/>
          <p:nvPr/>
        </p:nvCxnSpPr>
        <p:spPr>
          <a:xfrm>
            <a:off x="1714680" y="1142640"/>
            <a:ext cx="720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35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Las células gliales o neurog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zan funciones metabólicas de soporte y protección de las neuronas, ejemplo, las células de Schwann (envuelven el axón de las neuronas), participan en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ser de varios tipos siendo l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trocit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forma de estrella, nutren y sostienen a la neu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microgli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gocitan sustancias extrañas, función de def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3300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Schwan y oligodendrocit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regan una sustancia lipídica llamada mie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élulas gl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3 Marcador de contenido" descr="células de la glia.jpg"/>
          <p:cNvPicPr/>
          <p:nvPr/>
        </p:nvPicPr>
        <p:blipFill>
          <a:blip r:embed="rId1"/>
          <a:stretch/>
        </p:blipFill>
        <p:spPr>
          <a:xfrm>
            <a:off x="857160" y="1214280"/>
            <a:ext cx="75376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44600"/>
            <a:ext cx="7632720" cy="63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ejido muscular. Tip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li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in estriaciones, con células uninucleadas, largas y con forma de huso, rodean órganos internos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estriada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s miofibrillas poseen actina y miosina lo que les da apariencia estri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sculo esquelético, mueven el esqueleto y su contracción es 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úsculo cardiaco, exclusivas del corazón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285840" y="4857840"/>
            <a:ext cx="8545320" cy="1819080"/>
            <a:chOff x="285840" y="4857840"/>
            <a:chExt cx="8545320" cy="1819080"/>
          </a:xfrm>
        </p:grpSpPr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4857840"/>
              <a:ext cx="2743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"/>
            <p:cNvPicPr/>
            <p:nvPr/>
          </p:nvPicPr>
          <p:blipFill>
            <a:blip r:embed="rId2"/>
            <a:stretch/>
          </p:blipFill>
          <p:spPr>
            <a:xfrm>
              <a:off x="3143160" y="4857840"/>
              <a:ext cx="264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4" descr=""/>
            <p:cNvPicPr/>
            <p:nvPr/>
          </p:nvPicPr>
          <p:blipFill>
            <a:blip r:embed="rId3"/>
            <a:stretch/>
          </p:blipFill>
          <p:spPr>
            <a:xfrm>
              <a:off x="6012000" y="4869000"/>
              <a:ext cx="281916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élulas gliales: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icro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Marcador de contenido" descr="microglia1.jpg"/>
          <p:cNvPicPr/>
          <p:nvPr/>
        </p:nvPicPr>
        <p:blipFill>
          <a:blip r:embed="rId1"/>
          <a:stretch/>
        </p:blipFill>
        <p:spPr>
          <a:xfrm>
            <a:off x="4572000" y="214200"/>
            <a:ext cx="4386240" cy="3387960"/>
          </a:xfrm>
          <a:prstGeom prst="rect">
            <a:avLst/>
          </a:prstGeom>
          <a:ln w="0">
            <a:noFill/>
          </a:ln>
        </p:spPr>
      </p:pic>
      <p:pic>
        <p:nvPicPr>
          <p:cNvPr id="109" name="5 Imagen" descr="microglia.jpg"/>
          <p:cNvPicPr/>
          <p:nvPr/>
        </p:nvPicPr>
        <p:blipFill>
          <a:blip r:embed="rId2"/>
          <a:srcRect l="2342" t="3128" r="3125" b="3128"/>
          <a:stretch/>
        </p:blipFill>
        <p:spPr>
          <a:xfrm>
            <a:off x="214200" y="2606760"/>
            <a:ext cx="5500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6715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gliales: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troc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3 Marcador de contenido" descr="astrocito2.jpg"/>
          <p:cNvPicPr/>
          <p:nvPr/>
        </p:nvPicPr>
        <p:blipFill>
          <a:blip r:embed="rId1"/>
          <a:stretch/>
        </p:blipFill>
        <p:spPr>
          <a:xfrm>
            <a:off x="317520" y="1214280"/>
            <a:ext cx="4651200" cy="3643560"/>
          </a:xfrm>
          <a:prstGeom prst="rect">
            <a:avLst/>
          </a:prstGeom>
          <a:ln w="0">
            <a:noFill/>
          </a:ln>
        </p:spPr>
      </p:pic>
      <p:pic>
        <p:nvPicPr>
          <p:cNvPr id="112" name="4 Imagen" descr="astrocito1.jpg"/>
          <p:cNvPicPr/>
          <p:nvPr/>
        </p:nvPicPr>
        <p:blipFill>
          <a:blip r:embed="rId2"/>
          <a:stretch/>
        </p:blipFill>
        <p:spPr>
          <a:xfrm>
            <a:off x="4214880" y="2928960"/>
            <a:ext cx="4538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ligodendrocitos y células de schw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 Marcador de contenido" descr="oligodendrocitos.jpg"/>
          <p:cNvPicPr/>
          <p:nvPr/>
        </p:nvPicPr>
        <p:blipFill>
          <a:blip r:embed="rId1"/>
          <a:stretch/>
        </p:blipFill>
        <p:spPr>
          <a:xfrm>
            <a:off x="1217520" y="1600200"/>
            <a:ext cx="670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57520" y="571680"/>
            <a:ext cx="3500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pendim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Marcador de contenido" descr="células ependimarias.jpg"/>
          <p:cNvPicPr/>
          <p:nvPr/>
        </p:nvPicPr>
        <p:blipFill>
          <a:blip r:embed="rId1"/>
          <a:stretch/>
        </p:blipFill>
        <p:spPr>
          <a:xfrm>
            <a:off x="214200" y="57168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4 Imagen" descr="nervioso-ependimo-.jpg"/>
          <p:cNvPicPr/>
          <p:nvPr/>
        </p:nvPicPr>
        <p:blipFill>
          <a:blip r:embed="rId2"/>
          <a:srcRect l="0" t="0" r="37020" b="5955"/>
          <a:stretch/>
        </p:blipFill>
        <p:spPr>
          <a:xfrm>
            <a:off x="4429080" y="2016000"/>
            <a:ext cx="450684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645840"/>
            <a:ext cx="7848720" cy="5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ibras nerviosas o ax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ser de dos tip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IELÍN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lamadas así por estar recubiertas con la membrana de  las células de Schwann. Su membrana es rica en mielina y se enrolla varias veces alrededor de la fibra nerviosa. De este modo, varias células de Schwann llegan a cubrir toda la fibra  constituyendo una especie de cubierta llamad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ina de mie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Como la vaina está formada por varias  células, en los puntos de contacto entre células contiguas esa cubierta queda interrumpida, recibiendo esos  lugares el nombre d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nódulos de Ranvi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l impulso nervioso avanza a saltos, de nodo en nodo, por lo que avanza más depr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AMIELÍNICA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desnudas, son las fibras que no están recubiertas por vaina de mielina. El impulso nervioso avanza recorriendo todo el axón, por lo que no va tan depr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ibras mieliniz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3 Marcador de contenido" descr="fibra mielínica.gif"/>
          <p:cNvPicPr/>
          <p:nvPr/>
        </p:nvPicPr>
        <p:blipFill>
          <a:blip r:embed="rId1"/>
          <a:stretch/>
        </p:blipFill>
        <p:spPr>
          <a:xfrm>
            <a:off x="214200" y="1214280"/>
            <a:ext cx="3689640" cy="4740480"/>
          </a:xfrm>
          <a:prstGeom prst="rect">
            <a:avLst/>
          </a:prstGeom>
          <a:ln w="0">
            <a:noFill/>
          </a:ln>
        </p:spPr>
      </p:pic>
      <p:pic>
        <p:nvPicPr>
          <p:cNvPr id="122" name="4 Imagen" descr="fibras_mielinizadas.jpg"/>
          <p:cNvPicPr/>
          <p:nvPr/>
        </p:nvPicPr>
        <p:blipFill>
          <a:blip r:embed="rId2"/>
          <a:stretch/>
        </p:blipFill>
        <p:spPr>
          <a:xfrm>
            <a:off x="3929040" y="1071720"/>
            <a:ext cx="50022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4 Imagen" descr="muscular-estriado.jpg"/>
          <p:cNvPicPr/>
          <p:nvPr/>
        </p:nvPicPr>
        <p:blipFill>
          <a:blip r:embed="rId1"/>
          <a:stretch/>
        </p:blipFill>
        <p:spPr>
          <a:xfrm>
            <a:off x="1785960" y="1357200"/>
            <a:ext cx="5143320" cy="5112000"/>
          </a:xfrm>
          <a:prstGeom prst="rect">
            <a:avLst/>
          </a:prstGeom>
          <a:ln w="0">
            <a:noFill/>
          </a:ln>
        </p:spPr>
      </p:pic>
      <p:cxnSp>
        <p:nvCxnSpPr>
          <p:cNvPr id="58" name="7 Conector recto de flecha"/>
          <p:cNvCxnSpPr/>
          <p:nvPr/>
        </p:nvCxnSpPr>
        <p:spPr>
          <a:xfrm>
            <a:off x="6286320" y="207180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8 Conector recto de flecha"/>
          <p:cNvCxnSpPr/>
          <p:nvPr/>
        </p:nvCxnSpPr>
        <p:spPr>
          <a:xfrm>
            <a:off x="6572160" y="32148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5 CuadroTexto"/>
          <p:cNvSpPr/>
          <p:nvPr/>
        </p:nvSpPr>
        <p:spPr>
          <a:xfrm>
            <a:off x="7143840" y="171468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s periféricos de la fibra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7215120" y="2928960"/>
            <a:ext cx="171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ndas claras y oscuras de los sarcómeros o estriaciones transv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 o esquel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Marcador de contenido" descr="músculo estriado...jpg"/>
          <p:cNvPicPr/>
          <p:nvPr/>
        </p:nvPicPr>
        <p:blipFill>
          <a:blip r:embed="rId1"/>
          <a:stretch/>
        </p:blipFill>
        <p:spPr>
          <a:xfrm>
            <a:off x="1357200" y="1214280"/>
            <a:ext cx="67644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úsculo estriad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 trans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Marcador de contenido" descr="músculo estriado-corte tranversal.jpg"/>
          <p:cNvPicPr/>
          <p:nvPr/>
        </p:nvPicPr>
        <p:blipFill>
          <a:blip r:embed="rId1"/>
          <a:stretch/>
        </p:blipFill>
        <p:spPr>
          <a:xfrm>
            <a:off x="642960" y="1285920"/>
            <a:ext cx="7875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Marcador de contenido" descr="músculo liso.-.jpg"/>
          <p:cNvPicPr/>
          <p:nvPr/>
        </p:nvPicPr>
        <p:blipFill>
          <a:blip r:embed="rId1"/>
          <a:stretch/>
        </p:blipFill>
        <p:spPr>
          <a:xfrm>
            <a:off x="785880" y="1428840"/>
            <a:ext cx="74484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4 Marcador de contenido" descr="musculo-liso.jpg"/>
          <p:cNvPicPr/>
          <p:nvPr/>
        </p:nvPicPr>
        <p:blipFill>
          <a:blip r:embed="rId1"/>
          <a:stretch/>
        </p:blipFill>
        <p:spPr>
          <a:xfrm>
            <a:off x="571680" y="1357200"/>
            <a:ext cx="8078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5 Marcador de contenido" descr="músculo cardíaco.jpg"/>
          <p:cNvPicPr/>
          <p:nvPr/>
        </p:nvPicPr>
        <p:blipFill>
          <a:blip r:embed="rId1"/>
          <a:stretch/>
        </p:blipFill>
        <p:spPr>
          <a:xfrm>
            <a:off x="642960" y="1428840"/>
            <a:ext cx="7385040" cy="4929120"/>
          </a:xfrm>
          <a:prstGeom prst="rect">
            <a:avLst/>
          </a:prstGeom>
          <a:ln w="0">
            <a:noFill/>
          </a:ln>
        </p:spPr>
      </p:pic>
      <p:cxnSp>
        <p:nvCxnSpPr>
          <p:cNvPr id="72" name="4 Conector recto de flecha"/>
          <p:cNvCxnSpPr/>
          <p:nvPr/>
        </p:nvCxnSpPr>
        <p:spPr>
          <a:xfrm flipH="1">
            <a:off x="7214760" y="3214800"/>
            <a:ext cx="929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8 CuadroTexto"/>
          <p:cNvSpPr/>
          <p:nvPr/>
        </p:nvSpPr>
        <p:spPr>
          <a:xfrm>
            <a:off x="8072280" y="285768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te longitudi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Marcador de contenido" descr="musculo cardíaco.jpg"/>
          <p:cNvPicPr/>
          <p:nvPr/>
        </p:nvPicPr>
        <p:blipFill>
          <a:blip r:embed="rId1"/>
          <a:stretch/>
        </p:blipFill>
        <p:spPr>
          <a:xfrm>
            <a:off x="857160" y="1571760"/>
            <a:ext cx="7385040" cy="481968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786280" y="4143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s interca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8:35:25Z</dcterms:created>
  <dc:creator>Daniel</dc:creator>
  <dc:description/>
  <dc:language>en-US</dc:language>
  <cp:lastModifiedBy>Daniel</cp:lastModifiedBy>
  <dcterms:modified xsi:type="dcterms:W3CDTF">2011-10-06T18:39:14Z</dcterms:modified>
  <cp:revision>1</cp:revision>
  <dc:subject/>
  <dc:title>Diapositiva 1</dc:title>
</cp:coreProperties>
</file>