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png" ContentType="image/pn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3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1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1137-C9E3-4A2D-9B30-15882215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5477-BE34-4A6D-B04B-44ACA4BA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C95A-B47F-4117-9EC1-BF33996B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5B0B-F13E-4F11-9A7D-DBE0FBFE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C695-B88A-4763-84A6-AE24E457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B783-5F35-4F45-841E-6C27340B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770B-F8F4-424E-B0DA-A31492C4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1411-1A51-49E8-8A52-941AA6C0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45ED-20BF-4058-BEA0-900531A7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60DB-4D56-4E3F-953E-A2581603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D5B2-4112-42CA-91DB-132B39AE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ACB0-67CD-4204-8DE8-DBBED127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9CC3-9887-4C56-A333-6BEC78A9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0420-68F5-4357-98D6-B83A9A9D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92ED-EB25-4E4F-A977-B8963C36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4F1D-2085-4127-9D4F-D240ABDA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FE82-B269-4A7E-83E1-B4FCCDE4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E537-9FF2-4E6B-831D-C52AFE74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2F4-CD9C-41E6-B005-09D17560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CBBF-8456-49BC-92AA-B67AB67A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3773-D8E2-438C-9777-D50CFCD1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1361-A2C8-4D35-A92B-16C0B76F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41C2-B2AD-4D91-BD60-164B9647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DB12-23E8-40DE-B6DB-1D17B6B6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8FB3-2C99-4C84-8E07-516DDEC5BB66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E0DA-1D97-4D0A-BBC4-DE11CADD841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Tema 3: Anatomía y fisiología del Aparato Digestivo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29397" t="4725" r="0" b="4725"/>
          <a:stretch/>
        </p:blipFill>
        <p:spPr>
          <a:xfrm>
            <a:off x="755640" y="3213000"/>
            <a:ext cx="3027240" cy="345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4427640" y="3284640"/>
          <a:ext cx="3457440" cy="33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3284640"/>
                    <a:ext cx="345744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 proceso de la deglució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Fase o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oceso voluntario. La lengua comprime el bolo contra el paladar y lo empuja hacia atr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Fase faríng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cto refle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aladar blando se eleva y cierra la cavidad na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epiglotis desciende y cierra la tráqu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inicia un movimiento peristáltico que impulsa el bolo hacia la fari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356000" y="1593720"/>
            <a:ext cx="460872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tragantamient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538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objetivo es despejar las vías respiratorias obstruidas por un cuerpo extr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comprime con el puño por debajo del esternón, hacia dentro y hacia arrib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no tiene éxito, puede ser necesaria una traqueotom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0" r="0" b="5980"/>
          <a:stretch/>
        </p:blipFill>
        <p:spPr>
          <a:xfrm>
            <a:off x="5219640" y="404640"/>
            <a:ext cx="365148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gestión: Farin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bo musculoso común a los aparatos digestivo y respirato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unica c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bo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través del istmo de las fau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esóf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fosas nasa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través de las co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lari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través de la glo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oído medi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través de las trompas de Eustaqu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arin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19280" y="1390680"/>
            <a:ext cx="5977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gestión: Esófag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ubo muscular de unos 30 cm que comunica la faringe con el estóm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ciende por detrás de la tráquea y del coraz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traviesa el diafragma por el hiato esofá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ene dos esfínteres, uno superior y otro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Esófago"/>
          <p:cNvPicPr/>
          <p:nvPr/>
        </p:nvPicPr>
        <p:blipFill>
          <a:blip r:embed="rId1"/>
          <a:stretch/>
        </p:blipFill>
        <p:spPr>
          <a:xfrm>
            <a:off x="0" y="177336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ófago: Histolog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Capa mucos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epitelio plano pluriestratificado no queratin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Capa submucos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tejido conjun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Capa muscula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álulas musculares lisas perimetrales y longitudinales, responsables de movimientos peristál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Capa adventi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tejido conjun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27640" y="2421000"/>
            <a:ext cx="424800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ófago: Ondas peristáltic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das de contracción de la musculatura li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ujan el bolo hacia el estóm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73200" y="1797120"/>
            <a:ext cx="375912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gestión: El estómag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241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te dilatada del tubo digestivo donde se completa la digestión mecánica y continúa la digestión quí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bolo alimenticio se transforma en una papilla llamada </a:t>
            </a: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qu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esfinter pilórico regula el vaciado gást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95640" y="1844640"/>
            <a:ext cx="49690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tómago: histolog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9640" y="1386000"/>
            <a:ext cx="806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tómago: glándulas gástric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iene cuatro tipos de célul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élula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princip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roduce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pepsinóge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En contacto con el ácido clorhídrico se transforma e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peps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nzima que degrada las proteínas. En el antro pilórico segrega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lipasa gástr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actúa sobre algunos líp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élula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pariet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roduce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ácido clorhídr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élula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muco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grega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mucos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tectora de la pared del estóm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élula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G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roduce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gastr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hormona que estimula la secreción de ácido clorhídr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tapas del proceso digestiv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gest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os alimentos son triturados por los dientes y mezclados con la sal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igest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as enzimas de los jugos descomponen los nutrientes en moléculas más sencil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bsor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as moléculas sencillas atraviesan las paredes del tubo y son transportadas por la sang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simil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as células utilizan los nutrientes para obtener energía o fabricar nuevas molécu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efec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as sustancias no digeridas o no absorbidas son eliminadas por el 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gestión: Intestino delg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urre la mayor parte de la digestión enzimática y casi toda la absor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un tubo arrollado, de unos siete metros de longitud y de algo más de dos centímetros y medio de diámet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intestino delgado se subdivide en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duode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yeyu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íle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que se continúa con el intestino grueso por medio de la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válvula ileoce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3280" y="1484280"/>
            <a:ext cx="37864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testino delgado: digestión químic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0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bil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jugo pancreát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vierten en el duodeno a través de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ampolla de Vat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donde se mezclan con el qui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glándulas intestinales segrega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jugo intest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211640" y="1733400"/>
            <a:ext cx="49323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llosidades intestin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932360" y="2421000"/>
            <a:ext cx="3598920" cy="2590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6156360" cy="51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gestión: El híg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4195800" cy="42494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lándula más grande del orga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so 1,5 kg (sin sang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lor rojo osc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istencia bl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vidido en 4 lóbu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zquier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rec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ud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dr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íg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314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be sangre de la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vena por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rocedente del intestino (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aporta nutrien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be sangre de la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arteria hepát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aporta oxíge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venas de los lobulillos confluyen en la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vena hepát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que lleva sangre a la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cava infe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067280" y="2022480"/>
            <a:ext cx="507672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íg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ituido por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lobulillos hepátic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hexagonales con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hepatocit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lrededor de una vena cent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 ellos hay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espacios por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triangulares,  una rama de la arteria hepática, una rama de la vena porta, un capilar linfático y un conductillo biliar, que recoge la 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bil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roducida por los hepatocitos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932360" y="404640"/>
            <a:ext cx="3887640" cy="2770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148360" y="3284640"/>
            <a:ext cx="31687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ígado: funcio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creción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bil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tabolismo de los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glúci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(glucólisis, glucogenólisis y gluconeogénes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tabolismo de los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lípi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(síntesis de colesterol y lipoproteín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tabolismo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proteí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iminación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toxina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hormo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íntesis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factores de coagul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pósito de muchas sustancias (hierro, vitaminas, 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iminación de eritrocitos envejecidos por las </a:t>
            </a:r>
            <a:r>
              <a:rPr b="0" lang="es-ES" sz="2200" spc="-1" strike="noStrike">
                <a:solidFill>
                  <a:srgbClr val="800080"/>
                </a:solidFill>
                <a:latin typeface="Arial"/>
              </a:rPr>
              <a:t>células de Kupf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ctivación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vitamina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ormación y excreción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bilirrubina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por degradación de la hemoglob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ígado y vesícula bilia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95640" y="1600200"/>
            <a:ext cx="453888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bi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mulsiona las grasas, neutraliza la acidez del quimo, y favorece la absorción de los ácidos gra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ene sales biliares, proteínas, colesterol y hormonas, además de pigmentos de color verdoso (bilirrubin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producida por los hepatocitos, vierte a los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analículos bilia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que desembocan en los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onductos bili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almacena temporalmente en la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vesícula bili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liberada cuando el alimento llega al duod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33224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gestión: El páncre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5977080" cy="47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áncre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67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Órgano de forma cónica, de unos 25 cm de longitud y 5 de gro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lándula mixta: lo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islotes de Langerhan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egrega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insul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glucag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regulan el metabolismo de los glúc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o glándula exocrina fabrica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jugo pancreá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533"/>
          <a:stretch/>
        </p:blipFill>
        <p:spPr>
          <a:xfrm>
            <a:off x="4211640" y="1916280"/>
            <a:ext cx="43927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 aparato digestiv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00360" y="1599840"/>
            <a:ext cx="403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Tub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 11 metros de largo, desde la boca hasta el 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vidad bu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óf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óm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stino del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stino Gru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Glándulas ane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ándulas saliv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í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ánc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ándulas gást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ándulas intesti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32036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áncreas: el jugo pancreátic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iene enzimas: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amilasa pancreá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lipasa pancreá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trips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quimotrips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peptidas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nucleasas pancreátic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bicarbona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lega al duodeno a través del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conducto de Wirsung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se une al colédoco y desemboca en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ampolla de V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 también un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conducto acces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211640" y="1768320"/>
            <a:ext cx="4932360" cy="39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bsorción: intestino delg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so de sustancias desde el tubo digestivo hacia la sangre y la linf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ariamente se absorben 9 litros de agua que contienen 500 g de nutr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nutrientes penetran en los capilares sanguíneos y confluyen en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vena por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los lleva al híg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grasas penetran en lo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vasos quilífer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pasan a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red linf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vellosidades y microvellosidades intestinales proporcionan una superficie de absorción de 300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llosidades intestin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932360" y="2421000"/>
            <a:ext cx="3598920" cy="2590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6156360" cy="51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testino grues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,5 m de longitud y 6,5 cm de diá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él se produce absorción de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agu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iones inorgánic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y formación y eliminación de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heces fe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iene abundante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flora bacteria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que fermenta residuos no digeridos, y sintetiza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vitaminas K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47640" y="2048040"/>
            <a:ext cx="381024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testino grues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590688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ces fec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1068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madas por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restos de aliment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no absorbidos (celulosa)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célul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l epitelio intestinal, y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bacteri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testi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entan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olo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aracterístico debido a la fermentación pútrida de las prote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form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pende del tiempo que pasan en el co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781520" y="1413000"/>
            <a:ext cx="36511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gulación del proceso digestivo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gulación nervios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ediante el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sistema nervioso entér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Regula la actividad del músculo liso y de las glándulas que segregan en é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ibras nerviosas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simpátic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parasimpátic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ctiva o inhiben la función diges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gulación hormon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ediante hormonas tisulares: </a:t>
            </a:r>
            <a:r>
              <a:rPr b="0" lang="es-ES" sz="2800" spc="-1" strike="noStrike">
                <a:solidFill>
                  <a:srgbClr val="cc9900"/>
                </a:solidFill>
                <a:latin typeface="Arial"/>
              </a:rPr>
              <a:t>gastr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estómago), </a:t>
            </a:r>
            <a:r>
              <a:rPr b="0" lang="es-ES" sz="2800" spc="-1" strike="noStrike">
                <a:solidFill>
                  <a:srgbClr val="cc9900"/>
                </a:solidFill>
                <a:latin typeface="Arial"/>
              </a:rPr>
              <a:t>secret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800" spc="-1" strike="noStrike">
                <a:solidFill>
                  <a:srgbClr val="cc9900"/>
                </a:solidFill>
                <a:latin typeface="Arial"/>
              </a:rPr>
              <a:t>colecistoquin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intestino delg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gestión: Cavidad buc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43640" y="1628640"/>
            <a:ext cx="22320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ándulas saliv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tmo de las f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ígda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8360" y="1868400"/>
            <a:ext cx="597528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ngu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457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Órgano musculoso, muy móv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ne en la mast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ne en la degl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Órgano del gu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63960" y="1700280"/>
            <a:ext cx="518004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ngua: Papilas gustativ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3672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Papilas filiform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Más abundantes, no poseen botones gus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Papilas fungiform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Más numerosas en la pu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Papilas caliciform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Forman V invertida en la base de la len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dos últimas tienen botones gust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140360" y="2178000"/>
            <a:ext cx="44640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en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579640" y="1599840"/>
            <a:ext cx="295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ruc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íz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el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is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i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mola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la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09480" y="1790640"/>
            <a:ext cx="461016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en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88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tición de leche: 20 piez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tición adulta: 32 pie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013280" y="404640"/>
            <a:ext cx="488952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lándulas salivar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58920" y="155700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Parótid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Bajo la oreja. Vierten junto al segundo molar sup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Submaxilar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Bajo la base de la len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Sublingu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Encima de las ant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Saliv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ntiene amilasa (degrada almidón) y lipasa lingual (degrada grasas), agua, sales, lisozima (bactericida) y mucina (lubrican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Glándulas de la cabeza y el cuello"/>
          <p:cNvPicPr/>
          <p:nvPr/>
        </p:nvPicPr>
        <p:blipFill>
          <a:blip r:embed="rId1"/>
          <a:srcRect l="2835" t="0" r="2835" b="0"/>
          <a:stretch/>
        </p:blipFill>
        <p:spPr>
          <a:xfrm>
            <a:off x="395280" y="1773360"/>
            <a:ext cx="44640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7:09:14Z</dcterms:created>
  <dc:creator>Dani</dc:creator>
  <dc:description/>
  <dc:language>en-US</dc:language>
  <cp:lastModifiedBy>Dani</cp:lastModifiedBy>
  <dcterms:modified xsi:type="dcterms:W3CDTF">2010-09-09T09:26:00Z</dcterms:modified>
  <cp:revision>23</cp:revision>
  <dc:subject/>
  <dc:title>Tema 3: Anatomía y fisiología del Aparato Digestivo</dc:title>
</cp:coreProperties>
</file>