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719-62E5-47C9-A3E8-D627DE6D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2B9-4D82-42B3-B29F-33782203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453-5D20-4062-802C-4D162FDB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FE4-BD71-4A47-9D4D-F59A2870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5B27-5B19-4BD5-B66E-198039D2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E700-B9BA-4021-BE31-A01DE17D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72FC-31B3-4BE1-BA65-D4E5AE05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4883-B621-4A51-989C-35B24781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3E9D-4C07-4D8B-A814-50F5E315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0ED7-39D2-4D99-894B-B9F67560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2645-FEF2-489F-99C7-D486BAC6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173-C05C-46DC-B3E1-6206F92C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5734-31E3-487C-9D03-5076B3A0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987E-09A6-4E6F-B362-10601C09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BACB-B137-49D9-B7E7-E8709B2E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F735-825D-436C-925A-2BE76E72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A8F9-6D39-408C-88B3-ED5D56F8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1F9-6D35-46C9-A1E3-B8110AD4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3E6-2C63-458A-A144-7F74AFF0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5F4-516D-4558-9D1C-93BB757F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E59-88B2-426E-B4E0-4548771C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A72-BA7C-48C3-B09A-BDB988F3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736E-3103-439D-A611-B58FE5EE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4B8-0132-48ED-96EF-B354913F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FDC3-996D-4E1A-BCE0-765CFBD92B8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D96A-3946-4AFD-93B2-8BA950EBB98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ema 3: Anatomía y fisiología del Aparato Digestiv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9397" t="4725" r="0" b="4725"/>
          <a:stretch/>
        </p:blipFill>
        <p:spPr>
          <a:xfrm>
            <a:off x="755640" y="3213000"/>
            <a:ext cx="3027240" cy="345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427640" y="3284640"/>
          <a:ext cx="345744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284640"/>
                    <a:ext cx="34574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 proceso de la deglució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ase 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ceso voluntario. La lengua comprime el bolo contra el paladar y lo empuja hacia at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ase faríng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to ref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ladar blando se eleva y cierra la cavidad na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piglotis desciende y cierra la tráqu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inicia un movimiento peristáltico que impulsa el bolo hacia la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1593720"/>
            <a:ext cx="460872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tragantami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objetivo es despejar las vías respiratorias obstruidas por un cuerpo extr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omprime con el puño por debajo del esternón, hacia dentro y hacia arri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 éxito, puede ser necesaria una traqueot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5980"/>
          <a:stretch/>
        </p:blipFill>
        <p:spPr>
          <a:xfrm>
            <a:off x="5219640" y="404640"/>
            <a:ext cx="36514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estión: 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bo musculoso común a los aparatos digestivo y respir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bo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l istmo de las fa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esóf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fosas nas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 las co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lari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 la glo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ído me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 las trompas de Eustaqu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139068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estión: Esóf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bo muscular de unos 30 cm que comunica la faringe con 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iende por detrás de la tráquea y del coraz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viesa el diafragma por el hiato esofá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dos esfínteres, uno superior y otro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Esófago"/>
          <p:cNvPicPr/>
          <p:nvPr/>
        </p:nvPicPr>
        <p:blipFill>
          <a:blip r:embed="rId1"/>
          <a:stretch/>
        </p:blipFill>
        <p:spPr>
          <a:xfrm>
            <a:off x="0" y="17733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óf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pitelio plano pluriestratificado no queratin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sub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s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álulas musculares lisas perimetrales y longitudinales, responsables de movimientos peristál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adventi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4248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ófago: Ondas peristált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as de contracción de la musculatura l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ujan el bolo hacia el estóm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3200" y="1797120"/>
            <a:ext cx="37591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El estóm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24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te dilatada del tubo digestivo donde se completa la digestión mecánica y continúa la digestión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olo alimenticio se transforma en una papilla llamada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qu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finter pilórico regula el vaciad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óm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1386000"/>
            <a:ext cx="806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ómago: glándulas gástr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cuatro tipos de cél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contacto con el ácido clorhídrico se transforma 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zima que degrada las proteínas. En el antro pilórico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gástr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sobre algunos líp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arie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ácido clorhíd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mu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muc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ectora de la pared d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hormona que estimula la secreción de ácido clorhíd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tapas del proces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gest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s alimentos son triturados por los dientes y mezclados con la sal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gest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enzimas de los jugos descomponen los nutrientes en moléculas más senci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or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moléculas sencillas atraviesan las paredes del tubo y son transportadas por la sang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simil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células utilizan los nutrientes para obtener energía o fabricar nuevas moléc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efe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sustancias no digeridas o no absorbidas son eliminadas por el 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urre la mayor parte de la digestión enzimática y casi toda la absor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un tubo arrollado, de unos siete metros de longitud y de algo más de dos centímetros y medio de diáme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intestino delgado se subdivide en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duode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yeyu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íle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ue se continúa con el intestino grueso por medio de la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válvula ileoce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7864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testino delgado: digestión quím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0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ierten en el duodeno a través de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onde se mezclan con el qu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lándulas intestinales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211640" y="1733400"/>
            <a:ext cx="4932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El 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195800" cy="424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ás grande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so 1,5 kg (sin sang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r rojo o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stencia b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vidido en 4 lóbu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zquier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re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ud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d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14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cedente del intestino (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aporta nutrien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arteria hepá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aporta oxíg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venas de los lobulillos confluyen en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vena hepá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ue lleva sangre a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cava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067280" y="2022480"/>
            <a:ext cx="50767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ituido por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lobulillos hepá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exagonales co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hepatoci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rededor de una vena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 ellos ha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espacios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triangulares,  una rama de la arteria hepática, una rama de la vena porta, un capilar linfático y un conductillo biliar, que recoge la 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ducida por los hepatocitos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887640" cy="277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48360" y="3284640"/>
            <a:ext cx="3168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: fun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glúc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glucólisis, glucogenólisis y gluconeogéne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líp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síntesis de colesterol y lipoproteí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proteí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toxin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horm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íntesis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factores de coagu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ósito de muchas sustancias (hierro, vitaminas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eritrocitos envejecidos por las </a:t>
            </a:r>
            <a:r>
              <a:rPr b="0" lang="es-ES" sz="2200" spc="-1" strike="noStrike">
                <a:solidFill>
                  <a:srgbClr val="800080"/>
                </a:solidFill>
                <a:latin typeface="Arial"/>
              </a:rPr>
              <a:t>células de Kup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vitamina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y ex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rrubin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r degradación de la hemoglob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 y vesícula bili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5640" y="1600200"/>
            <a:ext cx="4538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ulsiona las grasas, neutraliza la acidez del quimo, y favorece la absorción de los ácidos gr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sales biliares, proteínas, colesterol y hormonas, además de pigmentos de color verdoso (bilirrubi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producida por los hepatocitos, vierte a los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analículos bili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ue desembocan en los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nductos b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almacena temporalmente en la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vesícula bil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liberada cuando el alimento llega al duod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3322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El 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59770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67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gano de forma cónica, de unos 25 cm de longitud y 5 de gro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ixta: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islotes de Langerha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nsu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lucag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regulan el metabolismo de los glú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glándula exocrina fabric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533"/>
          <a:stretch/>
        </p:blipFill>
        <p:spPr>
          <a:xfrm>
            <a:off x="4211640" y="1916280"/>
            <a:ext cx="4392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 aparat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0360" y="1599840"/>
            <a:ext cx="403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ub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11 metros de largo, desde la boca hasta el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vidad bu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stino del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stino Gru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Glándulas an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ándulas gás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ándulas intest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2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áncreas: el jugo pancreátic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enzimas: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tida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nucleasas pancre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bicarbon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 al duodeno a través del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de Wirsu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se une al colédoco y desemboca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 también u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acces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11640" y="1768320"/>
            <a:ext cx="493236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bsorc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 de sustancias desde el tubo digestivo hacia la sangre y la lin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amente se absorben 9 litros de agua que contienen 500 g de nutr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penetran en los capilares sanguíneos y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os lleva al 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rasas penetran en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sos quilíf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pasan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red linf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llosidades y microvellosidades intestinales proporcionan una superficie de absorción de 30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,5 m de longitud y 6,5 cm de diá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l se produce absor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ones inorgá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formación y elimina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heces fe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abundant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lora bacteri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fermenta residuos no digeridos, y sintetiz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vitaminas 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47640" y="2048040"/>
            <a:ext cx="38102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9068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ces fec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068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as por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restos de alimen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absorbidos (celulosa)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cél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epitelio intestinal,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acteri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test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aracterístico debido a la fermentación pútrida de las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or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empo que pasan en el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81520" y="1413000"/>
            <a:ext cx="36511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gulación del proceso digestiv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nervio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stema nervioso entér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Regula la actividad del músculo liso y de las glándulas que segregan en 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bras nerviosas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para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tiva o inhiben la función diges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horm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hormonas tisulares: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ómago),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secret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colecistoquin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testino del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estión: Cavidad buc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43640" y="1628640"/>
            <a:ext cx="2232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ándulas saliv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mo de las f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ígd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1868400"/>
            <a:ext cx="59752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ngu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4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 musculoso, muy mó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e en la mast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e en la deg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 del gu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3960" y="1700280"/>
            <a:ext cx="518004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ngua: Papilas gustativ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36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il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abundantes, no poseen botones gus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ung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numerosas en la p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calic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n V invertida en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dos últimas tienen botones gust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40360" y="2178000"/>
            <a:ext cx="4464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79640" y="1599840"/>
            <a:ext cx="295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í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e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is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i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790640"/>
            <a:ext cx="46101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88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ición de leche: 20 piez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ición adulta: 32 pi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13280" y="404640"/>
            <a:ext cx="488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lándulas saliva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róti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oreja. Vierten junto al segundo molar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maxi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ling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cima de l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al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tiene amilasa (degrada almidón) y lipasa lingual (degrada grasas), agua, sales, lisozima (bactericida) y mucina (lubrica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Glándulas de la cabeza y el cuello"/>
          <p:cNvPicPr/>
          <p:nvPr/>
        </p:nvPicPr>
        <p:blipFill>
          <a:blip r:embed="rId1"/>
          <a:srcRect l="2835" t="0" r="2835" b="0"/>
          <a:stretch/>
        </p:blipFill>
        <p:spPr>
          <a:xfrm>
            <a:off x="395280" y="1773360"/>
            <a:ext cx="4464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09:14Z</dcterms:created>
  <dc:creator>Dani</dc:creator>
  <dc:description/>
  <dc:language>en-US</dc:language>
  <cp:lastModifiedBy>Dani</cp:lastModifiedBy>
  <dcterms:modified xsi:type="dcterms:W3CDTF">2010-09-09T09:26:00Z</dcterms:modified>
  <cp:revision>23</cp:revision>
  <dc:subject/>
  <dc:title>Tema 3: Anatomía y fisiología del Aparato Digestivo</dc:title>
</cp:coreProperties>
</file>