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png" ContentType="image/pn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B9A-6C79-4D94-ADB9-ED4525D3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C34-3878-4F29-838C-37EF8896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803-2DE5-46A6-81B3-BB1476CD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1CC-77A4-4FA1-A156-BBA52D2A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D482-159B-4062-9F7A-971C7E35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5E35-F509-4C9D-BCAB-9C978CDA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ACC9-DD4E-405D-8C44-AB1F570B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65B9-4CB3-463C-8C2A-25475FA6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9C8E-7B98-4AD7-A39B-72D9A413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4513-9C17-4A0A-B7BA-ACD33423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F917-45FD-43C5-9A3F-49333EE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9CA-11C6-4E9E-A461-09D4B062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4FAD-FE1A-444C-9F24-2FE59C94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D006-6AE1-4537-A764-7F1B9DA5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1149-1F2C-429C-9815-EABCC318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C435-F81A-439B-A9CC-264CE3D8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F68E-E44D-4F08-8FB7-516886F6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5BB-A42C-4486-9C76-8DB13E1C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E7B9-8062-4CD5-843C-84AD5A12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2FD-0B5E-42A7-9346-0E2C009A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CB8-9A98-467C-BDEE-11CE2798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D54-9BE7-4433-9021-1AD2528D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E56-54A8-4A7B-AE30-0AFD1EA7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A8D-C73C-443D-9453-A017126F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C44E-1545-4933-83B9-6EBCBCBFD3C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D279-2533-4213-A9A2-09B596BFF59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ema 3: Anatomía y fisiología del Aparato Digestiv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9397" t="4725" r="0" b="4725"/>
          <a:stretch/>
        </p:blipFill>
        <p:spPr>
          <a:xfrm>
            <a:off x="755640" y="3213000"/>
            <a:ext cx="3027240" cy="345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4427640" y="3284640"/>
          <a:ext cx="345744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3284640"/>
                    <a:ext cx="345744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 proceso de la deglució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Fase 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ceso voluntario. La lengua comprime el bolo contra el paladar y lo empuja hacia atr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Fase faríng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cto refle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ladar blando se eleva y cierra la cavidad na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piglotis desciende y cierra la tráqu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inicia un movimiento peristáltico que impulsa el bolo hacia la fari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1593720"/>
            <a:ext cx="460872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tragantamien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53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objetivo es despejar las vías respiratorias obstruidas por un cuerpo extr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omprime con el puño por debajo del esternón, hacia dentro y hacia arri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o tiene éxito, puede ser necesaria una traqueot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5980"/>
          <a:stretch/>
        </p:blipFill>
        <p:spPr>
          <a:xfrm>
            <a:off x="5219640" y="404640"/>
            <a:ext cx="365148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gestión: Farin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bo musculoso común a los aparatos digestivo y respir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 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bo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avés del istmo de las fa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esóf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fosas nasa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avés de las co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lari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avés de la glo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oído me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avés de las trompas de Eustaqu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1390680"/>
            <a:ext cx="5977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gestión: Esófag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ubo muscular de unos 30 cm que comunica la faringe con 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iende por detrás de la tráquea y del coraz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raviesa el diafragma por el hiato esofá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 dos esfínteres, uno superior y otro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Esófago"/>
          <p:cNvPicPr/>
          <p:nvPr/>
        </p:nvPicPr>
        <p:blipFill>
          <a:blip r:embed="rId1"/>
          <a:stretch/>
        </p:blipFill>
        <p:spPr>
          <a:xfrm>
            <a:off x="0" y="177336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ófago: Histolog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muc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pitelio plano pluriestratificado no queratin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submuc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ejido conju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musc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álulas musculares lisas perimetrales y longitudinales, responsables de movimientos peristál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apa adventic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tejido conju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27640" y="2421000"/>
            <a:ext cx="4248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ófago: Ondas peristált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das de contracción de la musculatura l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ujan el bolo hacia el estóm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3200" y="1797120"/>
            <a:ext cx="37591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gestión: El estómag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24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te dilatada del tubo digestivo donde se completa la digestión mecánica y continúa la digestión quí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olo alimenticio se transforma en una papilla llamada </a:t>
            </a: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qu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finter pilórico regula el vaciado gást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969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ómago: histolog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1386000"/>
            <a:ext cx="806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ómago: glándulas gástri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cuatro tipos de célu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rincip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óge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contacto con el ácido clorhídrico se transforma 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zima que degrada las proteínas. En el antro pilórico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gástr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sobre algunos líp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pariet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ácido clorhídr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mucos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mucos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tectora de la pared del estóm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élula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Produce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hormona que estimula la secreción de ácido clorhíd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tapas del proceso diges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gest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s alimentos son triturados por los dientes y mezclados con la sal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gest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 enzimas de los jugos descomponen los nutrientes en moléculas más senci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or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 moléculas sencillas atraviesan las paredes del tubo y son transportadas por la sang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simil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 células utilizan los nutrientes para obtener energía o fabricar nuevas moléc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efec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s sustancias no digeridas o no absorbidas son eliminadas por el 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gestión: Intestino del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urre la mayor parte de la digestión enzimática y casi toda la absor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un tubo arrollado, de unos siete metros de longitud y de algo más de dos centímetros y medio de diáme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intestino delgado se subdivide en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duode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yeyu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íle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que se continúa con el intestino grueso por medio de la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válvula ileoce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7864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testino delgado: digestión quím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0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vierten en el duodeno a través de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mpolla de Vat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donde se mezclan con el qu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lándulas intestinales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211640" y="1733400"/>
            <a:ext cx="4932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llosidades intestin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598920" cy="2590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6156360" cy="51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gestión: El 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195800" cy="4249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ás grande del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so 1,5 kg (sin sang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or rojo o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istencia bl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vidido en 4 lóbu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zquier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rec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ud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d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14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e sangre de la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cedente del intestino (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aporta nutrien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e sangre de la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arteria hepá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aporta oxíge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venas de los lobulillos confluyen en la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vena hepá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que lleva sangre a la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cava inf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067280" y="2022480"/>
            <a:ext cx="50767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í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ituido por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lobulillos hepát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exagonales co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hepatoci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rededor de una vena cen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 ellos ha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espacios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triangulares,  una rama de la arteria hepática, una rama de la vena porta, un capilar linfático y un conductillo biliar, que recoge la 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roducida por los hepatocitos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887640" cy="2770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48360" y="3284640"/>
            <a:ext cx="3168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ígado: fun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glúc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glucólisis, glucogenólisis y gluconeogéne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los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lípi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síntesis de colesterol y lipoproteí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tabolismo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proteí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toxina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horm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íntesis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factores de coagu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ósito de muchas sustancias (hierro, vitaminas,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iminación de eritrocitos envejecidos por las </a:t>
            </a:r>
            <a:r>
              <a:rPr b="0" lang="es-ES" sz="2200" spc="-1" strike="noStrike">
                <a:solidFill>
                  <a:srgbClr val="800080"/>
                </a:solidFill>
                <a:latin typeface="Arial"/>
              </a:rPr>
              <a:t>células de Kup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a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vitamina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ción y excreción de </a:t>
            </a:r>
            <a:r>
              <a:rPr b="0" lang="es-ES" sz="2200" spc="-1" strike="noStrike">
                <a:solidFill>
                  <a:srgbClr val="cc9900"/>
                </a:solidFill>
                <a:latin typeface="Arial"/>
              </a:rPr>
              <a:t>bilirrubin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por degradación de la hemoglob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ígado y vesícula bili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5640" y="1600200"/>
            <a:ext cx="45388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bi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ulsiona las grasas, neutraliza la acidez del quimo, y favorece la absorción de los ácidos gr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ene sales biliares, proteínas, colesterol y hormonas, además de pigmentos de color verdoso (bilirrubi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producida por los hepatocitos, vierte a los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analículos bili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que desembocan en los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nductos b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almacena temporalmente en la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vesícula bil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liberada cuando el alimento llega al duod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3322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gestión: El páncre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597708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áncre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67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gano de forma cónica, de unos 25 cm de longitud y 5 de gro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lándula mixta: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islotes de Langerhan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gregan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nsu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glucag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regulan el metabolismo de los glú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o glándula exocrina fabric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jugo pancre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533"/>
          <a:stretch/>
        </p:blipFill>
        <p:spPr>
          <a:xfrm>
            <a:off x="4211640" y="1916280"/>
            <a:ext cx="4392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l aparato diges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0360" y="1599840"/>
            <a:ext cx="403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Tub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11 metros de largo, desde la boca hasta el 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vidad bu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ó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óm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stino del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stino Gru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Glándulas ane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ándulas saliv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í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án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ándulas gás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ándulas intesti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3203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áncreas: el jugo pancreátic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enzimas: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mil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lipasa pancreá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quimotrips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peptida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nucleasas pancreát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bicarbona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ega al duodeno a través del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onducto de Wirsu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se une al colédoco y desemboca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ampolla de V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 también u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conducto acces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11640" y="1768320"/>
            <a:ext cx="493236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bsorción: intestino delg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so de sustancias desde el tubo digestivo hacia la sangre y la lin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riamente se absorben 9 litros de agua que contienen 500 g de nutr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utrientes penetran en los capilares sanguíneos y confluyen en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ena por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los lleva al hí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grasas penetran en lo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asos quilífe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pasan a l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red linf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vellosidades y microvellosidades intestinales proporcionan una superficie de absorción de 30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llosidades intestin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598920" cy="2590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6156360" cy="51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estino grues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,5 m de longitud y 6,5 cm de diá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él se produce absor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agu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iones inorgánic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 formación y eliminación de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heces fe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iene abundante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lora bacteria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fermenta residuos no digeridos, y sintetiza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vitaminas 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47640" y="2048040"/>
            <a:ext cx="38102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estino grues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590688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ces fec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1068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das por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restos de aliment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absorbidos (celulosa),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célul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epitelio intestinal, y </a:t>
            </a:r>
            <a:r>
              <a:rPr b="0" lang="es-ES" sz="2400" spc="-1" strike="noStrike">
                <a:solidFill>
                  <a:srgbClr val="cc9900"/>
                </a:solidFill>
                <a:latin typeface="Arial"/>
              </a:rPr>
              <a:t>bacteri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test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aracterístico debido a la fermentación pútrida de las prote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for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pende del tiempo que pasan en el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81520" y="1413000"/>
            <a:ext cx="36511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gulación del proceso digestiv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nervio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el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sistema nervioso entér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Regula la actividad del músculo liso y de las glándulas que segregan en é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bras nerviosas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800080"/>
                </a:solidFill>
                <a:latin typeface="Arial"/>
              </a:rPr>
              <a:t>para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ctiva o inhiben la función diges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gulación horm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hormonas tisulares: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gastr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ómago),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secret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800" spc="-1" strike="noStrike">
                <a:solidFill>
                  <a:srgbClr val="cc9900"/>
                </a:solidFill>
                <a:latin typeface="Arial"/>
              </a:rPr>
              <a:t>colecistoquin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intestino del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gestión: Cavidad buc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43640" y="1628640"/>
            <a:ext cx="2232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ándulas saliv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mo de las f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ígda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1868400"/>
            <a:ext cx="59752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ngu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4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rgano musculoso, muy mó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e en la mast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e en la deg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rgano del gu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3960" y="1700280"/>
            <a:ext cx="518004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ngua: Papilas gustativ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36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fil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ás abundantes, no poseen botones gus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fung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Más numerosas en la p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pilas caliciform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orman V invertida en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dos últimas tienen botones gust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40360" y="2178000"/>
            <a:ext cx="4464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e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79640" y="1599840"/>
            <a:ext cx="295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í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e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is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i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mo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1790640"/>
            <a:ext cx="46101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e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88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ición de leche: 20 piez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ición adulta: 32 pi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13280" y="404640"/>
            <a:ext cx="48895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lándulas saliva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8920" y="155700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Paróti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oreja. Vierten junto al segundo molar sup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maxila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Bajo la base de la len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ublingu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cima de l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Sal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tiene amilasa (degrada almidón) y lipasa lingual (degrada grasas), agua, sales, lisozima (bactericida) y mucina (lubrica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Glándulas de la cabeza y el cuello"/>
          <p:cNvPicPr/>
          <p:nvPr/>
        </p:nvPicPr>
        <p:blipFill>
          <a:blip r:embed="rId1"/>
          <a:srcRect l="2835" t="0" r="2835" b="0"/>
          <a:stretch/>
        </p:blipFill>
        <p:spPr>
          <a:xfrm>
            <a:off x="395280" y="1773360"/>
            <a:ext cx="4464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7:09:14Z</dcterms:created>
  <dc:creator>Dani</dc:creator>
  <dc:description/>
  <dc:language>en-US</dc:language>
  <cp:lastModifiedBy>Dani</cp:lastModifiedBy>
  <dcterms:modified xsi:type="dcterms:W3CDTF">2010-09-09T09:26:00Z</dcterms:modified>
  <cp:revision>23</cp:revision>
  <dc:subject/>
  <dc:title>Tema 3: Anatomía y fisiología del Aparato Digestivo</dc:title>
</cp:coreProperties>
</file>