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5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3F92-7250-4905-9BC4-C5B42C82A6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F1E1-8685-4CFB-B4A3-A6A7A1E6F38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DA0-028B-4E7B-8C17-2F1D05C372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B69B-C32B-47B4-8E1A-0F0F7968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4BBF-902B-4A8C-B70A-760B2B35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3E80-1980-4BCD-88C9-3FAAAEC8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0693-2D12-4F29-A585-F6363CC6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8497-A2C2-45FA-A31A-C2B8F8CE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448-03A4-4950-A5C3-0867D2AB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3BD-5D17-431C-8831-9BC9323C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FFE5-B7C2-4CBD-8493-080FA79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F829-8ECA-4FE8-88C9-89327B4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C79-4718-4ED6-8310-F33ED042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610-1D10-4FC0-B69B-81936181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67D4-3AD2-4FFA-9181-4EE6E76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BB06-C235-4EC4-8204-56D3CF1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69B7-22AA-4852-A833-7FC5633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A43-9004-4B3F-A613-0686C89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9865-C786-4E7A-B5E3-3FBDBB2F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65AD-8B00-45AA-AA6F-5BEA011F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2A4B-A6FF-4D32-A65D-8487C95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3750-E1E3-409F-A3C7-D734929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4CF8-0BF3-43D1-A82F-0D04E951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D264-C709-4BED-A253-AE36EFAB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E9C2-3A1A-401E-BF44-DBCE7459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222C-259F-492C-B31A-40ECCC2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4AF6-7EB8-4443-A44C-D93C15B0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C161-F09C-4869-B3DC-CB680FD38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4A9A-E70B-40C1-9562-7895C951A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nerg&#237;a" TargetMode="External"/><Relationship Id="rId2" Type="http://schemas.openxmlformats.org/officeDocument/2006/relationships/hyperlink" Target="http://es.wikipedia.org/wiki/Adenos&#237;n_trifosfato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ema 4: Anatomía y fisiología del Aparato Respiratorio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[respiratory_labeled.jpg]"/>
          <p:cNvPicPr/>
          <p:nvPr/>
        </p:nvPicPr>
        <p:blipFill>
          <a:blip r:embed="rId1"/>
          <a:stretch/>
        </p:blipFill>
        <p:spPr>
          <a:xfrm>
            <a:off x="250920" y="3500280"/>
            <a:ext cx="2793960" cy="335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2913120" cy="233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EPOC"/>
          <p:cNvPicPr/>
          <p:nvPr/>
        </p:nvPicPr>
        <p:blipFill>
          <a:blip r:embed="rId3"/>
          <a:stretch/>
        </p:blipFill>
        <p:spPr>
          <a:xfrm>
            <a:off x="5796000" y="3933720"/>
            <a:ext cx="2857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bo musculo-cartilaginoso que comunica la faringe con la tráqu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delante de la fari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o por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hueso hi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nueve cartílagos; los principales son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ric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artílago 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forma una prominencia en el cuello, más prominente en el hombre, llamad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nuez de Adá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176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ene forma de lengü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l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deglu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ierra la entrada a la laringe para impedir que los alimentos entren en las vías respir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tro de la laringe se encuentran dos pares de repliegues, l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uerdas voc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mitan un espacio triangular llamad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lo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686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8560" y="765000"/>
            <a:ext cx="41054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y dos pares de cuerdas vocales, la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l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peri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la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erdader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eri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inferiores pueden vibrar al pasar el aire y producir sonidos, que con la boca y la lengua son transformados en palab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ensión de las cuer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ifica el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amaño de la lari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termina el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imb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2093760"/>
            <a:ext cx="48243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1773360"/>
            <a:ext cx="3429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ráque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un tubo  de 13 cm de longitud y 2 de diáme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á delante del esóf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do por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anillos cartilaginoso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divide en d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nqui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que penetran en los pulmones, y siguen dividiéndose formando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árbol bronqu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más finos se llaman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nquiol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terminan en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lvéol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20778" r="0" b="0"/>
          <a:stretch/>
        </p:blipFill>
        <p:spPr>
          <a:xfrm>
            <a:off x="250920" y="1844640"/>
            <a:ext cx="4971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62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tracto respiratorio está tapizado por u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telio cilíndrico pseudoestratificado cili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las células ciliadas ha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élulas caliciform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cretoras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ovimientos ciliares van recogiendo las bacterias y las otras partículas capturadas por la mucosa y las trasladan hacia la garganta, desde donde serán expulsadas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490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3278160"/>
            <a:ext cx="4105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 órganos de forma cónica, alojados en la caja torác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erecho es más grande y tien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arados por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isur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izquierdo tien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857240"/>
            <a:ext cx="5113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bronquios, las arterias y las venas pulmonares entran en cada pulmón a través d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l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 continúan dividiénd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bronquiolos terminan en pequeñas vesículas llamad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lvéo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alvéolos están rodeados por una red d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pilares sanguíne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gases difunden entr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51280" y="3517920"/>
            <a:ext cx="4033800" cy="334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8512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913800" cy="5182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58467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ción longitudinal de pulmón de cordero. Árbol bronqu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leura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3280" y="1981080"/>
            <a:ext cx="224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pulmones están recubiertos por una membrana doble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leura parie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leura visc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ambas hay un líquido lubricante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íquido ple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7560"/>
            <a:ext cx="6121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 aparat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ías respir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sas nasa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áque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onqui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onquiol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3276720" y="1789200"/>
            <a:ext cx="56512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rámetros respiratori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pulmonar to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una inspiración forzada. 6 l en hombres, 4,5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vi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condiciones de máximo esfuerzo. 4,5 l en hombres, 3,2 l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resid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ire que queda en los alveolos tras la espiración. Alrededor de 1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de ventilación o capacidad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Inspiración normal. Unos 500 ml, de los que llegan a los alvéolos 350 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Frecuencia ventil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2 – 18 por min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406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lugar por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difu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os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roduce por las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diferencias de presión par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re el alvéolo y la sangre, para cada uno de los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presión par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or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u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oncentr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una mezcla de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51400" y="1628640"/>
            <a:ext cx="3792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24720" cy="4522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ire inspirado y espirad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esión parci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492280"/>
          <a:ext cx="8291520" cy="2190960"/>
        </p:xfrm>
        <a:graphic>
          <a:graphicData uri="http://schemas.openxmlformats.org/drawingml/2006/table">
            <a:tbl>
              <a:tblPr/>
              <a:tblGrid>
                <a:gridCol w="1184400"/>
                <a:gridCol w="1185840"/>
                <a:gridCol w="1184040"/>
                <a:gridCol w="1182960"/>
                <a:gridCol w="1184040"/>
                <a:gridCol w="1185840"/>
                <a:gridCol w="1184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lveo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rt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terst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él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e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11280" y="4889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 parcial de gases, a nivel del mar, en distintas regiones o partes del organismo [mm Hg]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697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97 % es trasportado por l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Hemoglobi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mándo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xi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hemoglobina contiene cuatro átomos de hierro en forma de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ión ferro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 cada uno de ellos se une de forma reversible a una molécula de oxíg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3 % restante se transport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disuelto en el plasma sanguín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356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251160" cy="403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52927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hemoglobina es unas 200 veces más afín por el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onóxido de carbo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r el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CO, se form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oxihemoglob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de color rojo cereza, que no puede transportar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produce la muerte po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hipox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ero no se presenta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dióxido de carbo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65 % se transporta com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ón bicarbona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(H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, disuelto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25 % se transporta unido a la hemoglobina, en forma d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aminohemoglob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10 % se transporta disuelto directamente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piración celu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54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o metabólico por el que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utrien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combinan con el oxígeno y se descomponen, liberand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 l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itocondr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 las cél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 energía es utilizada para la síntesis de moléculas d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ATP es utilizado para realizar otros procesos: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biosíntes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ontracción muscu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537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 proces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entilación pulmon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nspiración y espi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el aire y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ransporte de los g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r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la sangre y los tej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spiración ce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piración aerob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63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---&gt; 6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+ 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nergí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AT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3840" y="2997360"/>
            <a:ext cx="772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aceptor de los electr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prendidos de los compuestos orgánicos es 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oxíge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urre en varias eta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Glucól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xidación d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ácido pirúv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adena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fosforilación oxid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objetivo es mantener los niveles d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sangre dentro de unos márgenes estrechos que permitan la funcionalidad 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la respiración debe integrarse con el sistema digestivo, la emisión de sonidos, la t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istema está formado por unos centros respiratorios, que está distribuidos en varios grupos de neuronas integrados en el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tronco del encéfa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bulbo raquí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rol nervioso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patrón cíclico de respiración se modifica por diversos estímul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mbios en el pH o en la concentración de CO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de O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tuaciones como el ejercicio, emociones, cambios de presión arterial y temperatur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trol nervioso se basa en la presencia de un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mecan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pulmones, vías respiratorias, articulaciones y músculos, que recogen información y la transmiten a los centros respirato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aumenta la concentración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o cuando aumenta la concentración de iones hidrógeno en sangre, se estimulan l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quimi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uerpos carotídeo y aór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la velocidad de la respiración aumenta para eliminar el exceso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movimientos respiratorios se desarrollan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orma in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ero se puede modificar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manera 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tener conexiones con la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rteza cerebr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1387440"/>
            <a:ext cx="82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3"/>
          <p:cNvGrpSpPr/>
          <p:nvPr/>
        </p:nvGrpSpPr>
        <p:grpSpPr>
          <a:xfrm>
            <a:off x="438120" y="1773360"/>
            <a:ext cx="2447640" cy="1881000"/>
            <a:chOff x="438120" y="1773360"/>
            <a:chExt cx="2447640" cy="1881000"/>
          </a:xfrm>
        </p:grpSpPr>
        <p:sp>
          <p:nvSpPr>
            <p:cNvPr id="214" name="Text Box 6"/>
            <p:cNvSpPr/>
            <p:nvPr/>
          </p:nvSpPr>
          <p:spPr>
            <a:xfrm>
              <a:off x="438120" y="1773360"/>
              <a:ext cx="244764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Centr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941040" y="2349720"/>
              <a:ext cx="1390680" cy="13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2"/>
          <p:cNvGrpSpPr/>
          <p:nvPr/>
        </p:nvGrpSpPr>
        <p:grpSpPr>
          <a:xfrm>
            <a:off x="5694480" y="1773360"/>
            <a:ext cx="2886840" cy="2807640"/>
            <a:chOff x="5694480" y="1773360"/>
            <a:chExt cx="2886840" cy="2807640"/>
          </a:xfrm>
        </p:grpSpPr>
        <p:sp>
          <p:nvSpPr>
            <p:cNvPr id="217" name="Text Box 7"/>
            <p:cNvSpPr/>
            <p:nvPr/>
          </p:nvSpPr>
          <p:spPr>
            <a:xfrm>
              <a:off x="5694480" y="1773360"/>
              <a:ext cx="244800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Periféric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9" descr=""/>
            <p:cNvPicPr/>
            <p:nvPr/>
          </p:nvPicPr>
          <p:blipFill>
            <a:blip r:embed="rId2"/>
            <a:stretch/>
          </p:blipFill>
          <p:spPr>
            <a:xfrm>
              <a:off x="5981760" y="2349360"/>
              <a:ext cx="122868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7354440" y="34542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7374960" y="24919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aróti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3"/>
          <p:cNvSpPr/>
          <p:nvPr/>
        </p:nvSpPr>
        <p:spPr>
          <a:xfrm>
            <a:off x="4788000" y="4581360"/>
            <a:ext cx="4176720" cy="1092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 form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79280" y="4589640"/>
            <a:ext cx="4176720" cy="139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tectan cambios en 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form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directa (por cambios de p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imiorrecepto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1716120"/>
          <a:ext cx="896472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6120"/>
                    <a:ext cx="89647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perventil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producirse por respirar demasiado, respirar superficialmente, tomar grandes bocanadas de aire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niveles d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incrementan y los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minuy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falta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la sangre es detectada por el cerebro, que de inmediato intentará poner remedio a esta situación. Nuestro cuerpo reacciona dificultándonos la respir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descensos del nivel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sangre, producen un aumento del pH de nuestra sangre. Esto produce mareos, palpitaciones, temblor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equilibrar los niveles de gases se puede respirar unos minutos tapando la nariz y la boca con una bolsa de pa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cavidades óseas situadas sobre la cavidad bu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deadas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alad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s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ron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das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abique nas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mado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ó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rtílago na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s paredes laterales están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rn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98108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unicadas con el exterior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orificios 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f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enos para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glándulas lacrim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nductos lacr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telio ciliado con células productoras de 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mucosa que recubre los cornetes se llam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 parte superior está l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Contiene las terminaciones de los nervios olfat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580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bo musculoso común a los aparatos digestivo y respira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unica 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boca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l istmo de las fau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sófag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sas nasale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s coan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larin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 glot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s trompas de Eustaqui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-2517" r="0" b="5051"/>
          <a:stretch/>
        </p:blipFill>
        <p:spPr>
          <a:xfrm>
            <a:off x="1619280" y="757080"/>
            <a:ext cx="7524720" cy="5850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4Z</dcterms:created>
  <dc:creator>Daniel</dc:creator>
  <dc:description/>
  <dc:language>en-US</dc:language>
  <cp:lastModifiedBy>Daniel</cp:lastModifiedBy>
  <dcterms:modified xsi:type="dcterms:W3CDTF">2010-02-08T18:55:23Z</dcterms:modified>
  <cp:revision>26</cp:revision>
  <dc:subject/>
  <dc:title>Tema 4: Anatomía y fisiología del Aparato Respiratorio</dc:title>
</cp:coreProperties>
</file>