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5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60B-DA11-4718-9EFE-38E1B2B3EE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AA6F-300C-4275-8EA3-D4E376BDEC2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4D2-0841-44C8-8DB6-A7858C0BE86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A33F-55E9-4DAF-9698-0AB3781A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2D7C-0858-4F5E-8906-2BB10373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EBA8-4FEC-4D62-A17B-AECAD730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46C3-B18E-4CAE-ACAC-71261CAA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088-A65F-4B68-AEAF-184D8443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C8DD-4ECA-4F35-B034-7B1D8ED5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DAAA-2A53-483F-AB5D-8F873A8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D8BF-BDFC-4A15-8376-8323A529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877C-6BBB-42CB-BF9E-4309E405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D05C-0BD1-4851-9647-05A988DA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9C0-C987-4D32-8B95-0EA81F2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57CD-CD5C-41D9-857A-105407C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D174-FB8F-4869-BCE0-ADE8649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294E-3799-462F-B978-D8328AFF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382F-404E-4865-8C48-374F903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4D36-5F88-4FBE-B08B-DD3A19B3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BCC9-7348-463B-A770-783E81E2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F5E7-2BC6-4257-B391-3EE1C149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17D3-0084-4BD8-81BE-91F84B55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CBE3-04FF-439F-B913-F1E7883B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8C9A-E5E4-413D-A0CF-4D4C6D95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B94F-0636-4E3E-8BB7-6D891DEA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D249-A137-467A-A0FB-A97E5F5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DD74-7188-4E56-83FA-505C6050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CC94-EF0E-42B9-8333-3E93C49F8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5155-685E-45E5-B376-A320368A1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nerg&#237;a" TargetMode="External"/><Relationship Id="rId2" Type="http://schemas.openxmlformats.org/officeDocument/2006/relationships/hyperlink" Target="http://es.wikipedia.org/wiki/Adenos&#237;n_trifosfato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ema 4: Anatomía y fisiología del Aparato Respiratorio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[respiratory_labeled.jpg]"/>
          <p:cNvPicPr/>
          <p:nvPr/>
        </p:nvPicPr>
        <p:blipFill>
          <a:blip r:embed="rId1"/>
          <a:stretch/>
        </p:blipFill>
        <p:spPr>
          <a:xfrm>
            <a:off x="250920" y="3500280"/>
            <a:ext cx="2793960" cy="3357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2913120" cy="233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EPOC"/>
          <p:cNvPicPr/>
          <p:nvPr/>
        </p:nvPicPr>
        <p:blipFill>
          <a:blip r:embed="rId3"/>
          <a:stretch/>
        </p:blipFill>
        <p:spPr>
          <a:xfrm>
            <a:off x="5796000" y="3933720"/>
            <a:ext cx="2857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ubo musculo-cartilaginoso que comunica la faringe con la tráqu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á delante de la fari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ormado por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hueso hi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nueve cartílagos; los principales son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ric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artílago tiroid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forma una prominencia en el cuello, más prominente en el hombre, llamada </a:t>
            </a: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nuez de Adá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176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piglot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ene forma de lengü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nte l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deglu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ierra la entrada a la laringe para impedir que los alimentos entren en las vías respira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tro de la laringe se encuentran dos pares de repliegues, l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uerdas voc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mitan un espacio triangular llamad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lo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6864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8560" y="765000"/>
            <a:ext cx="410544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y dos pares de cuerdas vocales, la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l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uperi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la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erdader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erio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inferiores pueden vibrar al pasar el aire y producir sonidos, que con la boca y la lengua son transformados en palab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ensión de las cuer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ifica el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amaño de la larin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termina el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imb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2093760"/>
            <a:ext cx="482436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63640" y="1773360"/>
            <a:ext cx="3429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ráque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un tubo  de 13 cm de longitud y 2 de diáme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á delante del esófa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do por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anillos cartilaginoso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divide en d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nqui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que penetran en los pulmones, y siguen dividiéndose formando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árbol bronqui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más finos se llaman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bronquiol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terminan en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lvéol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20778" r="0" b="0"/>
          <a:stretch/>
        </p:blipFill>
        <p:spPr>
          <a:xfrm>
            <a:off x="250920" y="1844640"/>
            <a:ext cx="4971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áquea, bronquios y bronquiol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40622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tracto respiratorio está tapizado por un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epitelio cilíndrico pseudoestratificado cili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tre las células ciliadas hay </a:t>
            </a:r>
            <a:r>
              <a:rPr b="0" lang="es-ES" sz="2000" spc="-1" strike="noStrike">
                <a:solidFill>
                  <a:srgbClr val="ff9900"/>
                </a:solidFill>
                <a:latin typeface="Arial"/>
              </a:rPr>
              <a:t>células caliciform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cretoras de </a:t>
            </a:r>
            <a:r>
              <a:rPr b="0" lang="es-ES" sz="2000" spc="-1" strike="noStrike">
                <a:solidFill>
                  <a:srgbClr val="ff7c80"/>
                </a:solidFill>
                <a:latin typeface="Arial"/>
              </a:rPr>
              <a:t>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movimientos ciliares van recogiendo las bacterias y las otras partículas capturadas por la mucosa y las trasladan hacia la garganta, desde donde serán expulsadas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348000" cy="2490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788000" y="3278160"/>
            <a:ext cx="41050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s órganos de forma cónica, alojados en la caja torác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derecho es más grande y tien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arados por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isur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izquierdo tien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lóbul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857240"/>
            <a:ext cx="5113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bronquios, las arterias y las venas pulmonares entran en cada pulmón a través d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l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 continúan dividiénd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bronquiolos terminan en pequeñas vesículas llamad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lvéo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alvéolos están rodeados por una red d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pilares sanguíne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gases difunden entre el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51280" y="3517920"/>
            <a:ext cx="4033800" cy="334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38512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913800" cy="5182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195280" y="1628280"/>
            <a:ext cx="584676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ción longitudinal de pulmón de cordero. Árbol bronqu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leura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3280" y="1981080"/>
            <a:ext cx="224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pulmones están recubiertos por una membrana doble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leura parie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leura visc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ambas hay un líquido lubricante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íquido ple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7560"/>
            <a:ext cx="61214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503360"/>
            <a:ext cx="91440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 aparat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ías respirato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sas nasa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rin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áque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onqui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onquiol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3276720" y="1789200"/>
            <a:ext cx="56512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arámetros respiratorio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pulmonar to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una inspiración forzada. 6 l en hombres, 4,5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Capacidad vit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en condiciones de máximo esfuerzo. 4,5 l en hombres, 3,2 l en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resid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Aire que queda en los alveolos tras la espiración. Alrededor de 1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Volumen de ventilación o capacidad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Inspiración normal. Unos 500 ml, de los que llegan a los alvéolos 350 m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7c80"/>
                </a:solidFill>
                <a:latin typeface="Arial"/>
              </a:rPr>
              <a:t>Frecuencia ventil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12 – 18 por min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406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lugar por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difu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os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roduce por las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diferencias de presión par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re el alvéolo y la sangre, para cada uno de los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presión par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or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u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concentr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una mezcla de 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g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51400" y="1628640"/>
            <a:ext cx="3792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24720" cy="45226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ire inspirado y espirad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ntercambio de gases: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resión parci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492280"/>
          <a:ext cx="8291520" cy="2190960"/>
        </p:xfrm>
        <a:graphic>
          <a:graphicData uri="http://schemas.openxmlformats.org/drawingml/2006/table">
            <a:tbl>
              <a:tblPr/>
              <a:tblGrid>
                <a:gridCol w="1184400"/>
                <a:gridCol w="1185840"/>
                <a:gridCol w="1184040"/>
                <a:gridCol w="1182960"/>
                <a:gridCol w="1184040"/>
                <a:gridCol w="1185840"/>
                <a:gridCol w="1184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lveo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rt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terst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él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e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11280" y="48895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ión parcial de gases, a nivel del mar, en distintas regiones o partes del organismo [mm Hg]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6978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97 % es trasportado por l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Hemoglobi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mándo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xi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hemoglobina contiene cuatro átomos de hierro en forma de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ión ferro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 cada uno de ellos se une de forma reversible a una molécula de oxíge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3 % restante se transporta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disuelto en el plasma sanguín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3560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251160" cy="403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52927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hemoglobina es unas 200 veces más afín por el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monóxido de carbon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por el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CO, se form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oxihemoglobin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de color rojo cereza, que no puede transportar oxíge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produce la muerte por </a:t>
            </a:r>
            <a:r>
              <a:rPr b="0" lang="es-ES" sz="2800" spc="-1" strike="noStrike">
                <a:solidFill>
                  <a:srgbClr val="ff9900"/>
                </a:solidFill>
                <a:latin typeface="Arial"/>
              </a:rPr>
              <a:t>hipoxi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pero no se presenta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ia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oxíge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ansporte de dióxido de carbono por la sang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65 % se transporta com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ón bicarbona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(HCO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, disuelto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25 % se transporta unido a la hemoglobina, en forma d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rbaminohemoglob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10 % se transporta disuelto directamente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piración celu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754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o metabólico por el que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utrien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combinan con el oxígeno y se descomponen, liberand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erg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 la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itocondr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 las cél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 energía es utilizada para la síntesis de moléculas d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ATP es utilizado para realizar otros procesos: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biosíntes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ontracción muscu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4537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 proceso respiratori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Ventilación pulmon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nspiración y espir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el aire y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ransporte de los g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r la sang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tercambio gaseo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re la sangre y los tej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spiración cel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piración aerob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6327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---&gt; 6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 + 6 H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 + 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energí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es-ES" sz="2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ATP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3840" y="2997360"/>
            <a:ext cx="7724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aceptor de los electr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sprendidos de los compuestos orgánicos es el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oxígen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curre en varias etap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Glucól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xidación del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ácido pirúv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iclo de Kre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adena respirato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fosforilación oxid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objetivo es mantener los niveles d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sangre dentro de unos márgenes estrechos que permitan la funcionalidad celu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la respiración debe integrarse con el sistema digestivo, la emisión de sonidos, la t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istema está formado por unos centros respiratorios, que está distribuidos en varios grupos de neuronas integrados en el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tronco del encéfa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bulbo raquí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trol nervioso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patrón cíclico de respiración se modifica por diversos estímul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mbios en el pH o en la concentración de CO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y de O</a:t>
            </a:r>
            <a:r>
              <a:rPr b="0" lang="en-US" sz="27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186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tuaciones como el ejercicio, emociones, cambios de presión arterial y temperatur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control nervioso se basa en la presencia de un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mecan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pulmones, vías respiratorias, articulaciones y músculos, que recogen información y la transmiten a los centros respirato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ando aumenta la concentración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sangre o cuando aumenta la concentración de iones hidrógeno en sangre, se estimulan los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quimiorrecepto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cuerpos carotídeo y aórtic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y la velocidad de la respiración aumenta para eliminar el exceso de 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movimientos respiratorios se desarrollan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forma in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ero se puede modificar 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manera voluntar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l tener conexiones con la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rteza cerebr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68360" y="1387440"/>
            <a:ext cx="82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3"/>
          <p:cNvGrpSpPr/>
          <p:nvPr/>
        </p:nvGrpSpPr>
        <p:grpSpPr>
          <a:xfrm>
            <a:off x="438120" y="1773360"/>
            <a:ext cx="2447640" cy="1881000"/>
            <a:chOff x="438120" y="1773360"/>
            <a:chExt cx="2447640" cy="1881000"/>
          </a:xfrm>
        </p:grpSpPr>
        <p:sp>
          <p:nvSpPr>
            <p:cNvPr id="214" name="Text Box 6"/>
            <p:cNvSpPr/>
            <p:nvPr/>
          </p:nvSpPr>
          <p:spPr>
            <a:xfrm>
              <a:off x="438120" y="1773360"/>
              <a:ext cx="244764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Centr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941040" y="2349720"/>
              <a:ext cx="1390680" cy="130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2"/>
          <p:cNvGrpSpPr/>
          <p:nvPr/>
        </p:nvGrpSpPr>
        <p:grpSpPr>
          <a:xfrm>
            <a:off x="5694480" y="1773360"/>
            <a:ext cx="2886840" cy="2807640"/>
            <a:chOff x="5694480" y="1773360"/>
            <a:chExt cx="2886840" cy="2807640"/>
          </a:xfrm>
        </p:grpSpPr>
        <p:sp>
          <p:nvSpPr>
            <p:cNvPr id="217" name="Text Box 7"/>
            <p:cNvSpPr/>
            <p:nvPr/>
          </p:nvSpPr>
          <p:spPr>
            <a:xfrm>
              <a:off x="5694480" y="1773360"/>
              <a:ext cx="2448000" cy="520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Periféric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8" name="Picture 9" descr=""/>
            <p:cNvPicPr/>
            <p:nvPr/>
          </p:nvPicPr>
          <p:blipFill>
            <a:blip r:embed="rId2"/>
            <a:stretch/>
          </p:blipFill>
          <p:spPr>
            <a:xfrm>
              <a:off x="5981760" y="2349360"/>
              <a:ext cx="122868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0"/>
            <p:cNvSpPr/>
            <p:nvPr/>
          </p:nvSpPr>
          <p:spPr>
            <a:xfrm>
              <a:off x="7354440" y="34542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or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1"/>
            <p:cNvSpPr/>
            <p:nvPr/>
          </p:nvSpPr>
          <p:spPr>
            <a:xfrm>
              <a:off x="7374960" y="2491920"/>
              <a:ext cx="120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Carótid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3"/>
          <p:cNvSpPr/>
          <p:nvPr/>
        </p:nvSpPr>
        <p:spPr>
          <a:xfrm>
            <a:off x="4788000" y="4581360"/>
            <a:ext cx="4176720" cy="1092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 form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179280" y="4589640"/>
            <a:ext cx="4176720" cy="13971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tectan cambios en 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tectan cambios en P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form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ndirecta (por cambios de p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imiorrecepto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gulación de la respir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79280" y="1716120"/>
          <a:ext cx="896472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6120"/>
                    <a:ext cx="89647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perventilació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9152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producirse por respirar demasiado, respirar superficialmente, tomar grandes bocanadas de aire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niveles d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incrementan y los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sminuy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falta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la sangre es detectada por el cerebro, que de inmediato intentará poner remedio a esta situación. Nuestro cuerpo reacciona dificultándonos la respir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 descensos del nivel d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n sangre, producen un aumento del pH de nuestra sangre. Esto produce mareos, palpitaciones, temblor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equilibrar los niveles de gases se puede respirar unos minutos tapando la nariz y la boca con una bolsa de pap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24000" y="1981080"/>
            <a:ext cx="29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cavidades óseas situadas sobre la cavidad bu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deadas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alad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sa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ron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das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abique nas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mado por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tmo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ó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rtílago na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s paredes laterales están lo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rn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98108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unicadas con el exterior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orificios 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faring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a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senos parana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 la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glándulas lacrim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por los </a:t>
            </a: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conductos lacrim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7243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as vías respiratorias: Fosas nasa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508720" y="198108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telio ciliado con células productoras de mo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mucosa que recubre los cornetes se llam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uitaria r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la parte superior está l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tuitaria amaril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Contiene las terminaciones de los nervios olfato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377" t="3457" r="2377" b="9219"/>
          <a:stretch/>
        </p:blipFill>
        <p:spPr>
          <a:xfrm>
            <a:off x="0" y="2133720"/>
            <a:ext cx="5580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bo musculoso común a los aparatos digestivo y respira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unica c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boca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l istmo de las fau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sófag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sas nasale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s coan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laringe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 glot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oído medio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a través de las trompas de Eustaquio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-2517" r="0" b="5051"/>
          <a:stretch/>
        </p:blipFill>
        <p:spPr>
          <a:xfrm>
            <a:off x="1619280" y="757080"/>
            <a:ext cx="7524720" cy="5850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arin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8:17:04Z</dcterms:created>
  <dc:creator>Daniel</dc:creator>
  <dc:description/>
  <dc:language>en-US</dc:language>
  <cp:lastModifiedBy>Daniel</cp:lastModifiedBy>
  <dcterms:modified xsi:type="dcterms:W3CDTF">2010-02-08T18:55:23Z</dcterms:modified>
  <cp:revision>26</cp:revision>
  <dc:subject/>
  <dc:title>Tema 4: Anatomía y fisiología del Aparato Respiratorio</dc:title>
</cp:coreProperties>
</file>