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4.png" ContentType="image/png"/>
  <Override PartName="/ppt/media/image1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0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9.jpeg" ContentType="image/jpeg"/>
  <Override PartName="/ppt/media/image31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3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gif" ContentType="image/gif"/>
  <Override PartName="/ppt/media/image19.png" ContentType="image/png"/>
  <Override PartName="/ppt/media/image21.png" ContentType="image/pn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842E-C8AE-4F47-AD6F-8CE4425BACB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 estima que la longitud total de todos los capilares del cuerpo humano es de unos 100.000 kilómetr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F611-67E4-4AA9-BAAB-A93403017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7CC5-5B5B-45CA-9EF8-7F1F5849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A805-F64D-41AE-832B-0BF1E9649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D0DD-59A4-45D4-BBD6-1EF5293ED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068D-652B-4CE0-A265-491591867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5909B-3B86-46B2-A4AD-63CBF598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7FCE-0FF0-4223-A1E6-44373AF1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BB2D-7C7B-4EC3-A852-EE8FB9C9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2C29-257D-40E9-966D-A94CBE23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DEF0-71C0-4C1B-9DCF-AC2B3D32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8B75C-3B1C-4FE4-80A9-E3BBC19C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F868-4012-4883-8E93-8466E337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5CA2-EE25-4008-B26B-82C0AA78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E350-842C-4EBA-91C9-AA49BFFD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CA75-D59E-4B30-8961-901CD50A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5A12-5CC5-42AB-9EDA-A99E2EFB6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F2173-1B14-4B39-8764-6E97766BE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8C71-A73E-41BA-AB8D-C7DEC09C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15F9-F703-4AAF-9DD3-A5C0C426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6B45-63A1-4E77-9EDF-BBC49DF6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BF7E-EE7D-42B2-8BEA-36B56C27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B79B-9FC5-45D8-B2D8-8B8C72E2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6C2B-567A-495F-9874-C1CD2938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A4EF-4ED2-4F1F-93F7-680E9BF5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8683-1A21-403A-B8CA-473407D34B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567A-03D0-474D-9668-81AB82B449D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352px-grafik_blutkreislauf.jpg"/>
          <p:cNvPicPr/>
          <p:nvPr/>
        </p:nvPicPr>
        <p:blipFill>
          <a:blip r:embed="rId1"/>
          <a:stretch/>
        </p:blipFill>
        <p:spPr>
          <a:xfrm>
            <a:off x="5796000" y="1052640"/>
            <a:ext cx="2914560" cy="496872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1844640"/>
            <a:ext cx="50400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Unicode MS"/>
              </a:rPr>
              <a:t>Tema 5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 Unicode MS"/>
              </a:rPr>
              <a:t>Anatomía y fisiología del aparato circulatori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corazón: Morfología y estructu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76720" y="1828800"/>
            <a:ext cx="36100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a 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aurícula derech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legan las cuatro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venas pulmona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a 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aurícula izquier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legan las do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venas cav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 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ventrículo derech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le la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rteria pulmon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 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ventrículo izquier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le la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rteria aor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4932360" cy="388944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corazón: Morfología y estructu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6720" y="1828800"/>
            <a:ext cx="36100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e la aurícula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derech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 el ventrículo derecho está la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válvula tricúsp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e la aurícula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izquier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 el ventrículo izquierdo está la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válvula mit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icúspi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No hay conex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tre el lado izquierdo y el derecho del coraz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e los </a:t>
            </a: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ventrícul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 las </a:t>
            </a: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arteri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tán las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válvulas sigmoide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emilun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4932360" cy="388944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corazón: Morfología y estructu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9280" y="2708280"/>
            <a:ext cx="4105440" cy="328464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427640" y="2066760"/>
            <a:ext cx="4537080" cy="453708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corazón: Hist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cc"/>
                </a:solidFill>
                <a:latin typeface="Arial"/>
              </a:rPr>
              <a:t>Pericarpi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doble capa serosa, envuelve externamente el coraz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cc"/>
                </a:solidFill>
                <a:latin typeface="Arial"/>
              </a:rPr>
              <a:t>Endocardi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Endotelio simple, tapiza el corazón por den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cc"/>
                </a:solidFill>
                <a:latin typeface="Arial"/>
              </a:rPr>
              <a:t>Miocardi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Formado por tejido muscular cardíaco. Autoexcitable; no tiene estimulación por el sistema nervio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0" y="2421000"/>
            <a:ext cx="4321080" cy="343044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corazón: Hist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6560" y="2508120"/>
            <a:ext cx="4246560" cy="382140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292720" y="2492280"/>
            <a:ext cx="3500280" cy="388800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corazón: Fisi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42920" y="1988640"/>
            <a:ext cx="403884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ísto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ontracción del músculo cardía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iásto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Relajación del músculo cardía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recuencia cardía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número de latidos por minuto. Depende de la edad, el sexo, el estado físic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reposo: 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60-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r min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ercicio físico: 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150-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4176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corazón: Ciclo cardía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358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0000"/>
                </a:solidFill>
                <a:latin typeface="Arial"/>
              </a:rPr>
              <a:t>Diástole gener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La sangre desoxigenada entra en la </a:t>
            </a: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aurícula derech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La sangre oxigenada entra en la </a:t>
            </a: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aurícula izquier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Las </a:t>
            </a:r>
            <a:r>
              <a:rPr b="0" lang="es-ES" sz="2000" spc="-1" strike="noStrike">
                <a:solidFill>
                  <a:srgbClr val="666699"/>
                </a:solidFill>
                <a:latin typeface="Arial"/>
              </a:rPr>
              <a:t>válvulas auriculo-ventricular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e abr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0000"/>
                </a:solidFill>
                <a:latin typeface="Arial"/>
              </a:rPr>
              <a:t>Sístole auricula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La sangre pasa de las </a:t>
            </a: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aurícul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a los </a:t>
            </a: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ventrícul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0000"/>
                </a:solidFill>
                <a:latin typeface="Arial"/>
              </a:rPr>
              <a:t>Sístole ventricula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Los </a:t>
            </a: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ventrícul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e contraen. Las </a:t>
            </a:r>
            <a:r>
              <a:rPr b="0" lang="es-ES" sz="2000" spc="-1" strike="noStrike">
                <a:solidFill>
                  <a:srgbClr val="666699"/>
                </a:solidFill>
                <a:latin typeface="Arial"/>
              </a:rPr>
              <a:t>válvulas aurículo-ventricular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e cierran. La </a:t>
            </a: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válvulas sigmoide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e abren y la sangre pasa a las </a:t>
            </a: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arteri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79640" y="4076640"/>
            <a:ext cx="5689440" cy="244332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idos cardía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cada ciclo cardíaco se perciben dos ruidos, separados por un </a:t>
            </a: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pequeñ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 un </a:t>
            </a: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gran silenc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ruidos corresponden a los sonidos “lubb-dupp” considerados como los latidos del coraz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rimer rui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corresponde al inicio de la sístole ventricular. </a:t>
            </a: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Las válvulas tricúspide y mitral se cierr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egundo rui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se produce al inicio de la diástole ventricular. </a:t>
            </a: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Se cierran las válvulas aórtica y pulmon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Puls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Onda de presión producida por la sangre al salir del corazón, que se transmite a lo largo de los vasos sanguíneos. Se percibe en las arterias más superficiales, en la muñeca o en el cuel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ulación de la actividad cardía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corazón es autoexcitable gracias al </a:t>
            </a:r>
            <a:r>
              <a:rPr b="0" lang="es-ES" sz="2000" spc="-1" strike="noStrike">
                <a:solidFill>
                  <a:srgbClr val="cc0000"/>
                </a:solidFill>
                <a:latin typeface="Arial"/>
              </a:rPr>
              <a:t>tejido nod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formado por células musculares modificadas y capaces de generar impuls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0000"/>
                </a:solidFill>
                <a:latin typeface="Arial"/>
              </a:rPr>
              <a:t>Nódulo sinoatri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SA): Inicia cada ciclo cardia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0000"/>
                </a:solidFill>
                <a:latin typeface="Arial"/>
              </a:rPr>
              <a:t>Nódulo auriculoventricula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AV): Capta la estimulación del SA y la transmite al sigu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0000"/>
                </a:solidFill>
                <a:latin typeface="Arial"/>
              </a:rPr>
              <a:t>Fascículo de Hi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distribuye la señal a los ventrículos. Se ramifica formando la </a:t>
            </a:r>
            <a:r>
              <a:rPr b="0" lang="es-ES" sz="2000" spc="-1" strike="noStrike">
                <a:solidFill>
                  <a:srgbClr val="cc0000"/>
                </a:solidFill>
                <a:latin typeface="Arial"/>
              </a:rPr>
              <a:t>red de Purkinj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500720" y="1832040"/>
            <a:ext cx="4103640" cy="410364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692360" y="6062760"/>
            <a:ext cx="5651280" cy="79524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ritmo cardíaco puede ser alterado por el </a:t>
            </a:r>
            <a:r>
              <a:rPr b="0" lang="es-ES" sz="2800" spc="-1" strike="noStrike">
                <a:solidFill>
                  <a:srgbClr val="cc0000"/>
                </a:solidFill>
                <a:latin typeface="Arial"/>
              </a:rPr>
              <a:t>sistema nervios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y por el </a:t>
            </a:r>
            <a:r>
              <a:rPr b="0" lang="es-ES" sz="2800" spc="-1" strike="noStrike">
                <a:solidFill>
                  <a:srgbClr val="cc0000"/>
                </a:solidFill>
                <a:latin typeface="Arial"/>
              </a:rPr>
              <a:t>sistema endocrin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0" lang="es-ES" sz="2800" spc="-1" strike="noStrike">
                <a:solidFill>
                  <a:srgbClr val="660033"/>
                </a:solidFill>
                <a:latin typeface="Arial"/>
              </a:rPr>
              <a:t>fibras simpátic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aceleran el ritmo cardiaco (efecto estimulado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0" lang="es-ES" sz="2800" spc="-1" strike="noStrike">
                <a:solidFill>
                  <a:srgbClr val="660033"/>
                </a:solidFill>
                <a:latin typeface="Arial"/>
              </a:rPr>
              <a:t>fibras parasimpátic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lo hacen más lento (efecto inhibido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ES" sz="2800" spc="-1" strike="noStrike">
                <a:solidFill>
                  <a:srgbClr val="000066"/>
                </a:solidFill>
                <a:latin typeface="Arial"/>
              </a:rPr>
              <a:t>adrenalin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y la </a:t>
            </a:r>
            <a:r>
              <a:rPr b="0" lang="es-ES" sz="2800" spc="-1" strike="noStrike">
                <a:solidFill>
                  <a:srgbClr val="000066"/>
                </a:solidFill>
                <a:latin typeface="Arial"/>
              </a:rPr>
              <a:t>noradrenalin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sintetizadas en las cápsulas suprarrenales) y la </a:t>
            </a:r>
            <a:r>
              <a:rPr b="0" lang="es-ES" sz="2800" spc="-1" strike="noStrike">
                <a:solidFill>
                  <a:srgbClr val="000066"/>
                </a:solidFill>
                <a:latin typeface="Arial"/>
              </a:rPr>
              <a:t>tiroxin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sintetizada en la tiroides) aumentan el ritmo cardia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ulación de la actividad cardía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El aparato circulato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 encarga del transporte de sustancias por todo el organism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rmado p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El </a:t>
            </a:r>
            <a:r>
              <a:rPr b="1" lang="en-US" sz="2800" spc="-1" strike="noStrike">
                <a:solidFill>
                  <a:srgbClr val="3366cc"/>
                </a:solidFill>
                <a:latin typeface="Arial Unicode MS"/>
              </a:rPr>
              <a:t>sistema cardiovascular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, por el que circula la </a:t>
            </a:r>
            <a:r>
              <a:rPr b="0" lang="en-US" sz="2800" spc="-1" strike="noStrike">
                <a:solidFill>
                  <a:srgbClr val="cc0000"/>
                </a:solidFill>
                <a:latin typeface="Arial Unicode MS"/>
              </a:rPr>
              <a:t>sang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El </a:t>
            </a:r>
            <a:r>
              <a:rPr b="1" lang="en-US" sz="2800" spc="-1" strike="noStrike">
                <a:solidFill>
                  <a:srgbClr val="3366cc"/>
                </a:solidFill>
                <a:latin typeface="Arial Unicode MS"/>
              </a:rPr>
              <a:t>sistema linfático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, por el que circula la </a:t>
            </a:r>
            <a:r>
              <a:rPr b="0" lang="en-US" sz="2800" spc="-1" strike="noStrike">
                <a:solidFill>
                  <a:srgbClr val="cc0000"/>
                </a:solidFill>
                <a:latin typeface="Arial Unicode MS"/>
              </a:rPr>
              <a:t>linf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cardi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898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gistra la actividad eléctrica del coraz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utiliza para medir el ritmo y la regularidad de los latidos, el tamaño y posición de las aurículas y ventrículos, cualquier daño al corazón y los efectos que sobre él tienen las drog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nd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: despolarización auric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RS: despolarización ventricular, su duración normal es de 0.06 a 0.1 s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: de repolarización ventricul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572000" y="1916280"/>
            <a:ext cx="4248000" cy="420840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vasos sanguíne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7290000" cy="481320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s vasos sanguíneos: Las arteri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levan la sangre desde el corazón a los tej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logí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única adventic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xterna, de tejido conjun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única med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e fibra muscular li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única inter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e endotel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4076640" cy="444960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s vasos sanguíneos: Las ven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uelven la sangre desde los tejidos hasta el coraz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logí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única adventic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más gruesa que en arteri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única med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más delgada que en las arteri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única inter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enen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válvul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e evitan el retroceso de la sang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4136760" cy="456408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s vasos sanguíneos: Los capila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y finos: entre 8 y 12 mic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sola capa te tejido epitelial (endotelio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 función principal es el intercambio de sustancias entre la luz de los capilares y el líquido intersticial de los tej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longitud total es de unos 100.000 kilómetr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95280" y="3933720"/>
            <a:ext cx="4176720" cy="275904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4176720" cy="208908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ión sanguín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 la presión que ejerce la sangre sobre las paredes de las arte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mide con el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esfigmomanómetr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resión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áxi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incide con la sístole ventric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íni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incide con la diásto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427640" y="1989000"/>
            <a:ext cx="4464000" cy="229248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427640" y="4437000"/>
            <a:ext cx="4465440" cy="213840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ales arterias y ve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00080" y="1844640"/>
            <a:ext cx="4437000" cy="475308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587840" y="1844640"/>
            <a:ext cx="4479840" cy="475308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sistema linfát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140000" y="1828440"/>
            <a:ext cx="454644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stema de conductos que transportan linf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er el plasma sanguíneo extravasado y devolverlo a la sang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ar grasas absorbidas en el intestino por los vasos quilífe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urar linfocitos en los ganglios linfát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3556080" cy="487836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sistema linfát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40000" y="1828440"/>
            <a:ext cx="454644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rm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ilares linfáticos, muy finos y de extremo ci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asos linfáticos con válvulas semiluna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asos quilíferos que proceden del intestino delgado y desembocan en la cisterna de Pecqu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anglios linfáticos donde se unen los vasos linfáticos. Actúan como filtros, al tener una estructura interna de tejido conectivo en forma de red, relleno de linfocitos que recogen y destruyen bacterias y vir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3556080" cy="487836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sistema linfático: estruc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140000" y="1828440"/>
            <a:ext cx="454644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vasos quilíferos absorben grasas y las conducen a la </a:t>
            </a:r>
            <a:r>
              <a:rPr b="0" lang="es-ES" sz="2000" spc="-1" strike="noStrike" u="sng">
                <a:solidFill>
                  <a:srgbClr val="cc0000"/>
                </a:solidFill>
                <a:uFillTx/>
                <a:latin typeface="Arial"/>
              </a:rPr>
              <a:t>cisterna de Pecquet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" sz="2000" spc="-1" strike="noStrike" u="sng">
                <a:solidFill>
                  <a:srgbClr val="cc0000"/>
                </a:solidFill>
                <a:uFillTx/>
                <a:latin typeface="Arial"/>
              </a:rPr>
              <a:t>conducto torácic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lleva la linfa desde la cisterna de Pecquet hasta la </a:t>
            </a: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vena subclavia izquier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También recoge linfa de las extremidades inferiores, abdomen, brazo izquierdo y lado izquierdo del tórax y cabe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ES" sz="2000" spc="-1" strike="noStrike" u="sng">
                <a:solidFill>
                  <a:srgbClr val="cc0000"/>
                </a:solidFill>
                <a:uFillTx/>
                <a:latin typeface="Arial"/>
              </a:rPr>
              <a:t>gran vena linfátic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recoge linfa del brazo derecho y lado derecho de cabeza y tórax. Desemboca en la </a:t>
            </a: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vena subclavia  derech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3556080" cy="487836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821844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tomía del sistema cardiovascul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346716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az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fología y 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si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sos sanguíne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e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ión ar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564000" y="1868400"/>
            <a:ext cx="5400720" cy="480708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sistema linfát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87280" y="1758960"/>
            <a:ext cx="6840720" cy="509904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96000" y="980640"/>
            <a:ext cx="2819520" cy="30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sistema linfát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3520" y="0"/>
            <a:ext cx="527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821844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circulación sanguín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389916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erra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La sangre no sale de los vas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Do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La sangre pasa dos veces por el corazón. Hay dos circui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omple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La sangre oxigenada y la desoxigenada no se mezcl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parte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rech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l corazón sólo bombea </a:t>
            </a: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sangre desoxigenad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zquierd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ombea sólo </a:t>
            </a: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sangre oxigenad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00720" y="1989000"/>
            <a:ext cx="4471920" cy="464040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821844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circulación sanguín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389916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irculación men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Entre el corazón y los pulmon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sangre desoxigenad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ale del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ventrículo derech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va a los pulmones por las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rterias pulmonar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se oxigena y regresa por las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venas pulmonar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asta el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ventrículo izquier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irculación may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Entre el corazón y los demás órganos y tejid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sangre oxigenad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ale del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ventrículo izquierd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or la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rteria aort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lleva a los órganos oxígeno y nutrientes, y vuelve al corazón por las venas, que confluyen en las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venas cava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hasta la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urícula derech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524560" y="1844640"/>
            <a:ext cx="27795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corazón: Morfología y estructu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Órgano muscular hue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mente presenta dos </a:t>
            </a:r>
            <a:r>
              <a:rPr b="1" lang="en-US" sz="2800" spc="-1" strike="noStrike">
                <a:solidFill>
                  <a:srgbClr val="3366cc"/>
                </a:solidFill>
                <a:latin typeface="Arial"/>
              </a:rPr>
              <a:t>surc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ransvers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longitud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 ellos pasan las </a:t>
            </a:r>
            <a:r>
              <a:rPr b="1" lang="en-US" sz="2800" spc="-1" strike="noStrike">
                <a:solidFill>
                  <a:srgbClr val="3366cc"/>
                </a:solidFill>
                <a:latin typeface="Arial"/>
              </a:rPr>
              <a:t>ven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800" spc="-1" strike="noStrike">
                <a:solidFill>
                  <a:srgbClr val="3366cc"/>
                </a:solidFill>
                <a:latin typeface="Arial"/>
              </a:rPr>
              <a:t> arterias coronari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que irrigan al coraz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3894120" cy="475308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corazón: Morfología y estructu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43280" y="3068640"/>
            <a:ext cx="4327560" cy="346248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79280" y="2060640"/>
            <a:ext cx="4202280" cy="336240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corazón: Morfología y estructu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3210120" cy="482436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788000" y="1773360"/>
            <a:ext cx="3754440" cy="482436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879480" y="1793880"/>
            <a:ext cx="311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azón de corder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ta exte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37320" y="1793880"/>
            <a:ext cx="334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azón de cordero. Vista inter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l ventrículo izquier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corazón: Morfología y estructu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76720" y="1828800"/>
            <a:ext cx="36100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mente presenta cuatro cavidad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s 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aurícul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e paredes fi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s 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ventrícul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e paredes grue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ventrículo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zquier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ene paredes más gruesas que el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erech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4932360" cy="388944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6:26:51Z</dcterms:created>
  <dc:creator>Dani</dc:creator>
  <dc:description/>
  <dc:language>en-US</dc:language>
  <cp:lastModifiedBy>Daniel</cp:lastModifiedBy>
  <dcterms:modified xsi:type="dcterms:W3CDTF">2010-02-08T18:53:15Z</dcterms:modified>
  <cp:revision>32</cp:revision>
  <dc:subject/>
  <dc:title>Tema 5: Anatomía y fisiología del aparato circulatorio</dc:title>
</cp:coreProperties>
</file>