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1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9.jpeg" ContentType="image/jpeg"/>
  <Override PartName="/ppt/media/image31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21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F8F3-2397-44C5-9059-5FEFE133A9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estima que la longitud total de todos los capilares del cuerpo humano es de unos 100.000 kilómetr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FF0-6216-46E8-BDE6-600DCB3F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971-2E11-4E50-8C64-4C4B0668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229A-93F6-48E1-A1F0-906BB5C7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51B8-2FC2-4FA8-BC29-F375DD17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8CC2-9AD5-4745-921D-BDA5800D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AC1A-2E2E-4CC4-AC41-6919EE43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1627-8B5D-43AF-BA26-36592187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C480-167A-4536-AAB5-4DF48F2E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25A4-53B3-4C2D-8082-7F69F84B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525B-2BF1-403E-81E7-2559D546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7B84-AC8C-4F83-AAC0-38DEE794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694-D3E8-4BE0-9289-3D491056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500A-4FCC-4D0D-B3CA-EE4D2FAA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7847-B807-42FD-9CCB-B90E53A5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B094-2322-4E27-9DE3-5E163FAD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CA41-DF16-45EE-A960-0C649FEA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E214-9153-451F-8F0F-A36BFF3B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BF3-08D7-4434-ACB8-473EDEDF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486-DB25-458C-A6F4-1F8988AD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62A-4B20-4FB5-B6F9-887729FA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AAD-BBC3-4877-BCCB-690FCB39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B05-04EE-4530-93B4-D8BF3076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6755-BC79-42FD-B1B5-265CC4D0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4D1-93AC-435C-A802-DA9FAF5D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6E7B-E7D0-4985-93AD-4086C8E671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AE70-2BDB-497A-B1F4-7ED50D35C1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352px-grafik_blutkreislauf.jpg"/>
          <p:cNvPicPr/>
          <p:nvPr/>
        </p:nvPicPr>
        <p:blipFill>
          <a:blip r:embed="rId1"/>
          <a:stretch/>
        </p:blipFill>
        <p:spPr>
          <a:xfrm>
            <a:off x="5796000" y="1052640"/>
            <a:ext cx="2914560" cy="49687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504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Tema 5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Unicode MS"/>
              </a:rPr>
              <a:t>Anatomía y fisiología del aparato circulator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76720" y="1828800"/>
            <a:ext cx="36100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aurícula derech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legan las cuatr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venas pulmona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aurícula izquier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legan las do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venas cav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ventrículo derec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le l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rteria pulmon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ventrículo izquier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le l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rteria aor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932360" cy="38894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720" y="1828800"/>
            <a:ext cx="36100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 la aurícula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derec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el ventrículo derecho está la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válvula tricúsp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 la aurícula 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izquier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el ventrículo izquierdo está la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válvula mit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icúsp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No hay conex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tre el lado izquierdo y el derecho del coraz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 los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ventrícul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arteri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án la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válvulas sigmoide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milun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932360" cy="38894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4105440" cy="32846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427640" y="2066760"/>
            <a:ext cx="4537080" cy="45370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razón: Hist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Pericarpi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doble capa serosa, envuelve externamente el coraz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Endocardi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Endotelio simple, tapiza el corazón por den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cc"/>
                </a:solidFill>
                <a:latin typeface="Arial"/>
              </a:rPr>
              <a:t>Miocardi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Formado por tejido muscular cardíaco. Autoexcitable; no tiene estimulación por el sistema nervi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0" y="2421000"/>
            <a:ext cx="4321080" cy="34304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razón: Hist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6560" y="2508120"/>
            <a:ext cx="4246560" cy="38214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92720" y="2492280"/>
            <a:ext cx="3500280" cy="38880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razón: Fisi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2920" y="1988640"/>
            <a:ext cx="403884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ísto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ntracción del músculo cardí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ásto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lajación del músculo cardí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recuencia cardía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úmero de latidos por minuto. Depende de la edad, el sexo, el estado físic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reposo: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60-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r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rcicio físico: 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150-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razón: Ciclo cardía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358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Diástole gener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a sangre desoxigenada entra en la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aurícula derech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La sangre oxigenada entra en la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aurícula izquier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Las </a:t>
            </a: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válvulas auriculo-ventricula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ab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Sístole auric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a sangre pasa de las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aurícul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 los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ventrícul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Sístole ventric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Los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ventrícul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contraen. Las </a:t>
            </a: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válvulas aurículo-ventricular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cierran. La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válvulas sigmoide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abren y la sangre pasa a las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arteri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79640" y="4076640"/>
            <a:ext cx="5689440" cy="24433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idos cardía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ada ciclo cardíaco se perciben dos ruidos, separados por un 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peque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 un 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gran silenc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ruidos corresponden a los sonidos “lubb-dupp” considerados como los latidos del coraz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rimer rui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orresponde al inicio de la sístole ventricular.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Las válvulas tricúspide y mitral se cierr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gundo rui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e produce al inicio de la diástole ventricular. </a:t>
            </a:r>
            <a:r>
              <a:rPr b="0" lang="en-US" sz="2000" spc="-1" strike="noStrike">
                <a:solidFill>
                  <a:srgbClr val="3366cc"/>
                </a:solidFill>
                <a:latin typeface="Arial"/>
              </a:rPr>
              <a:t>Se cierran las válvulas aórtica y pulmon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Pul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da de presión producida por la sangre al salir del corazón, que se transmite a lo largo de los vasos sanguíneos. Se percibe en las arterias más superficiales, en la muñeca o en el cu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ulación de la actividad cardía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corazón es autoexcitable gracias al </a:t>
            </a: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tejido nod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formado por células musculares modificadas y capaces de generar impul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Nódulo sinoatr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SA): Inicia cada ciclo cardia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Nódulo auriculoventric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AV): Capta la estimulación del SA y la transmite al sigu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Fascículo de Hi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distribuye la señal a los ventrículos. Se ramifica formando la </a:t>
            </a: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red de Purkinj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00720" y="1832040"/>
            <a:ext cx="4103640" cy="41036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692360" y="6062760"/>
            <a:ext cx="5651280" cy="7952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ritmo cardíaco puede ser alterado por el 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sistema nervios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por el 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sistema endocrin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2800" spc="-1" strike="noStrike">
                <a:solidFill>
                  <a:srgbClr val="660033"/>
                </a:solidFill>
                <a:latin typeface="Arial"/>
              </a:rPr>
              <a:t>fibras simpá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celeran el ritmo cardiaco (efecto estimulad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ES" sz="2800" spc="-1" strike="noStrike">
                <a:solidFill>
                  <a:srgbClr val="660033"/>
                </a:solidFill>
                <a:latin typeface="Arial"/>
              </a:rPr>
              <a:t>fibras parasimpá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lo hacen más lento (efecto inhibid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adrenal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y la 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noradrenal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sintetizadas en las cápsulas suprarrenales) y la 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tirox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sintetizada en la tiroides) aumentan el ritmo cardia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ulación de la actividad cardía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El aparato circula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 encarga del transporte de sustancias por todo el organis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rmado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n-US" sz="2800" spc="-1" strike="noStrike">
                <a:solidFill>
                  <a:srgbClr val="3366cc"/>
                </a:solidFill>
                <a:latin typeface="Arial Unicode MS"/>
              </a:rPr>
              <a:t>sistema cardiovascular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, por el que circula la </a:t>
            </a:r>
            <a:r>
              <a:rPr b="0" lang="en-US" sz="2800" spc="-1" strike="noStrike">
                <a:solidFill>
                  <a:srgbClr val="cc0000"/>
                </a:solidFill>
                <a:latin typeface="Arial Unicode MS"/>
              </a:rPr>
              <a:t>sang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n-US" sz="2800" spc="-1" strike="noStrike">
                <a:solidFill>
                  <a:srgbClr val="3366cc"/>
                </a:solidFill>
                <a:latin typeface="Arial Unicode MS"/>
              </a:rPr>
              <a:t>sistema linfático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, por el que circula la </a:t>
            </a:r>
            <a:r>
              <a:rPr b="0" lang="en-US" sz="2800" spc="-1" strike="noStrike">
                <a:solidFill>
                  <a:srgbClr val="cc0000"/>
                </a:solidFill>
                <a:latin typeface="Arial Unicode MS"/>
              </a:rPr>
              <a:t>lin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cardi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898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istra la actividad eléctrica del coraz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utiliza para medir el ritmo y la regularidad de los latidos, el tamaño y posición de las aurículas y ventrículos, cualquier daño al corazón y los efectos que sobre él tienen las drog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n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: despolarización auri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RS: despolarización ventricular, su duración normal es de 0.06 a 0.1 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: de repolarización ventric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248000" cy="42084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vasos sanguíne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290000" cy="48132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vasos sanguíneos: Las arter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van la sangre desde el corazón a los tej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lo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única adventi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xterna, de tejido conjun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única me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 fibra muscular li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única inter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 endotel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076640" cy="44496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vasos sanguíneos: Las ve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uelven la sangre desde los tejidos hasta el coraz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lo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única adventi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ás gruesa que en arte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única med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ás delgada que en las arte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única inte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ne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válvul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evitan el retroceso de la sang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136760" cy="45640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s vasos sanguíneos: Los capila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y finos: entre 8 y 12 mic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sola capa te tejido epitelial (endoteli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función principal es el intercambio de sustancias entre la luz de los capilares y el líquido intersticial de los tej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longitud total es de unos 100.000 kilómetr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4176720" cy="27590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4176720" cy="20890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ón sanguí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la presión que ejerce la sangre sobre las paredes de las arte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mide con el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sfigmomanómet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esión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áx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incide con la sístole ventr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ín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incide con la diást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427640" y="1989000"/>
            <a:ext cx="4464000" cy="22924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427640" y="4437000"/>
            <a:ext cx="4465440" cy="21384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ales arterias y v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0080" y="1844640"/>
            <a:ext cx="4437000" cy="47530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87840" y="1844640"/>
            <a:ext cx="4479840" cy="47530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istema linf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40000" y="1828440"/>
            <a:ext cx="454644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 de conductos que transportan linf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er el plasma sanguíneo extravasado y devolverlo a la sang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r grasas absorbidas en el intestino por los vasos quilíf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urar linfocitos en los ganglios linfá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556080" cy="4878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istema linf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40000" y="1828440"/>
            <a:ext cx="454644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ilares linfáticos, muy finos y de extremo ci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asos linfáticos con válvulas semiluna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asos quilíferos que proceden del intestino delgado y desembocan en la cisterna de Pecqu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nglios linfáticos donde se unen los vasos linfáticos. Actúan como filtros, al tener una estructura interna de tejido conectivo en forma de red, relleno de linfocitos que recogen y destruyen bacterias y vir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556080" cy="4878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istema linfático: 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40000" y="1828440"/>
            <a:ext cx="454644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vasos quilíferos absorben grasas y las conducen a la </a:t>
            </a:r>
            <a:r>
              <a:rPr b="0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cisterna de Pecque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conducto torácic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leva la linfa desde la cisterna de Pecquet hasta la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vena subclavia izquier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También recoge linfa de las extremidades inferiores, abdomen, brazo izquierdo y lado izquierdo del tórax y cab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gran vena linfát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ecoge linfa del brazo derecho y lado derecho de cabeza y tórax. Desemboca en la 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vena subclavia  derech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556080" cy="4878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21844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tomía del sistema cardiovascul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34671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az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fología y 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si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os sanguín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ón ar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564000" y="1868400"/>
            <a:ext cx="5400720" cy="48070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istema linf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58960"/>
            <a:ext cx="6840720" cy="50990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96000" y="980640"/>
            <a:ext cx="281952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istema linf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352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21844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irculación sangu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991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erra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a sangre no sale de los va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o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a sangre pasa dos veces por el corazón. Hay dos circui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mple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a sangre oxigenada y la desoxigenada no se mezcl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arte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rec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l corazón sólo bombea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sangre desoxigen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zquier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mbea sólo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sangre oxigen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4471920" cy="46404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21844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irculación sanguín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991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irculación men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ntre el corazón y los pulm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sangre desoxigenad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ale del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ventrículo derech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va a los pulmones por las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rterias pulmona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se oxigena y regresa por las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venas pulmona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asta el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ventrículo izquier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irculación may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ntre el corazón y los demás órganos y teji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sangre oxigenad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ale del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ventrículo izquier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or la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rteria aor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lleva a los órganos oxígeno y nutrientes, y vuelve al corazón por las venas, que confluyen en las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venas cav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hasta la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urícula derech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24560" y="1844640"/>
            <a:ext cx="2779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Órgano muscular hue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mente presenta dos 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surc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ransvers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longitud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ellos pasan las 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ven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 arterias coronar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que irrigan al coraz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894120" cy="47530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3280" y="3068640"/>
            <a:ext cx="4327560" cy="34624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4202280" cy="33624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210120" cy="4824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754440" cy="4824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879480" y="1793880"/>
            <a:ext cx="31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azón de corde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ta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37320" y="1793880"/>
            <a:ext cx="33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azón de cordero. Vista inter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 ventrículo izquier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orazón: Morfología y 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6720" y="1828800"/>
            <a:ext cx="36100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mente presenta cuatro cavidad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aurícul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 paredes fi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ventrícul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 paredes gru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ventrículo</a:t>
            </a:r>
            <a:r>
              <a:rPr b="0" lang="en-US" sz="2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zquier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ene paredes más gruesas que el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rec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932360" cy="38894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6:26:51Z</dcterms:created>
  <dc:creator>Dani</dc:creator>
  <dc:description/>
  <dc:language>en-US</dc:language>
  <cp:lastModifiedBy>Daniel</cp:lastModifiedBy>
  <dcterms:modified xsi:type="dcterms:W3CDTF">2010-02-08T18:53:15Z</dcterms:modified>
  <cp:revision>32</cp:revision>
  <dc:subject/>
  <dc:title>Tema 5: Anatomía y fisiología del aparato circulatorio</dc:title>
</cp:coreProperties>
</file>