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E73-0D01-4BCC-8C47-BCDB7DCA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FB3-01F1-4093-9529-C0A0C754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165-8F6E-491A-B14D-39AA9544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CE2-91CB-430A-ADAB-BD22B489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1BC-5D0A-41E2-A25B-20C0BBD0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5562-2C8D-4716-9771-11FE03C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93B2-BE27-4479-BF90-0596088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9208-B266-49F4-A5AF-69D4837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1E49-ABA7-4908-A16B-C94AA7E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C8FB-011D-4BEA-8975-E127CEF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A54-064E-4E58-BCB8-FCE7B3FF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DD0-A62F-4B0F-925F-3521CB04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9366-2EA3-4FC6-95EA-4B1D22B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FEC1-5000-4A40-9847-9CD62FD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9A1E-21DE-496E-A4E9-2E6DED2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0B78-2BA5-463F-ADC0-6406E631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9551-4133-4AA0-BB13-74EDE3D8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670-5901-4F3D-97E6-249EF5F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1D5-232B-4216-B172-5EBF545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76F-6FCD-4CEC-A571-EFCFA40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D7F-7F4F-40EA-8E9F-DAF61764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E4B-C036-4D9C-B548-1AF43ED6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159-4B66-4017-96C2-A403FBC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B3F-E6C3-4655-B3D3-642AC57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3CEC-8AD6-42BD-8B3A-3246759255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870B-3711-470E-B4E8-553C43A423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Tema 6: 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tomía y fisiologí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arato Excre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203640" cy="263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70680" y="260280"/>
            <a:ext cx="30733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519200"/>
            <a:ext cx="6697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267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ucto que lleva la orina hasta el exterior del cuerpo durante la mi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 el hombre es más larga y tiene también función reproduct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ene dos esfínteres que la mantienen cerrada hasta el momento de orina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Uretr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41720" y="692280"/>
            <a:ext cx="6002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idad funcional del riñón. Formada p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púsculo de Malpigh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conjunto formado por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glomérulo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capilares arteriales procedentes de una arteriola aferente) y la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de Bowman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Bolsa que rodea al glomérul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proxim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Asa de Hen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que desemboca en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ubo colect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La orina pasa a los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413000"/>
            <a:ext cx="40971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6699"/>
                </a:solidFill>
                <a:latin typeface="Garamond"/>
              </a:rPr>
              <a:t>La nefrona: Glomérulo y cápsula de Bowmann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5040" y="2043000"/>
            <a:ext cx="4224240" cy="418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76720" y="1711440"/>
            <a:ext cx="2880000" cy="21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3124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Fisiología de 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Filtración glomer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bsorción tub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creción tub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348000" y="1379520"/>
            <a:ext cx="55450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Filtración Glomerul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so de </a:t>
            </a:r>
            <a:r>
              <a:rPr b="0" lang="es-ES" sz="2400" spc="-1" strike="noStrike">
                <a:solidFill>
                  <a:srgbClr val="cc0000"/>
                </a:solidFill>
                <a:latin typeface="Verdana"/>
              </a:rPr>
              <a:t>plasma sanguíne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in células ni proteínas) desde el glomérulo a la cápsula de Bowman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ducido por la presión de la sangre en el capilar del gloméru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filtrado contie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ua 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rea (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tasio, sodio, cloro, iones de fosfato y sulfato, ácido úrico y creatinina (2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ariamente se filtran en los riñones 180 litros de pla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túbulo proxim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e reabsor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67% de sodi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mayor parte del agu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iones cloruro y potasio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glucosa y aminoác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sodio se reabsorbe por transporte activo; el agua, el cloruro y otros solutos son reabsorbidos por dif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erca del 75% del filtrado se reabsorbe antes de llegar al asa de Hen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resultado es un líquido tubular que es isosmótico respecto al plasma y líquidos intersticia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asa de Henl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se reabsorbe el 25 % del cloruro sódico y el 15 % del ag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contenido del tubo es hipoosmótico con respecto al plas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túbulo dist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se reabsorben cantidades variables de sodio y ag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sodio se reabsorbe por transporte activo. El agua le sigue por ósmo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 reabsorbe el 99 % del líquido filtr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I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da por 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hormona antidiuirética (ADH)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producida por la neurohipófi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Verdana"/>
              </a:rPr>
              <a:t>En ausencia de AD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elimina orina muy diluída porque las paredes del asa de Henle se vuelven impermeab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Verdana"/>
              </a:rPr>
              <a:t>En presencia de AD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elimina orina concentr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ldostero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roducida en las glandulas suprarrenales) incrementa la reabsorción de sodio en el túbulo colector y provoca retención de agua, produciendo orina concentr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re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roducida por las células yuxtaglomerulares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timula la liberación de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ngiotensina I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se transforma en 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ngiotensina I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Ésta actúa como vasoconstrictor en la arteriola eferente cuando el efecto es muy intenso y entonces baja el flujo sanguíneo y aumenta la filtración glomerular. Aumenta la sensación de 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V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569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a excreció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 el proceso biológico por el que un ser vivo elimina de su organismo las sustancias tóxicas, adquiridas por la alimentación o producidas por su metabolism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órgan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 participan en la excreción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Pulm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Expulsan al aire el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óxido de carbo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ido en la respiración cel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Híga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Expulsa al intestin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mados en las transformaciones químicas de los nutrientes, estos desechos se eliminan mediante las he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Glándulas sudorípar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Junto con el agua filtra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 eliminan el agua, aunque es una respuesta a la temperatu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Hacen un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ltración selectiv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los compuestos tóxicos de la sangre. Regulan la cantidad d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l organism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la </a:t>
            </a:r>
            <a:r>
              <a:rPr b="0" lang="es-ES" sz="1800" spc="-1" strike="noStrike">
                <a:solidFill>
                  <a:srgbClr val="990099"/>
                </a:solidFill>
                <a:latin typeface="Verdana"/>
              </a:rPr>
              <a:t>macula dens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ercibe concentraciones de sodio altas, actua inhibiendo la secreción de renina por parte de las células yuxtaglomerulas de la arteriola aferente del glomérulo ren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 el contrario, cuando la concentración de sodio se encuentra disminuida, la mácula densa se activa, permitiendose la secreción de renina y con ella la activación del sistema renina angiotensina aldosterona, y la consecuente antinatriuresis (aumento en la retención de sodio) y, aumento de la presión arteri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Archivo:Renal corpuscle.svg"/>
          <p:cNvPicPr/>
          <p:nvPr/>
        </p:nvPicPr>
        <p:blipFill>
          <a:blip r:embed="rId1"/>
          <a:stretch/>
        </p:blipFill>
        <p:spPr>
          <a:xfrm>
            <a:off x="4140360" y="1773360"/>
            <a:ext cx="46432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ecreción tubul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os desechos y sustancias en exceso que no fueron filtrados inicialmente hacia la Cápsula de Bowman son eliminadas de la sangre para su excreción. Estos desechos son excretados activamente dentro del 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ones de Potas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ones de Hidróg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monia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rogas (sustancias tanto dañinas como medicin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Ori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5928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mposición de la orina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to final nitrogenado del catabolismo de las proteí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reati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derivado de la creatina , reservorio energético musc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Ácido ú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: derivado del catabolismo de las bases nitrogen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loruro de so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Sulfatos y fosf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Otros pigmentos y electroli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mo Na+,Ca+, K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828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Glándulas sudoríparas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97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on glándulas tubulares enrolladas, situadas en la dermis, con un tubo excretor que desemboca en la superficie de la pi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os tip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lándulas ecrinas: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 formadas por un glomérulo secretor y un conducto excretor que desembocan directamente a la superficie de la piel. Existen unas 600 glándulas por centímetro cuadrado de piel, con mayor concentración en palmas de las manos, plantas de los pies y región frontal de la cara. Segregan 1 litro al día en condiciones basales y hasta 10 l en condiciones extrem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lándulas apocrinas: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 Están formadas por un gran lóbulo secretor y un conducto excretor dérmico que desemboca en el folículo pilosebáceo. Son poco numerosas y se localizan en axila, periné, pubis  y conducto auditivo externo. Estas glándulas son las encargadas de la secreción de las feromonas, sustancias responsables del olor característico de zonas como las axilas y los órganos sexual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30920" y="1557360"/>
            <a:ext cx="31021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El sud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Funcion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excretora: Elimina urea y ácido úrico, y otras sustancias como el tabaco y el alcoh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termorreguladora: el elevado calor de vaporización del agua permite refrigerar la pi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Composición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9,00% de a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60% de sales minerales (NaC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40% de sustancias orgánicas (urea, creatinina y ácido úri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feliz_sudor"/>
          <p:cNvPicPr/>
          <p:nvPr/>
        </p:nvPicPr>
        <p:blipFill>
          <a:blip r:embed="rId1"/>
          <a:stretch/>
        </p:blipFill>
        <p:spPr>
          <a:xfrm>
            <a:off x="1042920" y="4437000"/>
            <a:ext cx="2857680" cy="221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ergie-sweat-0804.jpg"/>
          <p:cNvPicPr/>
          <p:nvPr/>
        </p:nvPicPr>
        <p:blipFill>
          <a:blip r:embed="rId2"/>
          <a:stretch/>
        </p:blipFill>
        <p:spPr>
          <a:xfrm>
            <a:off x="5148360" y="0"/>
            <a:ext cx="27334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oductos de desecho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Se produce en el hígado por degradación de los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aminoácido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y se elimina con la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es el producto de desecho principal de compuestos nitrogenad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Ácido úrico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un producto de desecho del metabolismo de nitrógeno (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purina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) y se encuentra en la 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 en pequeñas ca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Dióxido de carbon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Formado en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se excreta por los  pulm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produce en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y se excreta mediante los riñones, el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sud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la respiración pulmo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Pigmentos biliar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forman por degradación de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hemoglob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n el hígado, y se expulsan con las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hec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Homeostasi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mecanismos por los que los seres vivos tienden a alcanzar una estabilidad en las propiedades y la composición bioquímica de su medio inter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tectan pequeñas variaciones y desencadenan procesos para corregir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Mantenimiento de la presión osmó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 través de los riñ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Temperatura corpor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Mediante el sudor y la circulación sanguí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Ph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 través de sistemas tamp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oordinación quím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muchas sustancias mediante las hormonas (como la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glucos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regulada por las hormonas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insul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glucag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natomía del aparato excret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Órganos excret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). Filtran la sangre que les llega a través de las arterias renales; la sangre libre de desechos sale por las venas ren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ías excretor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Uréte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Vejiga urinar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Uret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47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na membrana de tejido conjun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teza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1 cm de grosor, aspecto granulo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Médul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specto estriado radial. Dividida en sectores (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pirámid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por las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columna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Pelvis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orma de copa, recoge la orina procedente de los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133200"/>
            <a:ext cx="3240360" cy="250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4168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Funciones de los 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4030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creción de productos metabólicos de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desech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r el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quilibrio híd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electrol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r el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quilibrio ácido-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etizar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ritropoyet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EPO), hormona que estimula la producción de eritroci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ción de la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presión arteri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iendo renina, que la aumenta, o regulando el agu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Gluconeogénes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síntesis de glucosa a partir de aminoác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Urétere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ten de la pelvis renal y llevan la orina hasta la veji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metro 3 m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orina desciende por grav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lsa dilatable en la excavación de la pelv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ena tiene forma esférica y puede retener de 2 a 3 litros de or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vacía por contracción de la capa muscul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815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12:12Z</dcterms:created>
  <dc:creator>Dani</dc:creator>
  <dc:description/>
  <dc:language>en-US</dc:language>
  <cp:lastModifiedBy>Dani</cp:lastModifiedBy>
  <dcterms:modified xsi:type="dcterms:W3CDTF">2010-01-14T19:14:56Z</dcterms:modified>
  <cp:revision>18</cp:revision>
  <dc:subject/>
  <dc:title>Diapositiva 1</dc:title>
</cp:coreProperties>
</file>