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5DDD-F865-44FE-9509-E36C96DB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FD12-FC1C-42A0-9D38-41EABA84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57A6-4B1C-41C9-A07F-09E3848C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B65-F6AC-4888-8E7F-D1671329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BD41-3343-472C-B68B-4F6B4215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2755-4907-4950-86E9-8926159D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575C-8C4E-4564-94B9-B208F018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8488-DC78-437C-B3E8-72D2E109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C5F6-1EC3-4C06-B2E3-561A45A0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7AF9-EF6D-423E-8007-C6333530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041B-FDBB-4ED2-9E43-AAF40059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0472-942C-437E-8987-57C9EAFA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2D03-77A7-4081-8907-C7012494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801B-F0E1-4FC2-A3CC-92F2E1C0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E221-5825-4078-A264-71C10B26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7BA2-62E9-46D4-A882-011A4EBE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365E-735C-461F-82A0-BC8F940C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486C-C8AE-4F80-BF4F-A921C752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9F1-FE33-4236-A4B2-28EF2845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710-CA68-4254-8DAA-008519F6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A00-068D-438E-9CFD-06B40720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FCA-781D-4644-A531-A6BB8629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58F9-A773-4FD4-9F7B-04002F62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4069-3B9C-482C-B5DB-39488259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F07C-358C-4E92-98C2-8D75E64C759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BAA4-4DC2-4561-985F-23BB893C8B7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Tema 6: 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atomía y fisiologí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arato Excre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3203640" cy="2635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70680" y="260280"/>
            <a:ext cx="30733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Garamond"/>
              </a:rPr>
              <a:t>Vías excretoras:</a:t>
            </a:r>
            <a:br>
              <a:rPr sz="4000"/>
            </a:br>
            <a:r>
              <a:rPr b="1" lang="en-US" sz="4000" spc="-1" strike="noStrike">
                <a:solidFill>
                  <a:srgbClr val="666699"/>
                </a:solidFill>
                <a:latin typeface="Garamond"/>
              </a:rPr>
              <a:t>Vejiga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1519200"/>
            <a:ext cx="669780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267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ducto que lleva la orina hasta el exterior del cuerpo durante la mi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 el hombre es más larga y tiene también función reproducto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ene dos esfínteres que la mantienen cerrada hasta el momento de orina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Garamond"/>
              </a:rPr>
              <a:t>Vías excretoras:</a:t>
            </a:r>
            <a:br>
              <a:rPr sz="4000"/>
            </a:br>
            <a:r>
              <a:rPr b="1" lang="en-US" sz="4000" spc="-1" strike="noStrike">
                <a:solidFill>
                  <a:srgbClr val="666699"/>
                </a:solidFill>
                <a:latin typeface="Garamond"/>
              </a:rPr>
              <a:t>Uretra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141720" y="692280"/>
            <a:ext cx="60022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6699"/>
                </a:solidFill>
                <a:latin typeface="Garamond"/>
              </a:rPr>
              <a:t>La nefron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idad funcional del riñón. Formada p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Corpúsculo de Malpigh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conjunto formado por el </a:t>
            </a: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glomérulo ren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(capilares arteriales procedentes de una arteriola aferente) y la </a:t>
            </a: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Cápsula de Bowman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(Bolsa que rodea al glomérul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Túbulo contorneado proxim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Asa de Hen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Túbulo contorneado dist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que desemboca en el </a:t>
            </a: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tubo colecto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La orina pasa a los </a:t>
            </a: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cálices renal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1413000"/>
            <a:ext cx="40971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6699"/>
                </a:solidFill>
                <a:latin typeface="Garamond"/>
              </a:rPr>
              <a:t>La nefrona: Glomérulo y cápsula de Bowmann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35040" y="2043000"/>
            <a:ext cx="4224240" cy="4183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76720" y="1711440"/>
            <a:ext cx="2880000" cy="2195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076720" y="4076640"/>
            <a:ext cx="31244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6699"/>
                </a:solidFill>
                <a:latin typeface="Garamond"/>
              </a:rPr>
              <a:t>Fisiología de la nefron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8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99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Filtración glomer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990099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absorción tub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990099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creción tub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348000" y="1379520"/>
            <a:ext cx="55450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6699"/>
                </a:solidFill>
                <a:latin typeface="Garamond"/>
              </a:rPr>
              <a:t>Filtración Glomerula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aso de </a:t>
            </a:r>
            <a:r>
              <a:rPr b="0" lang="es-ES" sz="2400" spc="-1" strike="noStrike">
                <a:solidFill>
                  <a:srgbClr val="cc0000"/>
                </a:solidFill>
                <a:latin typeface="Verdana"/>
              </a:rPr>
              <a:t>plasma sanguíne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(sin células ni proteínas) desde el glomérulo a la cápsula de Bowman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ducido por la presión de la sangre en el capilar del glomérul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filtrado contie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gua (95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rea (3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tasio, sodio, cloro, iones de fosfato y sulfato, ácido úrico y creatinina (2%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ariamente se filtran en los riñones 180 litros de plas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Reabsorción tubular (I)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el </a:t>
            </a:r>
            <a:r>
              <a:rPr b="1" lang="es-ES" sz="2400" spc="-1" strike="noStrike">
                <a:solidFill>
                  <a:srgbClr val="990099"/>
                </a:solidFill>
                <a:latin typeface="Verdana"/>
              </a:rPr>
              <a:t>túbulo proximal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se reabsorb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67% de sodio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mayor parte del agua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iones cloruro y potasio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glucosa y aminoácid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sodio se reabsorbe por transporte activo; el agua, el cloruro y otros solutos son reabsorbidos por difusió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erca del 75% del filtrado se reabsorbe antes de llegar al asa de Henl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resultado es un líquido tubular que es isosmótico respecto al plasma y líquidos intersticial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Reabsorción tubular (II)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n el </a:t>
            </a:r>
            <a:r>
              <a:rPr b="1" lang="es-ES" sz="2800" spc="-1" strike="noStrike">
                <a:solidFill>
                  <a:srgbClr val="990099"/>
                </a:solidFill>
                <a:latin typeface="Verdana"/>
              </a:rPr>
              <a:t>asa de Henle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se reabsorbe el 25 % del cloruro sódico y el 15 % del ag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 contenido del tubo es hipoosmótico con respecto al plas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n el </a:t>
            </a:r>
            <a:r>
              <a:rPr b="1" lang="es-ES" sz="2800" spc="-1" strike="noStrike">
                <a:solidFill>
                  <a:srgbClr val="990099"/>
                </a:solidFill>
                <a:latin typeface="Verdana"/>
              </a:rPr>
              <a:t>túbulo distal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se reabsorben cantidades variables de sodio y ag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 sodio se reabsorbe por transporte activo. El agua le sigue por ósmo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e reabsorbe el 99 % del líquido filtr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Reabsorción tubular (III)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gulada por la </a:t>
            </a: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hormona antidiuirética (ADH)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producida por la neurohipófis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699"/>
                </a:solidFill>
                <a:latin typeface="Verdana"/>
              </a:rPr>
              <a:t>En ausencia de ADH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se elimina orina muy diluída porque las paredes del asa de Henle se vuelven impermeab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699"/>
                </a:solidFill>
                <a:latin typeface="Verdana"/>
              </a:rPr>
              <a:t>En presencia de ADH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se elimina orina concentrad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aldosteron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(producida en las glandulas suprarrenales) incrementa la reabsorción de sodio en el túbulo colector y provoca retención de agua, produciendo orina concentr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renin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(producida por las células yuxtaglomerulares)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estimula la liberación de </a:t>
            </a: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angiotensina I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e se transforma en </a:t>
            </a: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angiotensina I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Ésta actúa como vasoconstrictor en la arteriola eferente cuando el efecto es muy intenso y entonces baja el flujo sanguíneo y aumenta la filtración glomerular. Aumenta la sensación de 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Reabsorción tubular (IV)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600200"/>
            <a:ext cx="85694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La excreció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 el proceso biológico por el que un ser vivo elimina de su organismo las sustancias tóxicas, adquiridas por la alimentación o producidas por su metabolism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1" lang="en-US" sz="2000" spc="-1" strike="noStrike">
                <a:solidFill>
                  <a:srgbClr val="666699"/>
                </a:solidFill>
                <a:latin typeface="Verdana"/>
              </a:rPr>
              <a:t>órgan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que participan en la excreción s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Verdana"/>
              </a:rPr>
              <a:t>Pulmon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Expulsan al aire el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dióxido de carbon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roducido en la respiración celul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Verdana"/>
              </a:rPr>
              <a:t>Hígad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Expulsa al intestino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ductos tóx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rmados en las transformaciones químicas de los nutrientes, estos desechos se eliminan mediante las he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Verdana"/>
              </a:rPr>
              <a:t>Glándulas sudorípara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Junto con el agua filtran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ductos tóx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y eliminan el agua, aunque es una respuesta a la temperatu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Verdana"/>
              </a:rPr>
              <a:t>Riñon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Hacen una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ltración selectiv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 los compuestos tóxicos de la sangre. Regulan la cantidad de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al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l organism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10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la </a:t>
            </a:r>
            <a:r>
              <a:rPr b="0" lang="es-ES" sz="1800" spc="-1" strike="noStrike">
                <a:solidFill>
                  <a:srgbClr val="990099"/>
                </a:solidFill>
                <a:latin typeface="Verdana"/>
              </a:rPr>
              <a:t>macula densa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percibe concentraciones de sodio altas, actua inhibiendo la secreción de renina por parte de las células yuxtaglomerulas de la arteriola aferente del glomérulo renal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r el contrario, cuando la concentración de sodio se encuentra disminuida, la mácula densa se activa, permitiendose la secreción de renina y con ella la activación del sistema renina angiotensina aldosterona, y la consecuente antinatriuresis (aumento en la retención de sodio) y, aumento de la presión arterial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Archivo:Renal corpuscle.svg"/>
          <p:cNvPicPr/>
          <p:nvPr/>
        </p:nvPicPr>
        <p:blipFill>
          <a:blip r:embed="rId1"/>
          <a:stretch/>
        </p:blipFill>
        <p:spPr>
          <a:xfrm>
            <a:off x="4140360" y="1773360"/>
            <a:ext cx="464328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Secreción tubula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os desechos y sustancias en exceso que no fueron filtrados inicialmente hacia la Cápsula de Bowman son eliminadas de la sangre para su excreción. Estos desechos son excretados activamente dentro del </a:t>
            </a:r>
            <a:r>
              <a:rPr b="1" lang="es-ES" sz="2800" spc="-1" strike="noStrike">
                <a:solidFill>
                  <a:srgbClr val="990099"/>
                </a:solidFill>
                <a:latin typeface="Verdana"/>
              </a:rPr>
              <a:t>túbulo contorneado distal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ones de Potas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ones de Hidróge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monia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rogas (sustancias tanto dañinas como medicin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Orin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59280" y="1599840"/>
            <a:ext cx="562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Composición de la orina: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Agua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95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Urea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producto final nitrogenado del catabolismo de las proteín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Creatinin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derivado de la creatina , reservorio energético muscul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Ácido úric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 : derivado del catabolismo de las bases nitrogenad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Cloruro de so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Sulfatos y fosfa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Otros pigmentos y electrolito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como Na+,Ca+, K+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3828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Glándulas sudoríparas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4978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on glándulas tubulares enrolladas, situadas en la dermis, con un tubo excretor que desemboca en la superficie de la pie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Dos tipo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lándulas ecrinas: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 formadas por un glomérulo secretor y un conducto excretor que desembocan directamente a la superficie de la piel. Existen unas 600 glándulas por centímetro cuadrado de piel, con mayor concentración en palmas de las manos, plantas de los pies y región frontal de la cara. Segregan 1 litro al día en condiciones basales y hasta 10 l en condiciones extrema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lándulas apocrinas: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 Están formadas por un gran lóbulo secretor y un conducto excretor dérmico que desemboca en el folículo pilosebáceo. Son poco numerosas y se localizan en axila, periné, pubis  y conducto auditivo externo. Estas glándulas son las encargadas de la secreción de las feromonas, sustancias responsables del olor característico de zonas como las axilas y los órganos sexuale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830920" y="1557360"/>
            <a:ext cx="310212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El sudo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Funcion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unción excretora: Elimina urea y ácido úrico, y otras sustancias como el tabaco y el alcoho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unción termorreguladora: el elevado calor de vaporización del agua permite refrigerar la pi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990099"/>
                </a:solidFill>
                <a:latin typeface="Verdana"/>
              </a:rPr>
              <a:t>Composición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99,00% de agu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0,60% de sales minerales (NaC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0,40% de sustancias orgánicas (urea, creatinina y ácido úric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feliz_sudor"/>
          <p:cNvPicPr/>
          <p:nvPr/>
        </p:nvPicPr>
        <p:blipFill>
          <a:blip r:embed="rId1"/>
          <a:stretch/>
        </p:blipFill>
        <p:spPr>
          <a:xfrm>
            <a:off x="1042920" y="4437000"/>
            <a:ext cx="2857680" cy="2219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fergie-sweat-0804.jpg"/>
          <p:cNvPicPr/>
          <p:nvPr/>
        </p:nvPicPr>
        <p:blipFill>
          <a:blip r:embed="rId2"/>
          <a:stretch/>
        </p:blipFill>
        <p:spPr>
          <a:xfrm>
            <a:off x="5148360" y="0"/>
            <a:ext cx="273348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roductos de desecho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99"/>
                </a:solidFill>
                <a:latin typeface="Verdana"/>
              </a:rPr>
              <a:t>Ure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 Se produce en el hígado por degradación de los 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aminoácido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, y se elimina con la </a:t>
            </a:r>
            <a:r>
              <a:rPr b="0" lang="es-ES" sz="2400" spc="-1" strike="noStrike">
                <a:solidFill>
                  <a:srgbClr val="ff9900"/>
                </a:solidFill>
                <a:latin typeface="Verdana"/>
              </a:rPr>
              <a:t>orin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(es el producto de desecho principal de compuestos nitrogenado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99"/>
                </a:solidFill>
                <a:latin typeface="Verdana"/>
              </a:rPr>
              <a:t>Ácido úrico.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Es un producto de desecho del metabolismo de nitrógeno (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purina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) y se encuentra en la </a:t>
            </a:r>
            <a:r>
              <a:rPr b="0" lang="es-ES" sz="2400" spc="-1" strike="noStrike">
                <a:solidFill>
                  <a:srgbClr val="ff9900"/>
                </a:solidFill>
                <a:latin typeface="Verdana"/>
              </a:rPr>
              <a:t>orin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 en pequeñas cantida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99"/>
                </a:solidFill>
                <a:latin typeface="Verdana"/>
              </a:rPr>
              <a:t>Dióxido de carbon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Formado en la 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respiración celula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, se excreta por los  pulmon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es-ES" sz="2400" spc="-1" strike="noStrike">
                <a:solidFill>
                  <a:srgbClr val="990099"/>
                </a:solidFill>
                <a:latin typeface="Verdana"/>
              </a:rPr>
              <a:t>Agu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Se produce en la 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respiración celula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, y se excreta mediante los riñones, el </a:t>
            </a:r>
            <a:r>
              <a:rPr b="0" lang="es-ES" sz="2400" spc="-1" strike="noStrike">
                <a:solidFill>
                  <a:srgbClr val="ff9900"/>
                </a:solidFill>
                <a:latin typeface="Verdana"/>
              </a:rPr>
              <a:t>sud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y la respiración pulmon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99"/>
                </a:solidFill>
                <a:latin typeface="Verdana"/>
              </a:rPr>
              <a:t>Pigmentos biliare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Se forman por degradación de la 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hemoglobin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en el hígado, y se expulsan con las </a:t>
            </a:r>
            <a:r>
              <a:rPr b="0" lang="es-ES" sz="2400" spc="-1" strike="noStrike">
                <a:solidFill>
                  <a:srgbClr val="ff9900"/>
                </a:solidFill>
                <a:latin typeface="Verdana"/>
              </a:rPr>
              <a:t>hece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Homeostasi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junto de mecanismos por los que los seres vivos tienden a alcanzar una estabilidad en las propiedades y la composición bioquímica de su medio inter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tectan pequeñas variaciones y desencadenan procesos para corregir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Mantenimiento de la presión osmótic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A través de los riñ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Temperatura corpor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Mediante el sudor y la circulación sanguíne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Ph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A través de sistemas tamp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Coordinación químic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de muchas sustancias mediante las hormonas (como la </a:t>
            </a:r>
            <a:r>
              <a:rPr b="0" lang="es-ES" sz="2000" spc="-1" strike="noStrike">
                <a:solidFill>
                  <a:srgbClr val="666699"/>
                </a:solidFill>
                <a:latin typeface="Verdana"/>
              </a:rPr>
              <a:t>glucos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regulada por las hormonas </a:t>
            </a:r>
            <a:r>
              <a:rPr b="0" lang="es-ES" sz="2000" spc="-1" strike="noStrike">
                <a:solidFill>
                  <a:srgbClr val="666699"/>
                </a:solidFill>
                <a:latin typeface="Verdana"/>
              </a:rPr>
              <a:t>insulin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666699"/>
                </a:solidFill>
                <a:latin typeface="Verdana"/>
              </a:rPr>
              <a:t>glucagó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natomía del aparato excreto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Órganos excretor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Verdana"/>
              </a:rPr>
              <a:t>Riñon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2). Filtran la sangre que les llega a través de las arterias renales; la sangre libre de desechos sale por las venas ren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ías excretor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Verdana"/>
              </a:rPr>
              <a:t>Uréter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Verdana"/>
              </a:rPr>
              <a:t>Vejiga urinari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Verdana"/>
              </a:rPr>
              <a:t>Uretr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6478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Riñone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Cápsula ren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Fina membrana de tejido conjun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Corteza ren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1 cm de grosor, aspecto granulo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Médul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Aspecto estriado radial. Dividida en sectores (</a:t>
            </a:r>
            <a:r>
              <a:rPr b="0" lang="es-ES" sz="2000" spc="-1" strike="noStrike">
                <a:solidFill>
                  <a:srgbClr val="ff0000"/>
                </a:solidFill>
                <a:latin typeface="Verdana"/>
              </a:rPr>
              <a:t>pirámides renal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 por las </a:t>
            </a:r>
            <a:r>
              <a:rPr b="0" lang="es-ES" sz="2000" spc="-1" strike="noStrike">
                <a:solidFill>
                  <a:srgbClr val="ff0000"/>
                </a:solidFill>
                <a:latin typeface="Verdana"/>
              </a:rPr>
              <a:t>columnas renal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Pelvis ren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Forma de copa, recoge la orina procedente de los </a:t>
            </a:r>
            <a:r>
              <a:rPr b="0" lang="es-ES" sz="2000" spc="-1" strike="noStrike">
                <a:solidFill>
                  <a:srgbClr val="ff0000"/>
                </a:solidFill>
                <a:latin typeface="Verdana"/>
              </a:rPr>
              <a:t>cálices renal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64000" y="133200"/>
            <a:ext cx="3240360" cy="2505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16360" y="2708280"/>
            <a:ext cx="416880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Funciones de los riñone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392360" cy="4030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xcreción de productos metabólicos de </a:t>
            </a:r>
            <a:r>
              <a:rPr b="0" lang="es-ES" sz="2000" spc="-1" strike="noStrike">
                <a:solidFill>
                  <a:srgbClr val="6699ff"/>
                </a:solidFill>
                <a:latin typeface="Verdana"/>
              </a:rPr>
              <a:t>desech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gular el </a:t>
            </a:r>
            <a:r>
              <a:rPr b="0" lang="es-ES" sz="2000" spc="-1" strike="noStrike">
                <a:solidFill>
                  <a:srgbClr val="6699ff"/>
                </a:solidFill>
                <a:latin typeface="Verdana"/>
              </a:rPr>
              <a:t>equilibrio hídric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electrolí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gular el </a:t>
            </a:r>
            <a:r>
              <a:rPr b="0" lang="es-ES" sz="2000" spc="-1" strike="noStrike">
                <a:solidFill>
                  <a:srgbClr val="6699ff"/>
                </a:solidFill>
                <a:latin typeface="Verdana"/>
              </a:rPr>
              <a:t>equilibrio ácido-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ntetizar </a:t>
            </a:r>
            <a:r>
              <a:rPr b="0" lang="es-ES" sz="2000" spc="-1" strike="noStrike">
                <a:solidFill>
                  <a:srgbClr val="6699ff"/>
                </a:solidFill>
                <a:latin typeface="Verdana"/>
              </a:rPr>
              <a:t>eritropoyetin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(EPO), hormona que estimula la producción de eritroci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gulación de la </a:t>
            </a:r>
            <a:r>
              <a:rPr b="0" lang="es-ES" sz="2000" spc="-1" strike="noStrike">
                <a:solidFill>
                  <a:srgbClr val="6699ff"/>
                </a:solidFill>
                <a:latin typeface="Verdana"/>
              </a:rPr>
              <a:t>presión arteri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produciendo renina, que la aumenta, o regulando el agu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99ff"/>
                </a:solidFill>
                <a:latin typeface="Verdana"/>
              </a:rPr>
              <a:t>Gluconeogénesi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síntesis de glucosa a partir de aminoáci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Garamond"/>
              </a:rPr>
              <a:t>Vías excretoras:</a:t>
            </a:r>
            <a:br>
              <a:rPr sz="4000"/>
            </a:br>
            <a:r>
              <a:rPr b="1" lang="en-US" sz="4000" spc="-1" strike="noStrike">
                <a:solidFill>
                  <a:srgbClr val="666699"/>
                </a:solidFill>
                <a:latin typeface="Garamond"/>
              </a:rPr>
              <a:t>Uréteres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9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arten de la pelvis renal y llevan la orina hasta la vejig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ámetro 3 m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orina desciende por grave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Garamond"/>
              </a:rPr>
              <a:t>Vías excretoras:</a:t>
            </a:r>
            <a:br>
              <a:rPr sz="4000"/>
            </a:br>
            <a:r>
              <a:rPr b="1" lang="en-US" sz="4000" spc="-1" strike="noStrike">
                <a:solidFill>
                  <a:srgbClr val="666699"/>
                </a:solidFill>
                <a:latin typeface="Garamond"/>
              </a:rPr>
              <a:t>Vejiga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lsa dilatable en la excavación de la pelv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ena tiene forma esférica y puede retener de 2 a 3 litros de orin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 vacía por contracción de la capa muscul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38156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7:12:12Z</dcterms:created>
  <dc:creator>Dani</dc:creator>
  <dc:description/>
  <dc:language>en-US</dc:language>
  <cp:lastModifiedBy>Dani</cp:lastModifiedBy>
  <dcterms:modified xsi:type="dcterms:W3CDTF">2010-01-14T19:14:56Z</dcterms:modified>
  <cp:revision>18</cp:revision>
  <dc:subject/>
  <dc:title>Diapositiva 1</dc:title>
</cp:coreProperties>
</file>