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059-508E-4768-BE89-E0AF37D8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3F4-A822-4628-9EA3-89B51993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24A-12BA-4A61-8FC2-3D726D33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80A-B475-41A2-9228-E586F065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B3A-5BDC-409C-81CB-18134D94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1E2D-4636-4AA4-B41F-8E481F37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26DB-45DD-4CE0-9B1C-69CCF4C0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C67D-F6E7-4260-ACCB-A88B8169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19D2-78F7-4DAE-ACC8-B0B34979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859F-2F58-4DD7-932F-83739334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45DB-AD94-435F-90E8-E897F7FF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4BF7-0162-4BA5-B0DE-0D938735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EBD7-70CF-44A9-8B26-3CAD451D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7811-4482-4DEE-A1FD-BC97C0C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EE13-8078-41C6-92BD-51C21DFC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5B42-3A2A-417B-8828-5136EF6F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5C15-77A7-4F19-96AA-77CD6802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12A-5D7C-4782-9E54-549410D9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3EA-6FB3-4E8D-8416-C32F6C4F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FB5-76E4-4912-B977-B974DC50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016-B472-4C87-97F8-3889E276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E9C-DBA9-4B09-8E1C-1CF2812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851-4D3E-4095-B99B-1C95A35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B6F-A408-408E-8555-8C31C293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CC49-1857-43AA-AC50-7D81310C07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44E-4346-421A-A698-AE48DD33FD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Tema 6: 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atomía y fisiologí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arato Excre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3203640" cy="263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70680" y="260280"/>
            <a:ext cx="30733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ejig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519200"/>
            <a:ext cx="66978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267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ucto que lleva la orina hasta el exterior del cuerpo durante la mi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 el hombre es más larga y tiene también función reproduct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ene dos esfínteres que la mantienen cerrada hasta el momento de orina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Uretr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41720" y="692280"/>
            <a:ext cx="6002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La nefro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idad funcional del riñón. Formada p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orpúsculo de Malpigh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conjunto formado por el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glomérulo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capilares arteriales procedentes de una arteriola aferente) y la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psula de Bowman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Bolsa que rodea al glomérul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úbulo contorneado proxim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Asa de Hen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úbulo contorneado dist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que desemboca en el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tubo colector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La orina pasa a los </a:t>
            </a: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lic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413000"/>
            <a:ext cx="40971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6699"/>
                </a:solidFill>
                <a:latin typeface="Garamond"/>
              </a:rPr>
              <a:t>La nefrona: Glomérulo y cápsula de Bowmann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5040" y="2043000"/>
            <a:ext cx="4224240" cy="418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76720" y="1711440"/>
            <a:ext cx="2880000" cy="219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76720" y="4076640"/>
            <a:ext cx="3124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Fisiología de la nefro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99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Filtración glomer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990099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bsorción tub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990099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creción tub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348000" y="1379520"/>
            <a:ext cx="55450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6699"/>
                </a:solidFill>
                <a:latin typeface="Garamond"/>
              </a:rPr>
              <a:t>Filtración Glomerula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so de </a:t>
            </a:r>
            <a:r>
              <a:rPr b="0" lang="es-ES" sz="2400" spc="-1" strike="noStrike">
                <a:solidFill>
                  <a:srgbClr val="cc0000"/>
                </a:solidFill>
                <a:latin typeface="Verdana"/>
              </a:rPr>
              <a:t>plasma sanguíne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sin células ni proteínas) desde el glomérulo a la cápsula de Bowman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ducido por la presión de la sangre en el capilar del gloméru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filtrado contie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gua (9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rea (3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tasio, sodio, cloro, iones de fosfato y sulfato, ácido úrico y creatinina (2%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ariamente se filtran en los riñones 180 litros de plas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el </a:t>
            </a: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túbulo proxima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e reabsorb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67% de sodi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mayor parte del agu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s iones cloruro y potasio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glucosa y aminoáci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sodio se reabsorbe por transporte activo; el agua, el cloruro y otros solutos son reabsorbidos por dif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erca del 75% del filtrado se reabsorbe antes de llegar al asa de Hen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resultado es un líquido tubular que es isosmótico respecto al plasma y líquidos intersticial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I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990099"/>
                </a:solidFill>
                <a:latin typeface="Verdana"/>
              </a:rPr>
              <a:t>asa de Henl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se reabsorbe el 25 % del cloruro sódico y el 15 % del ag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contenido del tubo es hipoosmótico con respecto al plas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el </a:t>
            </a:r>
            <a:r>
              <a:rPr b="1" lang="es-ES" sz="2800" spc="-1" strike="noStrike">
                <a:solidFill>
                  <a:srgbClr val="990099"/>
                </a:solidFill>
                <a:latin typeface="Verdana"/>
              </a:rPr>
              <a:t>túbulo distal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se reabsorben cantidades variables de sodio y ag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sodio se reabsorbe por transporte activo. El agua le sigue por ósmo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 reabsorbe el 99 % del líquido filtr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II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da por la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hormona antidiuirética (ADH)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producida por la neurohipófi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Verdana"/>
              </a:rPr>
              <a:t>En ausencia de AD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elimina orina muy diluída porque las paredes del asa de Henle se vuelven impermeab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Verdana"/>
              </a:rPr>
              <a:t>En presencia de ADH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elimina orina concentra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ldostero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producida en las glandulas suprarrenales) incrementa la reabsorción de sodio en el túbulo colector y provoca retención de agua, produciendo orina concentr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ren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producida por las células yuxtaglomerulares)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stimula la liberación de 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ngiotensina I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se transforma en </a:t>
            </a: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ngiotensina II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Ésta actúa como vasoconstrictor en la arteriola eferente cuando el efecto es muy intenso y entonces baja el flujo sanguíneo y aumenta la filtración glomerular. Aumenta la sensación de 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eabsorción tubular (IV)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569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La excreció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 el proceso biológico por el que un ser vivo elimina de su organismo las sustancias tóxicas, adquiridas por la alimentación o producidas por su metabolism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lang="en-US" sz="2000" spc="-1" strike="noStrike">
                <a:solidFill>
                  <a:srgbClr val="666699"/>
                </a:solidFill>
                <a:latin typeface="Verdana"/>
              </a:rPr>
              <a:t>órgan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que participan en la excreción 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Pulmo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Expulsan al aire el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ióxido de carbo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ducido en la respiración celu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Hígad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Expulsa al intestino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ductos tóx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mados en las transformaciones químicas de los nutrientes, estos desechos se eliminan mediante las he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Glándulas sudorípar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Junto con el agua filtran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ductos tóx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y eliminan el agua, aunque es una respuesta a la temperatu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Verdana"/>
              </a:rPr>
              <a:t>Riño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Hacen un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ltración selectiv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los compuestos tóxicos de la sangre. Regulan la cantidad d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a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l organism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la </a:t>
            </a:r>
            <a:r>
              <a:rPr b="0" lang="es-ES" sz="1800" spc="-1" strike="noStrike">
                <a:solidFill>
                  <a:srgbClr val="990099"/>
                </a:solidFill>
                <a:latin typeface="Verdana"/>
              </a:rPr>
              <a:t>macula dens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percibe concentraciones de sodio altas, actua inhibiendo la secreción de renina por parte de las células yuxtaglomerulas de la arteriola aferente del glomérulo ren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 el contrario, cuando la concentración de sodio se encuentra disminuida, la mácula densa se activa, permitiendose la secreción de renina y con ella la activación del sistema renina angiotensina aldosterona, y la consecuente antinatriuresis (aumento en la retención de sodio) y, aumento de la presión arteri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Archivo:Renal corpuscle.svg"/>
          <p:cNvPicPr/>
          <p:nvPr/>
        </p:nvPicPr>
        <p:blipFill>
          <a:blip r:embed="rId1"/>
          <a:stretch/>
        </p:blipFill>
        <p:spPr>
          <a:xfrm>
            <a:off x="4140360" y="1773360"/>
            <a:ext cx="464328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Secreción tubula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os desechos y sustancias en exceso que no fueron filtrados inicialmente hacia la Cápsula de Bowman son eliminadas de la sangre para su excreción. Estos desechos son excretados activamente dentro del </a:t>
            </a:r>
            <a:r>
              <a:rPr b="1" lang="es-ES" sz="2800" spc="-1" strike="noStrike">
                <a:solidFill>
                  <a:srgbClr val="990099"/>
                </a:solidFill>
                <a:latin typeface="Verdana"/>
              </a:rPr>
              <a:t>túbulo contorneado distal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ones de Potas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ones de Hidróge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monia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rogas (sustancias tanto dañinas como medicin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Orin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5928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mposición de la orina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Agu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9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Ure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producto final nitrogenado del catabolismo de las proteí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reatin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derivado de la creatina , reservorio energético muscu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Ácido úric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 : derivado del catabolismo de las bases nitrogen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loruro de so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Sulfatos y fosf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Otros pigmentos y electrolito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como Na+,Ca+, K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828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Glándulas sudoríparas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978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on glándulas tubulares enrolladas, situadas en la dermis, con un tubo excretor que desemboca en la superficie de la pie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os tip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lándulas ecrinas: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 formadas por un glomérulo secretor y un conducto excretor que desembocan directamente a la superficie de la piel. Existen unas 600 glándulas por centímetro cuadrado de piel, con mayor concentración en palmas de las manos, plantas de los pies y región frontal de la cara. Segregan 1 litro al día en condiciones basales y hasta 10 l en condiciones extrema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</a:rPr>
              <a:t>Glándulas apocrinas: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 Están formadas por un gran lóbulo secretor y un conducto excretor dérmico que desemboca en el folículo pilosebáceo. Son poco numerosas y se localizan en axila, periné, pubis  y conducto auditivo externo. Estas glándulas son las encargadas de la secreción de las feromonas, sustancias responsables del olor característico de zonas como las axilas y los órganos sexual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30920" y="1557360"/>
            <a:ext cx="31021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El sudo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Funcion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excretora: Elimina urea y ácido úrico, y otras sustancias como el tabaco y el alcoho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termorreguladora: el elevado calor de vaporización del agua permite refrigerar la pi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990099"/>
                </a:solidFill>
                <a:latin typeface="Verdana"/>
              </a:rPr>
              <a:t>Composición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99,00% de ag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0,60% de sales minerales (NaC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0,40% de sustancias orgánicas (urea, creatinina y ácido úric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feliz_sudor"/>
          <p:cNvPicPr/>
          <p:nvPr/>
        </p:nvPicPr>
        <p:blipFill>
          <a:blip r:embed="rId1"/>
          <a:stretch/>
        </p:blipFill>
        <p:spPr>
          <a:xfrm>
            <a:off x="1042920" y="4437000"/>
            <a:ext cx="2857680" cy="221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fergie-sweat-0804.jpg"/>
          <p:cNvPicPr/>
          <p:nvPr/>
        </p:nvPicPr>
        <p:blipFill>
          <a:blip r:embed="rId2"/>
          <a:stretch/>
        </p:blipFill>
        <p:spPr>
          <a:xfrm>
            <a:off x="5148360" y="0"/>
            <a:ext cx="27334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roductos de desecho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Ure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Se produce en el hígado por degradación de los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aminoácido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y se elimina con la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or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es el producto de desecho principal de compuestos nitrogenad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Ácido úrico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 un producto de desecho del metabolismo de nitrógeno (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purina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) y se encuentra en la 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or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 en pequeñas cant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Dióxido de carbon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Formado en la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respiración celula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se excreta por los  pulm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Agu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produce en la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respiración celula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y se excreta mediante los riñones, el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sud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la respiración pulmon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99"/>
                </a:solidFill>
                <a:latin typeface="Verdana"/>
              </a:rPr>
              <a:t>Pigmentos biliare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Se forman por degradación de la </a:t>
            </a: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hemoglobin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n el hígado, y se expulsan con las </a:t>
            </a:r>
            <a:r>
              <a:rPr b="0" lang="es-ES" sz="2400" spc="-1" strike="noStrike">
                <a:solidFill>
                  <a:srgbClr val="ff9900"/>
                </a:solidFill>
                <a:latin typeface="Verdana"/>
              </a:rPr>
              <a:t>hece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Homeostasi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junto de mecanismos por los que los seres vivos tienden a alcanzar una estabilidad en las propiedades y la composición bioquímica de su medio inter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tectan pequeñas variaciones y desencadenan procesos para corregir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Mantenimiento de la presión osmót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A través de los riñ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Temperatura corpor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Mediante el sudor y la circulación sanguí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Ph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A través de sistemas tamp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99"/>
                </a:solidFill>
                <a:latin typeface="Verdana"/>
              </a:rPr>
              <a:t>Coordinación quím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de muchas sustancias mediante las hormonas (como la </a:t>
            </a:r>
            <a:r>
              <a:rPr b="0" lang="es-ES" sz="2000" spc="-1" strike="noStrike">
                <a:solidFill>
                  <a:srgbClr val="666699"/>
                </a:solidFill>
                <a:latin typeface="Verdana"/>
              </a:rPr>
              <a:t>glucos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regulada por las hormonas </a:t>
            </a:r>
            <a:r>
              <a:rPr b="0" lang="es-ES" sz="2000" spc="-1" strike="noStrike">
                <a:solidFill>
                  <a:srgbClr val="666699"/>
                </a:solidFill>
                <a:latin typeface="Verdana"/>
              </a:rPr>
              <a:t>insul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666699"/>
                </a:solidFill>
                <a:latin typeface="Verdana"/>
              </a:rPr>
              <a:t>glucag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natomía del aparato excretor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Órganos excret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Riño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2). Filtran la sangre que les llega a través de las arterias renales; la sangre libre de desechos sale por las venas ren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ías excretor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Uréte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Vejiga urinar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Verdana"/>
              </a:rPr>
              <a:t>Uretr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6478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Riñon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ápsula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ina membrana de tejido conjun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Corteza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1 cm de grosor, aspecto granulo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Médul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Aspecto estriado radial. Dividida en sectores (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pirámid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 por las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columna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Verdana"/>
              </a:rPr>
              <a:t>Pelvis re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Forma de copa, recoge la orina procedente de los 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cálices renale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64000" y="133200"/>
            <a:ext cx="3240360" cy="250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41688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Funciones de los riñon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392360" cy="4030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creción de productos metabólicos de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desech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r el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equilibrio hídrico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y electrol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r el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equilibrio ácido-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tetizar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eritropoyetin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EPO), hormona que estimula la producción de eritroci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ulación de la </a:t>
            </a: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presión arteri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produciendo renina, que la aumenta, o regulando el agu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99ff"/>
                </a:solidFill>
                <a:latin typeface="Verdana"/>
              </a:rPr>
              <a:t>Gluconeogénes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síntesis de glucosa a partir de aminoác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Uréteres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ten de la pelvis renal y llevan la orina hasta la vejig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ámetro 3 m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orina desciende por grave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ías excretoras: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Vejiga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lsa dilatable en la excavación de la pelv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ena tiene forma esférica y puede retener de 2 a 3 litros de ori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vacía por contracción de la capa muscul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8156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12:12Z</dcterms:created>
  <dc:creator>Dani</dc:creator>
  <dc:description/>
  <dc:language>en-US</dc:language>
  <cp:lastModifiedBy>Dani</cp:lastModifiedBy>
  <dcterms:modified xsi:type="dcterms:W3CDTF">2010-01-14T19:14:56Z</dcterms:modified>
  <cp:revision>18</cp:revision>
  <dc:subject/>
  <dc:title>Diapositiva 1</dc:title>
</cp:coreProperties>
</file>