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7.png" ContentType="image/png"/>
  <Override PartName="/ppt/media/image34.jpeg" ContentType="image/jpeg"/>
  <Override PartName="/ppt/media/image11.jpeg" ContentType="image/jpeg"/>
  <Override PartName="/ppt/media/image13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media/image15.jpeg" ContentType="image/jpeg"/>
  <Override PartName="/ppt/media/image16.wmf" ContentType="image/x-wmf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6E61-60ED-4C62-9F89-D871E2F6B2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BCF4-4EB9-4C49-9823-D46B3E6DA3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3059-37AD-4B46-AED0-2BF84E7E96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BCED-91DE-40AA-A19E-DA86EEF07B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5CB5-973C-4B68-9559-A7C4E049B6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2A40-1243-487A-91AE-A6F0CD659A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4FF5-4977-4420-83ED-445F7614D5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7AAF-8696-4977-B6E1-6E9851D62A2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982F-EBD8-4C28-B89F-F3FB470CBC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3FB5-981D-4B96-89E0-F29277D21F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C9BD-5E86-4D51-A69B-43A0C10F1A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5AB0-77A3-42A8-81BA-88E316522A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436C-148F-4A91-884A-65883DCF1A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E4E4-5025-4FAA-99E8-401D552FEF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ADDF-1A92-4B0A-8997-39704018F0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A14-6740-4D14-9E8D-A4723EAF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865-F056-4874-9CB8-8AFBC15C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064-97E5-4745-8484-1846B7E0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FDA-C195-4E45-BA8E-6CBA9C2C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657D-0D4B-4EF0-ACE9-DFAE0351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8870-C158-4458-9BF4-BA3CD04D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ABC5-EA98-4EA9-A7AA-B0C6EEFE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9952-E560-4F4D-B7F2-A6666892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3665-40A1-414E-B2FC-0CC69580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C92-3ACA-45E9-BC71-42C948F2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0BF1-C0E9-4589-BE33-AE763490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A7C-FF30-4735-A99A-3C155134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B5E8-A6F4-41B3-BB99-CBBF8509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F49-6282-4895-90FA-89247965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E29D-793A-409C-B44F-A1310E8B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ABE3-C615-4F3A-8482-BBCCB651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5A82-6F32-45E7-9737-4470FFC8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4D8-24BD-447F-A87E-673A6E64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BEB-A50F-4366-975A-1E83068B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F45-6D87-4FF8-823B-733C3CB2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5C3-1E4C-4FB6-B6DB-D3CF306C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2DC-285E-400C-B834-212F389B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140-7D3A-4378-9E3F-2EA3D1F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5BD-9C9F-440F-BE93-53DB6C0F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274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274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8c7c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1bbc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AE2F-B9F5-4C98-B9E8-A86C34A53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b1b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2743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8c7c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1bbc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30AF-C7F3-474E-AF55-5622E585A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ma 8: Crecimiento y Desarroll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5" descr="img17022"/>
          <p:cNvPicPr/>
          <p:nvPr/>
        </p:nvPicPr>
        <p:blipFill>
          <a:blip r:embed="rId1"/>
          <a:stretch/>
        </p:blipFill>
        <p:spPr>
          <a:xfrm>
            <a:off x="5292720" y="3933720"/>
            <a:ext cx="3600360" cy="2621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embrion-humano-a-las-7-semanas-wikimedia"/>
          <p:cNvPicPr/>
          <p:nvPr/>
        </p:nvPicPr>
        <p:blipFill>
          <a:blip r:embed="rId2"/>
          <a:stretch/>
        </p:blipFill>
        <p:spPr>
          <a:xfrm>
            <a:off x="1042920" y="3933720"/>
            <a:ext cx="2405160" cy="25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 I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mes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hacia el día 16º, se divide en dos c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Hoja pariet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, que se une a la somatople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Hoja viscer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, que se une a la esplacnople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orma 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celoma inter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conectado con el extraembrion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el saco vitelino se forma una evaginación, el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lantoid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que interviene en la respiración, nutrición y depósito de excreción del embr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7" descr="ANEXOS EMBRIONARIOS"/>
          <p:cNvPicPr/>
          <p:nvPr/>
        </p:nvPicPr>
        <p:blipFill>
          <a:blip r:embed="rId1"/>
          <a:stretch/>
        </p:blipFill>
        <p:spPr>
          <a:xfrm>
            <a:off x="468360" y="1989000"/>
            <a:ext cx="41749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 placen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4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da  por las vellosidades del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rofoblas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que penetran en la mucosa uterina. Ésta forma lagunas que contienen sangre mat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bas sangres no se mezc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unica con el feto mediante el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rdón umbilic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enza a formarse en la segunda semana de fecundación y adquiere su forma definitiva alrededor del terce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6" descr="PLACENTA"/>
          <p:cNvPicPr/>
          <p:nvPr/>
        </p:nvPicPr>
        <p:blipFill>
          <a:blip r:embed="rId1"/>
          <a:stretch/>
        </p:blipFill>
        <p:spPr>
          <a:xfrm>
            <a:off x="5364000" y="333360"/>
            <a:ext cx="3570480" cy="63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nciones de la placen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Fij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del embrión en el út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Intercamb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ntre madre y f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Secre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de hormon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33"/>
                </a:solidFill>
                <a:latin typeface="Times New Roman"/>
              </a:rPr>
              <a:t>Gonadotropina coriónic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Favorece la implantación del embrión. Estimula al cuerpo amarillo para que sintetice estrógenos y progester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0033"/>
                </a:solidFill>
                <a:latin typeface="Times New Roman"/>
              </a:rPr>
              <a:t>Estrógeno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1800" spc="-1" strike="noStrike">
                <a:solidFill>
                  <a:srgbClr val="660033"/>
                </a:solidFill>
                <a:latin typeface="Times New Roman"/>
              </a:rPr>
              <a:t>progesteron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A partir del 2º-3º mes, cuando dejan de segregarse las ant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476440" cy="37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627280" y="4832280"/>
            <a:ext cx="2481120" cy="18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rganogén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A partir del mesoderm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Se forma la </a:t>
            </a:r>
            <a:r>
              <a:rPr b="0" lang="es-ES" sz="3200" spc="-1" strike="noStrike">
                <a:solidFill>
                  <a:srgbClr val="660033"/>
                </a:solidFill>
                <a:latin typeface="Times New Roman"/>
              </a:rPr>
              <a:t>notocord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Por divisiones transversales se forman los </a:t>
            </a:r>
            <a:r>
              <a:rPr b="0" lang="es-ES" sz="3200" spc="-1" strike="noStrike">
                <a:solidFill>
                  <a:srgbClr val="660033"/>
                </a:solidFill>
                <a:latin typeface="Times New Roman"/>
              </a:rPr>
              <a:t>somit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que darán lugar a las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vértebra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y los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múscul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A partir del ectoderm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Se forma el </a:t>
            </a:r>
            <a:r>
              <a:rPr b="0" lang="es-ES" sz="3200" spc="-1" strike="noStrike">
                <a:solidFill>
                  <a:srgbClr val="660033"/>
                </a:solidFill>
                <a:latin typeface="Times New Roman"/>
              </a:rPr>
              <a:t>tubo neural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origen del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sistema nervios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A partir del endoderm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: Se forma el </a:t>
            </a:r>
            <a:r>
              <a:rPr b="0" lang="es-ES" sz="3200" spc="-1" strike="noStrike">
                <a:solidFill>
                  <a:srgbClr val="ff9933"/>
                </a:solidFill>
                <a:latin typeface="Times New Roman"/>
              </a:rPr>
              <a:t>tubo diges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rganogén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826920" y="2924280"/>
          <a:ext cx="7704360" cy="2925720"/>
        </p:xfrm>
        <a:graphic>
          <a:graphicData uri="http://schemas.openxmlformats.org/drawingml/2006/table">
            <a:tbl>
              <a:tblPr/>
              <a:tblGrid>
                <a:gridCol w="2567160"/>
                <a:gridCol w="2570040"/>
                <a:gridCol w="2567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CTOD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SOD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NDODER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33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 nervio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r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ándulas cutáneas (sudoríparas, etc.), pelos, uñ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vidad bucal y a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sas nas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7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úscul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es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r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ónad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arato excret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arato circulato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7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o diges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ándulas digestiv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stimiento de los pulm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7ce"/>
                    </a:solidFill>
                  </a:tcPr>
                </a:tc>
              </a:tr>
            </a:tbl>
          </a:graphicData>
        </a:graphic>
      </p:graphicFrame>
      <p:sp>
        <p:nvSpPr>
          <p:cNvPr id="256" name="Text Box 67"/>
          <p:cNvSpPr/>
          <p:nvPr/>
        </p:nvSpPr>
        <p:spPr>
          <a:xfrm>
            <a:off x="808200" y="2225520"/>
            <a:ext cx="70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s derivadas de cada hoja embrion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rganogén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7" descr="embrion4semanas"/>
          <p:cNvPicPr/>
          <p:nvPr/>
        </p:nvPicPr>
        <p:blipFill>
          <a:blip r:embed="rId1"/>
          <a:stretch/>
        </p:blipFill>
        <p:spPr>
          <a:xfrm>
            <a:off x="539640" y="2492280"/>
            <a:ext cx="3432240" cy="34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9" name="Picture 8" descr="embrion2"/>
          <p:cNvPicPr/>
          <p:nvPr/>
        </p:nvPicPr>
        <p:blipFill>
          <a:blip r:embed="rId2"/>
          <a:stretch/>
        </p:blipFill>
        <p:spPr>
          <a:xfrm>
            <a:off x="4067280" y="2289240"/>
            <a:ext cx="4824360" cy="387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embar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imes New Roman"/>
              </a:rPr>
              <a:t>Primer trimest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e diferencian la mayor parte de los órganos. El embrión alcanza 20 g y mide 10 cm. Tiene aspecto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imes New Roman"/>
              </a:rPr>
              <a:t>Segundo trimest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El feto se mueve. Alcanza 900 g y mide 32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33"/>
                </a:solidFill>
                <a:latin typeface="Times New Roman"/>
              </a:rPr>
              <a:t>Tercer trimestr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e sitúa cabeza abajo y se encaja en la pelvis. Alcanza 3-3,5 Kg y mide 50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Rectangle 52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293920" cy="23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2666880" cy="25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877080" y="4276800"/>
            <a:ext cx="190512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"/>
          <p:cNvSpPr/>
          <p:nvPr/>
        </p:nvSpPr>
        <p:spPr>
          <a:xfrm flipV="1">
            <a:off x="4140360" y="1341000"/>
            <a:ext cx="2376360" cy="86364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4076640"/>
            <a:ext cx="21564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5661000"/>
            <a:ext cx="208944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parto: Primera f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2057040"/>
            <a:ext cx="7989840" cy="25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curre a las 40 semanas desde la última menstru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Dilatación del cuello del úter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sta alcanzar unos 10 c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Contracciones uterin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que aumentan l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Se rompen agu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se rompe el amnios y sale líquido amnió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0" t="0" r="0" b="27164"/>
          <a:stretch/>
        </p:blipFill>
        <p:spPr>
          <a:xfrm>
            <a:off x="4067280" y="4292640"/>
            <a:ext cx="4032000" cy="23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parto: Segunda f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2057400"/>
            <a:ext cx="503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Se expulsa el fet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racias a las contracciones uterinas y el empuje de la mad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ráneo del recién nacido se deforma para facilitar su salida (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fontanel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cortarse y anudar el 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cordón umbilic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bebé comienza a respirar por sí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lava, pesa, mide y reconoce (test de APGAR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651640" y="2851200"/>
            <a:ext cx="3241440" cy="243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est de Apg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19000" y="2276640"/>
          <a:ext cx="8001000" cy="4081320"/>
        </p:xfrm>
        <a:graphic>
          <a:graphicData uri="http://schemas.openxmlformats.org/drawingml/2006/table">
            <a:tbl>
              <a:tblPr/>
              <a:tblGrid>
                <a:gridCol w="1349640"/>
                <a:gridCol w="1531800"/>
                <a:gridCol w="1981080"/>
                <a:gridCol w="184320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0 pu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1 pu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2 pu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crón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Color de la p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todo az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xtremidades az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pari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Frecuencia cardí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no po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&lt;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&gt;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u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Reflejos e irrit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sin respuesta a estimu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mueca / llanto débil al ser estimu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stornudos / tos / pataleo al ser estimu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Tono mus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ning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lguna flex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movimiento 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c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Respi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aus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débil o ir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fu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o Grunge"/>
                          <a:ea typeface="Times New Roman"/>
                        </a:rPr>
                        <a:t>espi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es del desarrollo embrionar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Segment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el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zigo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transforma en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móru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en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blást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Gastrul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e forma la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gástru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n tres capas embrio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Organogénes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Se forman los diversos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órgan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j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Cigoto"/>
          <p:cNvPicPr/>
          <p:nvPr/>
        </p:nvPicPr>
        <p:blipFill>
          <a:blip r:embed="rId1"/>
          <a:stretch/>
        </p:blipFill>
        <p:spPr>
          <a:xfrm>
            <a:off x="4572000" y="2205000"/>
            <a:ext cx="4089240" cy="398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7" name="Text Box 5"/>
          <p:cNvSpPr/>
          <p:nvPr/>
        </p:nvSpPr>
        <p:spPr>
          <a:xfrm>
            <a:off x="7451640" y="233352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I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 parto: Tercera f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000" y="2060640"/>
            <a:ext cx="273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expulsa la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placen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to con el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cordón umbil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compañada de una pequeña hemorragia (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Alumbrami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enza la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etracción del út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132000" y="2309760"/>
            <a:ext cx="6012000" cy="38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Lactanc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440" y="20574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– 12 primeros meses. La alimentación es principalmente lech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n en funcionamiento los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órganos de los sent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ierra el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foramen ov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coraz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ierran las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fontane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n los primeros </a:t>
            </a: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dientes de lec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876840" cy="29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Infanc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2920" y="20574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los 12 meses hasta los 10 – 14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Aum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eso y t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esfínte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lengua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coordinación moto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714480" cy="37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Pubert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280" y="206064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ele iniciarse antes en las chicas. Dura unos 6-8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inicia la actividad del 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aparato reproducto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parecen los 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caracteres secundarios secunda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ificaciones psicológicas y emocionales (</a:t>
            </a: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adolescenc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41767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El desarrollo postembrionario: Edades adulta, madura y senectu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2057400"/>
            <a:ext cx="474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1e9"/>
                </a:solidFill>
                <a:latin typeface="Times New Roman"/>
              </a:rPr>
              <a:t>Edad adul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hasta los 40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1e9"/>
                </a:solidFill>
                <a:latin typeface="Times New Roman"/>
              </a:rPr>
              <a:t>Edad madu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sde los 40 hasta los 6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d1e9"/>
                </a:solidFill>
                <a:latin typeface="Times New Roman"/>
              </a:rPr>
              <a:t>Senectu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artir de 6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a la curvatura de la columna. Se reduce la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estatu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arecen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arrug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can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ierde masa muscular y ós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se perciben los tonos agu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</a:rPr>
              <a:t>Presbic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 se enfocan objetos cercan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minuyen los refle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ierde memoria rec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516720" y="1773360"/>
            <a:ext cx="2376360" cy="19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443640" y="5013360"/>
            <a:ext cx="2519280" cy="16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63044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Segmentación: Móru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(todo el zigoto se divide) e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igu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(las células son del mismo tam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Móru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 masa compacta de unas 32 células llamadas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blastóme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8" descr="Morula"/>
          <p:cNvPicPr/>
          <p:nvPr/>
        </p:nvPicPr>
        <p:blipFill>
          <a:blip r:embed="rId1"/>
          <a:stretch/>
        </p:blipFill>
        <p:spPr>
          <a:xfrm>
            <a:off x="1835280" y="1989000"/>
            <a:ext cx="2822400" cy="247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Picture 9" descr="morula2"/>
          <p:cNvPicPr/>
          <p:nvPr/>
        </p:nvPicPr>
        <p:blipFill>
          <a:blip r:embed="rId2"/>
          <a:stretch/>
        </p:blipFill>
        <p:spPr>
          <a:xfrm>
            <a:off x="395280" y="4191120"/>
            <a:ext cx="246852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gmentación: Blástu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el interior se forma una cavidad, el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blastocel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esfera que compone la blástula está formada por blastómeros de do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Un grupo de 8 ó 10 células quedan en el interior: el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mbrioblast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,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s células restantes forman un epitelio cúbico alrededor del blastocele y del embrioblasto: el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trofoblast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células del trofoblasto se van a aplanar , y a partir de ellas se formarán parte de la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placent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d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cor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7" descr="blastula2"/>
          <p:cNvPicPr/>
          <p:nvPr/>
        </p:nvPicPr>
        <p:blipFill>
          <a:blip r:embed="rId1"/>
          <a:stretch/>
        </p:blipFill>
        <p:spPr>
          <a:xfrm>
            <a:off x="1547640" y="4581360"/>
            <a:ext cx="2160720" cy="211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8" descr="Blastulation"/>
          <p:cNvPicPr/>
          <p:nvPr/>
        </p:nvPicPr>
        <p:blipFill>
          <a:blip r:embed="rId2"/>
          <a:srcRect l="0" t="11688" r="0" b="7792"/>
          <a:stretch/>
        </p:blipFill>
        <p:spPr>
          <a:xfrm>
            <a:off x="468360" y="2341440"/>
            <a:ext cx="4103640" cy="20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20_014"/>
          <p:cNvPicPr/>
          <p:nvPr/>
        </p:nvPicPr>
        <p:blipFill>
          <a:blip r:embed="rId1">
            <a:lum contrast="20000"/>
          </a:blip>
          <a:srcRect l="0" t="0" r="0" b="5906"/>
          <a:stretch/>
        </p:blipFill>
        <p:spPr>
          <a:xfrm>
            <a:off x="971640" y="58680"/>
            <a:ext cx="7224480" cy="6799320"/>
          </a:xfrm>
          <a:prstGeom prst="rect">
            <a:avLst/>
          </a:prstGeom>
          <a:ln w="38160">
            <a:solidFill>
              <a:srgbClr val="274369"/>
            </a:solidFill>
            <a:miter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64000" y="333000"/>
            <a:ext cx="2662560" cy="863640"/>
          </a:xfrm>
          <a:prstGeom prst="rect">
            <a:avLst/>
          </a:prstGeom>
          <a:solidFill>
            <a:srgbClr val="27436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lant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de formación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tres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hojas embrionari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ct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mes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end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Anejos embrionar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corio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saco viteli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mn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lantoid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gastrula"/>
          <p:cNvPicPr/>
          <p:nvPr/>
        </p:nvPicPr>
        <p:blipFill>
          <a:blip r:embed="rId1"/>
          <a:stretch/>
        </p:blipFill>
        <p:spPr>
          <a:xfrm>
            <a:off x="611280" y="4508640"/>
            <a:ext cx="174924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7" descr="gastrulacion"/>
          <p:cNvPicPr/>
          <p:nvPr/>
        </p:nvPicPr>
        <p:blipFill>
          <a:blip r:embed="rId2"/>
          <a:stretch/>
        </p:blipFill>
        <p:spPr>
          <a:xfrm>
            <a:off x="4500720" y="333360"/>
            <a:ext cx="45129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8" descr="gastrulacion2"/>
          <p:cNvPicPr/>
          <p:nvPr/>
        </p:nvPicPr>
        <p:blipFill>
          <a:blip r:embed="rId3"/>
          <a:stretch/>
        </p:blipFill>
        <p:spPr>
          <a:xfrm>
            <a:off x="2556000" y="4221000"/>
            <a:ext cx="6443640" cy="24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esarrollo embrionario: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Mórula, Blástula y Gástrul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Rectangle 52" descr=""/>
          <p:cNvPicPr/>
          <p:nvPr/>
        </p:nvPicPr>
        <p:blipFill>
          <a:blip r:embed="rId1"/>
          <a:stretch/>
        </p:blipFill>
        <p:spPr>
          <a:xfrm>
            <a:off x="1835280" y="2536920"/>
            <a:ext cx="547344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 I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446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End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apa del embrioblasto que limita con el blastocele. En ella se desarrolla una cavidad llamada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saco vitelin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que nutre al embrión. En el centro del embrioblasto se forma el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amni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cavidad amniót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que crece hasta </a:t>
            </a:r>
            <a:r>
              <a:rPr b="0" lang="es-ES" sz="2000" spc="-1" strike="noStrike">
                <a:solidFill>
                  <a:srgbClr val="660033"/>
                </a:solidFill>
                <a:latin typeface="Times New Roman"/>
              </a:rPr>
              <a:t>rode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l embrión. Función protect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células entre el amnios y el saco vitelino forman 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disco embr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Ect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apa del embrioblasto que está en contacto con la cavidad amnió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" sz="2000" spc="-1" strike="noStrike">
                <a:solidFill>
                  <a:srgbClr val="ff9933"/>
                </a:solidFill>
                <a:latin typeface="Times New Roman"/>
              </a:rPr>
              <a:t>mesoderm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se forma a partir de un surco longitudinal del ectodermo; algunas células de éste se sitúan entre el ectodermo y el endodermo y forman esta tercera hoja embrion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GASTRULA2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183280" y="3286080"/>
            <a:ext cx="3960720" cy="35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5508720" y="0"/>
            <a:ext cx="3159000" cy="32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b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Gastrulación I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blastómeros que rodean al disco embrionario proliferan y forman el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mesénquima extraembrionari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ntre el saco vitelino y el trofobl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5f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su interior se desarrolla una cavidad, el 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celoma extraembrionari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rodeado por</a:t>
            </a:r>
            <a:r>
              <a:rPr b="0" lang="es-E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es c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omatopleu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junto al amn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splacnopleu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junto al saco vitel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743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pa externa, que se adosa al trofoblasto y forma el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orio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e inserta en la mucosa uterina mediante las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vellosidades placentari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9:00:29Z</dcterms:created>
  <dc:creator>Daniel</dc:creator>
  <dc:description/>
  <dc:language>en-US</dc:language>
  <cp:lastModifiedBy>Dani</cp:lastModifiedBy>
  <dcterms:modified xsi:type="dcterms:W3CDTF">2010-02-19T12:56:19Z</dcterms:modified>
  <cp:revision>25</cp:revision>
  <dc:subject/>
  <dc:title>Tema 8: Crecimiento y Desarrollo</dc:title>
</cp:coreProperties>
</file>