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24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32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B555-095C-4D98-8B4A-7D6C8FFD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AC3-EF0B-4288-A0F4-9FC3F45D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07F-81AE-4F40-B4F3-F729A737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20D-58C3-4DCB-9C8C-604C534C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5FC8-2B50-4907-91DD-16A933B8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D971-CCB9-4DFA-A876-675B930F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8557-5546-4748-BD8E-DDAD220D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6A2D-F4E9-426F-B8A3-A73625C2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0B92-D865-4CE2-994E-BDE8666C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C430-9065-4381-9E3C-77C28478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2F0B-7990-4DC1-BC60-1B93C9F1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1E5E-63DA-43BA-86ED-DC9EB264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E1A6-0D9E-4BC0-8BFF-62376905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AAE7-26DB-4D88-B32F-D296F2A3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5051-C907-4B0D-96F6-CC128266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9566-F4C2-41B0-83DB-697A5317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C6EA-5399-471A-A9A6-422A8A64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FAEB-5695-4930-8807-DF3290E7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07F-F112-47F4-90E4-0590B730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9A12-6045-4163-BC62-3B75FF4B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C17-5DD0-4FE1-8CFE-FB15A1AC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4AB9-0FC4-484A-BB58-9764E655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416-5C44-488B-9457-C5217598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4343-BE21-4A04-8DCC-49A0934F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0c0c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CA36-3D81-40E6-B89C-3F1DE13E9EF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A7D6-D307-4B26-9FF9-D511B42E825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0c0c0"/>
              </a:buClr>
              <a:buSzPct val="55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SzPct val="6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3840" cy="21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ma 9: Aparato Locomotor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os sistemas esquelético y muscul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4764" t="0" r="20300" b="0"/>
          <a:stretch/>
        </p:blipFill>
        <p:spPr>
          <a:xfrm>
            <a:off x="5796000" y="3213000"/>
            <a:ext cx="2992320" cy="3454560"/>
          </a:xfrm>
          <a:prstGeom prst="rect">
            <a:avLst/>
          </a:prstGeom>
          <a:ln w="38160">
            <a:solidFill>
              <a:srgbClr val="4d4d4d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2520" t="3489" r="2520" b="3489"/>
          <a:stretch/>
        </p:blipFill>
        <p:spPr>
          <a:xfrm>
            <a:off x="1332000" y="3789360"/>
            <a:ext cx="4070160" cy="2879640"/>
          </a:xfrm>
          <a:prstGeom prst="rect">
            <a:avLst/>
          </a:prstGeom>
          <a:ln w="38160">
            <a:solidFill>
              <a:srgbClr val="4d4d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Vértebras cervica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3229200" cy="4869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199200" y="1989000"/>
            <a:ext cx="2944800" cy="4869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348000" y="1989000"/>
            <a:ext cx="2808360" cy="2305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71840" y="4451400"/>
            <a:ext cx="254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1: </a:t>
            </a:r>
            <a:r>
              <a:rPr b="0" lang="es-ES" sz="1800" spc="-1" strike="noStrike">
                <a:solidFill>
                  <a:srgbClr val="006699"/>
                </a:solidFill>
                <a:latin typeface="Tahoma"/>
              </a:rPr>
              <a:t>Atla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. Articula con el hueso occi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2: </a:t>
            </a:r>
            <a:r>
              <a:rPr b="0" lang="es-ES" sz="1800" spc="-1" strike="noStrike">
                <a:solidFill>
                  <a:srgbClr val="006699"/>
                </a:solidFill>
                <a:latin typeface="Tahoma"/>
              </a:rPr>
              <a:t>Axi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. Saliente vert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Vértebras dorsales y lumba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564000" y="2060640"/>
            <a:ext cx="4890960" cy="2438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35280" y="4616280"/>
            <a:ext cx="5219640" cy="2241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43560" y="293688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értebra do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05120" y="502596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értebra lum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acro y cox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4087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esos del tóra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58920" y="2178000"/>
            <a:ext cx="7058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intura escapul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575928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xtremidades superio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3476520" cy="4535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708360" y="2060640"/>
            <a:ext cx="54356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intura pélvic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42920" y="2095560"/>
            <a:ext cx="6912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xtremidades inferio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405240" cy="4653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924360" y="4754520"/>
            <a:ext cx="3382920" cy="2103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932360" y="1484280"/>
            <a:ext cx="40323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9800" y="476280"/>
            <a:ext cx="3668760" cy="6381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284720" y="476280"/>
            <a:ext cx="38163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stema muscul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605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dos por músculos esqueléticos de fibra muscular estri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os a huesos por los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tendo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mientos volun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ic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glu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b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ción de vísc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tenimiento de la postura corpo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511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nciones del esquelet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porte del cuerp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ge órgan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claje de múscul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el movimi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élulas sanguíneas, en la médula ósea ro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acén de calcio y fósforo, en relación con la sang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acena grasas en la médula ósea amarill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úsculo esquelétic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87280" y="2077920"/>
            <a:ext cx="612144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ipos de múscul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9280" y="2192400"/>
            <a:ext cx="4321440" cy="38242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95320" y="2133720"/>
            <a:ext cx="4179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gún su for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usifor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lan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nch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rbicula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fínte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gún su fun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lexores y extensores: doblan y extien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bductores y aductores: Alejan y acerca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nadores y supinadores: Giran hacia abajo y hacia arrib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úsculos de la cabez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5342040" cy="4114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505480" y="2276640"/>
            <a:ext cx="36385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úsculos del cuell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5688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6973920" cy="7318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remidades superiores e inferi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3244680" cy="6021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735440" y="1125360"/>
            <a:ext cx="34084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457520" cy="6308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896000" y="549360"/>
            <a:ext cx="4248000" cy="6308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68360" y="0"/>
            <a:ext cx="4896000" cy="627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úsculos del tron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74840" y="476280"/>
            <a:ext cx="63133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ipos de hues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41828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Largo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redomina la longitud. Tiene dos extremos o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epífis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 un cuerpo o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diáfis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Fém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Corto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dimensiones aproximadamente iguales. Carpian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Plano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ctúan como protectores de órganos o para la inserción muscu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Irregular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Vértebras, huesos de la ca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48120" y="2060640"/>
            <a:ext cx="41734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Osteogéne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1997" r="0" b="11980"/>
          <a:stretch/>
        </p:blipFill>
        <p:spPr>
          <a:xfrm>
            <a:off x="5508720" y="476280"/>
            <a:ext cx="3446280" cy="6381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2227320"/>
            <a:ext cx="5041800" cy="44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ipos de articulacion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ahoma"/>
              </a:rPr>
              <a:t>Sinartrosi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 Fi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ahoma"/>
              </a:rPr>
              <a:t>Anfiartrosi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 Movimiento limitado. Huesos separados por cartílagos y unidos por ligamen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ahoma"/>
              </a:rPr>
              <a:t>Diartrosi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 Amplio movimiento. Los huesos tienen bolsa sinovial que contiene líquido sinovial. Unidos por ligamen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2205000"/>
            <a:ext cx="44672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squeleto de la cabez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600200"/>
            <a:ext cx="763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ráne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273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ietales 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cipit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les 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moi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fenoi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62276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ar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64000" y="2133720"/>
            <a:ext cx="338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ó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netes 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sales 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rimales 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lares 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ilares superiores 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latinos 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ilar infer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oi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tillo, yunque y estrib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2727360"/>
            <a:ext cx="518472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umna vertebr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483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33-34 vérteb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os curvaturas convexas: cervical y lumb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os curvaturas cóncavas: dorsal y sac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g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ervical: 7 vérte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orsal: 12 vérte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umbar: 5 vérte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acra: 5 vértebras solda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xígea: 4-5 vértebras soldadas (cox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3054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6:18:50Z</dcterms:created>
  <dc:creator>Daniel</dc:creator>
  <dc:description/>
  <dc:language>en-US</dc:language>
  <cp:lastModifiedBy>Daniel</cp:lastModifiedBy>
  <dcterms:modified xsi:type="dcterms:W3CDTF">2010-03-07T17:40:29Z</dcterms:modified>
  <cp:revision>8</cp:revision>
  <dc:subject/>
  <dc:title>Tema 9: Aparato Locomotor. Los sistemas esquelético y muscular</dc:title>
</cp:coreProperties>
</file>