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24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71D0-D251-4AE8-8055-254AE818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4AC-3912-4D49-BF8C-A0EDA158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744-2EE3-4E46-AE91-4E106484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F40-D0CA-43EF-AB5C-69AF1BE9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4698-67F5-4159-81BF-AFEB3C6E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53FE-0388-43EB-9871-824C1987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85DD-0B67-4C8C-B1E6-AFB7F408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AA56-478B-4D0F-A1AB-DAC54C03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D118-646F-4121-BE4D-BF35C16F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2A60-A24B-40EA-B15A-7A820AA4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9F2D-6CEE-40A4-8B59-69288B4B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35A-8AD3-4BC3-A92B-365B8E4F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F816-DE3B-4947-A51B-40B38DB0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D81E-7EF6-424C-B01B-E92271E1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24EE-D246-4969-86EE-76C078BA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E482-D38A-4639-B52F-B9683766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72ED-9C36-46C6-B5B4-3EC39DF2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B30-38DD-49AC-958E-6DBC8EFE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CB6-34E5-400C-BC85-218F49AE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0FC-042F-47C9-B28E-056D63B5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286-07C5-48DD-88C3-D6248980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FFC-4228-4FCB-967F-7BF07039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BC5A-9FFD-40FF-88E9-97D541CB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D29-4768-41DE-B6C0-59AC69A2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4d4d4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0c0c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5193-74E2-4016-8923-B25C0C21CEE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d4d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18A8-BEF6-43AF-B17C-74B39FC61B9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0c0c0"/>
              </a:buClr>
              <a:buSzPct val="5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SzPct val="6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3840" cy="21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ma 9: Aparato Locomotor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os sistemas esquelético y muscul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4764" t="0" r="20300" b="0"/>
          <a:stretch/>
        </p:blipFill>
        <p:spPr>
          <a:xfrm>
            <a:off x="5796000" y="3213000"/>
            <a:ext cx="2992320" cy="3454560"/>
          </a:xfrm>
          <a:prstGeom prst="rect">
            <a:avLst/>
          </a:prstGeom>
          <a:ln w="38160">
            <a:solidFill>
              <a:srgbClr val="4d4d4d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2520" t="3489" r="2520" b="3489"/>
          <a:stretch/>
        </p:blipFill>
        <p:spPr>
          <a:xfrm>
            <a:off x="1332000" y="3789360"/>
            <a:ext cx="4070160" cy="2879640"/>
          </a:xfrm>
          <a:prstGeom prst="rect">
            <a:avLst/>
          </a:prstGeom>
          <a:ln w="38160">
            <a:solidFill>
              <a:srgbClr val="4d4d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értebras cervica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3229200" cy="486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199200" y="1989000"/>
            <a:ext cx="2944800" cy="4869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348000" y="1989000"/>
            <a:ext cx="2808360" cy="2305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71840" y="4451400"/>
            <a:ext cx="254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1: </a:t>
            </a:r>
            <a:r>
              <a:rPr b="0" lang="es-ES" sz="1800" spc="-1" strike="noStrike">
                <a:solidFill>
                  <a:srgbClr val="006699"/>
                </a:solidFill>
                <a:latin typeface="Tahoma"/>
              </a:rPr>
              <a:t>Atla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. Articula con el hueso occi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2: </a:t>
            </a:r>
            <a:r>
              <a:rPr b="0" lang="es-ES" sz="1800" spc="-1" strike="noStrike">
                <a:solidFill>
                  <a:srgbClr val="006699"/>
                </a:solidFill>
                <a:latin typeface="Tahoma"/>
              </a:rPr>
              <a:t>Axi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. Saliente ver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értebras dorsales y lumba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4890960" cy="2438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35280" y="4616280"/>
            <a:ext cx="5219640" cy="2241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43560" y="293688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értebra do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05120" y="502596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értebra lum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acro y cox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4087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esos del tóra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8920" y="2178000"/>
            <a:ext cx="7058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intura escapul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75928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tremidades superio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476520" cy="4535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708360" y="2060640"/>
            <a:ext cx="54356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intura pélvic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42920" y="2095560"/>
            <a:ext cx="6912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tremidades inferio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405240" cy="4653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924360" y="4754520"/>
            <a:ext cx="3382920" cy="2103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932360" y="1484280"/>
            <a:ext cx="40323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9800" y="476280"/>
            <a:ext cx="3668760" cy="6381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84720" y="476280"/>
            <a:ext cx="38163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stema muscul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605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dos por músculos esqueléticos de fibra muscular estri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os a huesos por los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tendo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mientos volun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glu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b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ción de vísc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tenimiento de la postura corpo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443640" y="3284640"/>
            <a:ext cx="2511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ciones del esquelet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porte del cuerp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ge órgan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claje de múscul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el movi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élulas sanguíneas, en la médula ósea ro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acén de calcio y fósforo, en relación con la sang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acena grasas en la médula ósea amarill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úsculo esquelétic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87280" y="2077920"/>
            <a:ext cx="612144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os de múscul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2192400"/>
            <a:ext cx="4321440" cy="3824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95320" y="2133720"/>
            <a:ext cx="417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gún su for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usi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lan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nch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rbicula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fínte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gún su fun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lexores y extensores: doblan y extien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bductores y aductores: Alejan y acerca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nadores y supinadores: Giran hacia abajo y hacia arrib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úsculos de la cabez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5342040" cy="4114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505480" y="2276640"/>
            <a:ext cx="36385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úsculos del cuell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688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973920" cy="7318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remidades superiores e inferi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3244680" cy="6021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35440" y="1125360"/>
            <a:ext cx="34084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457520" cy="6308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896000" y="549360"/>
            <a:ext cx="4248000" cy="6308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68360" y="0"/>
            <a:ext cx="4896000" cy="627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úsculos del tron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74840" y="476280"/>
            <a:ext cx="63133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os de hues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41828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Larg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redomina la longitud. Tiene dos extremos o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epífis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 un cuerpo o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diáfis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Fém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Cort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imensiones aproximadamente iguales. Carpian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Plan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ctúan como protectores de órganos o para la inserción muscu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Irregular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Vértebras, huesos de la ca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48120" y="2060640"/>
            <a:ext cx="41734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ahoma"/>
              </a:rPr>
              <a:t>Osteogéne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1997" r="0" b="11980"/>
          <a:stretch/>
        </p:blipFill>
        <p:spPr>
          <a:xfrm>
            <a:off x="5508720" y="476280"/>
            <a:ext cx="3446280" cy="6381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2227320"/>
            <a:ext cx="5041800" cy="44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os de articulacion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ahoma"/>
              </a:rPr>
              <a:t>Sinartrosi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 Fi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ahoma"/>
              </a:rPr>
              <a:t>Anfiartrosi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 Movimiento limitado. Huesos separados por cartílagos y unidos por ligamen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Tahoma"/>
              </a:rPr>
              <a:t>Diartrosi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 Amplio movimiento. Los huesos tienen bolsa sinovial que contiene líquido sinovial. Unidos por ligamen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2205000"/>
            <a:ext cx="44672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queleto de la cabez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632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ráne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73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ietales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cipit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les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moi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fenoi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6227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a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64000" y="2133720"/>
            <a:ext cx="338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ó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nete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sale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rimale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lare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lares superiore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latinos 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lar infer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oi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tillo, yunque y estrib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2727360"/>
            <a:ext cx="518472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umna vertebr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483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33-34 vérteb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os curvaturas convexas: cervical y lumb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os curvaturas cóncavas: dorsal y sac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d4d4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g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ervical: 7 vérte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orsal: 12 vérte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umbar: 5 vérte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acra: 5 vértebras sold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xígea: 4-5 vértebras soldadas (cox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054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6:18:50Z</dcterms:created>
  <dc:creator>Daniel</dc:creator>
  <dc:description/>
  <dc:language>en-US</dc:language>
  <cp:lastModifiedBy>Daniel</cp:lastModifiedBy>
  <dcterms:modified xsi:type="dcterms:W3CDTF">2010-03-07T17:40:29Z</dcterms:modified>
  <cp:revision>8</cp:revision>
  <dc:subject/>
  <dc:title>Tema 9: Aparato Locomotor. Los sistemas esquelético y muscular</dc:title>
</cp:coreProperties>
</file>