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2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42A-7AEB-4D26-BEBC-71E72F39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C37-8195-4D14-8162-557FCA42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0AC-F3F0-466F-AC4B-719B6D2E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B92-8993-4672-8850-E4D7BECC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F44F-8E92-46A9-8CFF-50B0AE02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B7C9-6EA3-4842-BBF8-E689335D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31C8-A9DA-4643-B78A-7A1D8D5F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0CF1-B432-4F72-9B43-F1033441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AF89-C27B-477D-99AE-9BAA3D95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6567-3184-4E54-B22A-1362BC9D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A71E-FC03-424A-99B4-B984397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C4B-82D9-4036-B624-EF7DCB27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FE0A-A571-4435-8DCB-BF17AFF8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969B-91BE-45BC-AA86-6B9CFBF1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0411-6440-468B-B584-DF4B6F47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2D4B-D115-4B1F-8E97-C01EE901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3827-08EF-4EFF-939D-7E41CD34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5F9-2955-480C-9487-31B4BE6B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D5F-8549-46FF-B446-E2BCAFB5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2D6-AD4E-4955-AC8D-E3421948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544-23BF-4E4A-8697-4D564B3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E9A-105C-47E6-AC7C-70CA3ED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44D-C85B-4D57-A107-DAEEF675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EEE-AF81-4116-AC8F-D05DFCB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0c0c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EE8D-0C4F-42B1-ADF1-A14722A5627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5868-76C3-469F-9F50-1D5BA878290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5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SzPct val="6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384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ma 9: Aparato Locomoto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s sistemas esquelético y musc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4764" t="0" r="20300" b="0"/>
          <a:stretch/>
        </p:blipFill>
        <p:spPr>
          <a:xfrm>
            <a:off x="5796000" y="3213000"/>
            <a:ext cx="2992320" cy="345456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2520" t="3489" r="2520" b="3489"/>
          <a:stretch/>
        </p:blipFill>
        <p:spPr>
          <a:xfrm>
            <a:off x="1332000" y="3789360"/>
            <a:ext cx="4070160" cy="287964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értebras cervica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229200" cy="486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99200" y="1989000"/>
            <a:ext cx="2944800" cy="4869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2808360" cy="230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71840" y="4451400"/>
            <a:ext cx="254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1: </a:t>
            </a:r>
            <a:r>
              <a:rPr b="0" lang="es-ES" sz="1800" spc="-1" strike="noStrike">
                <a:solidFill>
                  <a:srgbClr val="006699"/>
                </a:solidFill>
                <a:latin typeface="Tahoma"/>
              </a:rPr>
              <a:t>Atla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. Articula con el hueso occi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2: </a:t>
            </a:r>
            <a:r>
              <a:rPr b="0" lang="es-ES" sz="1800" spc="-1" strike="noStrike">
                <a:solidFill>
                  <a:srgbClr val="006699"/>
                </a:solidFill>
                <a:latin typeface="Tahoma"/>
              </a:rPr>
              <a:t>Ax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. Saliente ver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értebras dorsales y lumba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4890960" cy="243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35280" y="4616280"/>
            <a:ext cx="5219640" cy="2241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43560" y="293688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értebra do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5120" y="502596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értebra lu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cro y cox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408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esos del tóra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2178000"/>
            <a:ext cx="7058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intura escap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5928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tremidades superio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476520" cy="453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08360" y="2060640"/>
            <a:ext cx="54356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intura pélv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2095560"/>
            <a:ext cx="6912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tremidades inferio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405240" cy="4653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24360" y="4754520"/>
            <a:ext cx="3382920" cy="2103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4032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9800" y="476280"/>
            <a:ext cx="3668760" cy="638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3816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musc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605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dos por músculos esqueléticos de fibra muscular estri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os a huesos por los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tendo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mientos volu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gl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b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ción de vísc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la postura corpo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11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ciones del esquelet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porte del cuer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ge órg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laje de múscul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el movi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élulas sanguíneas, en la médula ósea ro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acén de calcio y fósforo, en relación con la sang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acena grasas en la médula ósea amaril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úsculo esquelétic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7280" y="2077920"/>
            <a:ext cx="612144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os de múscul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2192400"/>
            <a:ext cx="4321440" cy="3824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95320" y="2133720"/>
            <a:ext cx="417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gún su fo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usi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lan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nch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rbicul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fínte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gún su fun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lexores y extensores: doblan y extien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bductores y aductores: Alejan y acerc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nadores y supinadores: Giran hacia abajo y hacia arrib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úsculos de la cabe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5342040" cy="411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05480" y="2276640"/>
            <a:ext cx="3638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úsculos del cuell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88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973920" cy="731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emidades superiores e inferi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244680" cy="6021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35440" y="1125360"/>
            <a:ext cx="34084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457520" cy="6308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96000" y="549360"/>
            <a:ext cx="4248000" cy="630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8360" y="0"/>
            <a:ext cx="4896000" cy="627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úsculos del tron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4840" y="476280"/>
            <a:ext cx="63133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os de hue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4182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Larg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edomina la longitud. Tiene dos extremos o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epífi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un cuerpo o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diáfi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Fém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Cort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imensiones aproximadamente iguales. Carpian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Plan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ctúan como protectores de órganos o para la inserción muscu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Irregula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Vértebras, huesos de la ca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48120" y="2060640"/>
            <a:ext cx="4173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Osteogéne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997" r="0" b="11980"/>
          <a:stretch/>
        </p:blipFill>
        <p:spPr>
          <a:xfrm>
            <a:off x="5508720" y="476280"/>
            <a:ext cx="3446280" cy="6381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227320"/>
            <a:ext cx="504180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os de articul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ahoma"/>
              </a:rPr>
              <a:t>Sinartrosi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Fi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ahoma"/>
              </a:rPr>
              <a:t>Anfiartrosi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Movimiento limitado. Huesos separados por cartílagos y unidos por ligame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ahoma"/>
              </a:rPr>
              <a:t>Diartrosi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Amplio movimiento. Los huesos tienen bolsa sinovial que contiene líquido sinovial. Unidos por ligame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2205000"/>
            <a:ext cx="4467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queleto de la cabe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ráne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73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ietale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ip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le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m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fen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6227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64000" y="2133720"/>
            <a:ext cx="33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ó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net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sal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rimal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ar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lares superior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latino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lar infer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oi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tillo, yunque y estrib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2727360"/>
            <a:ext cx="51847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umna vertebr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483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3-34 vérteb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os curvaturas convexas: cervical y lumb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os curvaturas cóncavas: dorsal y sac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ervical: 7 vérte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orsal: 12 vérte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umbar: 5 vérte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acra: 5 vértebras sold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xígea: 4-5 vértebras soldadas (cox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054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6:18:50Z</dcterms:created>
  <dc:creator>Daniel</dc:creator>
  <dc:description/>
  <dc:language>en-US</dc:language>
  <cp:lastModifiedBy>Daniel</cp:lastModifiedBy>
  <dcterms:modified xsi:type="dcterms:W3CDTF">2010-03-07T17:40:29Z</dcterms:modified>
  <cp:revision>8</cp:revision>
  <dc:subject/>
  <dc:title>Tema 9: Aparato Locomotor. Los sistemas esquelético y muscular</dc:title>
</cp:coreProperties>
</file>