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1CD-3905-48B4-9052-5EF41370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870-65C7-4213-B5AE-02B4B3C0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C22-DAFC-425B-89D8-D2070A1F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9C8-B97F-4BA5-9328-A246E6DF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C0E1-1961-41D5-A165-B56FA01D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E1B8-2E2C-4D75-B668-F75D81C0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8AE6-12D8-4CCF-978E-E87EDDF3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F7FC-95C7-495B-91D7-7FB377DC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C840-87A9-4FA0-8F94-494050DD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A7AE-8783-44C3-A334-8041FE1A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A518-21EE-441A-9C2B-5A83687B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3FD3-DBE3-4655-86E5-1A2E380A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E1F8-DCD9-4B64-A37B-CE70A678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0F3F-A487-4D1B-89B8-F7D2DCFD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CC96-E9D1-4539-9D69-7B44E915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46FE-C456-4A22-86B9-65261E5C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5096-0AD9-4DEB-A16B-BABD980F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DD1-3429-42DE-8032-63B2F109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BA7-74D4-4BDA-B8E5-120490A0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05D-4DFD-44F6-884F-46056284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295-1BFE-4204-B145-B0930330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480-9B44-47DB-A8BC-C264B1F0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B2C-6DFC-4EB0-AAFB-A529C89B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A88-FAE3-41A9-BC7C-F54A0C45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05EF-887B-4174-891B-5B0C42FFC097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793D-6F39-43FA-AFAE-C0F9BFB5ADE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a/Lspn_comet_halley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b2b2b2"/>
                </a:solidFill>
                <a:latin typeface="Arial"/>
              </a:rPr>
              <a:t>EL SISTEMA SOLA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INTURÓN DE ASTEROI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2403360"/>
            <a:ext cx="4038480" cy="2922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asteroides son cuerpos rocosos que vagan por el Sistema Sol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momento se conocen más de 40.000 asteroides con un diámetro de más de 800 metr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ólo los más grandes tienen una forma esférica; la gran mayoría son mucho más pequeños e irregul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orman un anillo alrededor del Sol entre Marte y Júpit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s órbitas tienen una gran excentricidad y una fuerte inclinación sobre la eclíptic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ngún asteroide de los conocidos tiene movimiento retrógrad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masa de todos no supera la masa de nuestro satélite natural, la Lu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E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t. media del Sol: 2,77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679,819 d (4,6 añ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0,587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932 K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0,3781 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mperatura superficial media: -106 º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92720" y="2421000"/>
            <a:ext cx="35244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JÚPI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,203 U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a 315d 1,1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,3053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3 conoci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42.984 k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9h 55,5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,12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mperatura superficial media: 121,15 º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27640" y="1768320"/>
            <a:ext cx="471636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ATÉLITES GALILEAN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34920" y="4653000"/>
            <a:ext cx="8017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44370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372360" y="1844640"/>
            <a:ext cx="2454120" cy="2454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796000" y="4668840"/>
            <a:ext cx="2174760" cy="2189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68360" y="1916280"/>
            <a:ext cx="223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67280" y="2997360"/>
            <a:ext cx="2448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NÍME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149720"/>
            <a:ext cx="223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LI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ATÉLITES GALILEAN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600200"/>
          <a:ext cx="8229600" cy="4146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METRO (K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A (K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 ORBITAL MEDIO (Km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ODO ORBITAL (día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4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4X10</a:t>
                      </a:r>
                      <a:r>
                        <a:rPr b="0" lang="es-E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X10</a:t>
                      </a:r>
                      <a:r>
                        <a:rPr b="0" lang="es-E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1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NÍMED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8X10</a:t>
                      </a:r>
                      <a:r>
                        <a:rPr b="0" lang="es-E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0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IS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X10</a:t>
                      </a:r>
                      <a:r>
                        <a:rPr b="0" lang="es-E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27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ATUR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7345440" cy="3755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395928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9,54 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9a 167d 6,7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,48446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6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,20536·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0h 13m 59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6,73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-130 ºC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ANILLOS DE SATUR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extienden en el plano ecuatorial del planeta desde los 6630 km a los 120700 km por encima del ecuador de Satur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án compuestos de partículas con abundante agua helada. El tamaño de cada una de las partículas varía desde partículas microscópicas de polvo hasta rocas de unos pocos metros de tamañ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995480"/>
            <a:ext cx="82296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TITÁ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yor satélite de Saturno y el segundo satélite más grande del Sistema So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e descubierto el 25 de marzo de 1655 por  Christiaan Huyge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ámetro de 5150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la única luna del Sistema Solar que cuenta con una atmósfera significativ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56000" y="1681200"/>
            <a:ext cx="504036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5076720" cy="5049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URA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19,19 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84a 3d 15,66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,76986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51.118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17h 14m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(movimiento retrógrado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97,86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-205 ºC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ATÉLITES DE URA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228600" y="2276640"/>
            <a:ext cx="9372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24360" y="1916280"/>
            <a:ext cx="5508720" cy="4130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EL SO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86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ámetro: 1.392.000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olumen: 1,41 × 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27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sa: 1,9891 × 10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nsidad: 1411 kg/m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ravedad en la superficie: 274 m/s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27,9 g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de la superficie: 5780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riodo de rotación en el ecuador: 27d6h36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riodo orbital alrededor del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entro galáctico: 2,2 × 108 a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NEPTU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30,07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64a 288d 13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,76917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3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49.572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6h 6,5m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9,58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-220 º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467240" y="1989000"/>
            <a:ext cx="467676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324320" y="1557360"/>
            <a:ext cx="4819680" cy="3056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PLUTÓ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9,44 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48a 197d 5,5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7,14175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302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6d 9h 17,6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19,61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-229 º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ATÉLITES DE PLUTÓ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RONTE es el satélite más grande en comparación con su planeta huésped. Se les considera como un planeta doble, pues el centro de masas queda fuera de Plutó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IDRA Y NIX son más pequeños. Sus órbitas son muy exteriores, por lo que son satélites del sistema Plutón-Caron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OMET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erpos celestes constituidos por hielo y rocas que orbitan el Sol siguiendo órbitas muy elípticas. Forman parte del Sistema Sol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mayoría de estos cuerpos celestes describen órbitas elípticas de gran excentricidad, lo que produce su acercamiento al Sol con un período considerab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cometas están compuestos de agua, hielo seco, amoníaco, metano, hierro, magnesio y silicatos. Debido a las bajas temperaturas de los lugares donde se hallan, estas sustancias que componen al cometa se encuentran congelad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legan a tener diámetros de algunas decenas de kilómetr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8320" y="2508120"/>
            <a:ext cx="40384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OMET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gran distancia (a partir de 5-10 UA) desarrollan una atmósfera que envuelve al núcleo, llamada </a:t>
            </a:r>
            <a:r>
              <a:rPr b="0" i="1" lang="es-ES" sz="2000" spc="-1" strike="noStrike">
                <a:solidFill>
                  <a:srgbClr val="ffcc66"/>
                </a:solidFill>
                <a:latin typeface="Arial"/>
              </a:rPr>
              <a:t>com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 Esta coma está formada por gas y polv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fotones que provienen del Sol (viento solar) hacen que las sustancias que forman al cometa se empiecen a calentar y se sublimen, pasando directamente de hielo a g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gases del cometa se proyectan hacia atrás, lo que motiva la formación de la 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</a:rPr>
              <a:t>col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punta en dirección opuesta al Sol y extendiéndose millones de kilóme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714920" y="2546280"/>
            <a:ext cx="39052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COMETA HALLE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un cometa grande y brillante que orbita alrededor del Sol cada 76 años en promedio, aunque su período orbital puede oscilar entre 74 y 79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uno de los mejor conocidos y más brillantes de los cometas de "periodo corto" del cinturón de Kuip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le observó por última vez en el año 1986 en las cercanías de la órbita de la tierra, se calcula que la siguiente visita sea en el año 2061; la anterior ocurrió en el año 19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unque existen otros cometas más brillantes, el Halley es el único cometa de ciclo corto que es visible a simple vista, por lo que del mismo existen muchas referencias de sus apariciones, y es el mejor document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Imagen:Lspn comet halley.jpg">
            <a:hlinkClick r:id="rId1"/>
          </p:cNvPr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716360" y="1989000"/>
            <a:ext cx="442764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MERCURI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0,387 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87d 23,23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7,004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.879,4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8d 15,5088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0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mperatura superficial media: 179º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59160" y="1844640"/>
            <a:ext cx="488484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032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,72 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24,701 d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,39471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2.103,6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-243,0187 d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,64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464º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7640" y="1893960"/>
            <a:ext cx="47163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40360" y="1389240"/>
            <a:ext cx="5003640" cy="5003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TIER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 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65,2564 dí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0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 (Lu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ámetro ecuatorial: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2756,28 k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3,9345 hor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3,45 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mperatura superficial media: 10º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TIERRA - LUN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8803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LUN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84720" y="138924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adio orbital medio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84.40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7d 7h 43,7m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,1454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télite de la Tier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.474,8 k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7d 7h 43,7m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,5424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mperatura superficial media: -153º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MAR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t. media del So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27.936.640 km (1,5 U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orbital (sideral)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86,98 dí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orbit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,85061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atélites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 (Fobos y Deim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ecuator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.794,4 k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eríodo de rotación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4,6229 hor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linación axial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5,19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mperatura superficial media: -46 º 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184644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FOBOS Y DEIM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OB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de 27 x 21 x 19 k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ravita a 6.100 km de altitu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iodo orbital 7 h 39 min 14 s. Al ser su revolución mucho más rápida que la rotación del planeta sobre sí mismo, el satélite parece como si describiera un movimiento retrógrado: se le ve amanecer por el Oeste y ponerse por el Es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I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de 15 x 12 x 11 k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ravita a 20.000 km de altitu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iodo orbital 30 h 17 min 55 s. Su revolución es un poco más duradera que la rotación del planeta, lo cual hace que el satélite se mueva lentamente en el cielo: tarda 64 horas entre su salida, por el Este y su puesta, por el Oes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2803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6:16:17Z</dcterms:created>
  <dc:creator>Dani</dc:creator>
  <dc:description/>
  <dc:language>en-US</dc:language>
  <cp:lastModifiedBy>Dani</cp:lastModifiedBy>
  <dcterms:modified xsi:type="dcterms:W3CDTF">2008-11-18T15:21:21Z</dcterms:modified>
  <cp:revision>13</cp:revision>
  <dc:subject/>
  <dc:title>EL S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