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C8B-4461-4480-B115-817FA82F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B89-835F-4817-BA10-D636A118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336-0C16-464C-9E97-D2D8D3B5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356-DD48-4D9A-9D30-24A7FDD2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75D7-A09A-4AC0-9B78-88DA19AF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93E8-6CBC-4490-9474-D88EEDF2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8059-6697-40F6-8DBC-E43BEB63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B67D-636B-423C-9E6E-6240535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1371-B22E-432E-B00F-A858AAD3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5E3D-F6D2-4ECF-8559-8E543ECA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BF26-1ED8-49A2-BD3D-07C08DE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156-871A-48BA-830A-2C2F4E32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35B2-30CF-4F3D-BE2C-4F41B5D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F494-725D-4D47-A15D-247CCFA5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0190-07FB-4C90-9FD8-DBE60A0D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70E2-9C77-4C7E-97E6-43A49B89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CBB2-D1A4-4B31-B8BA-D617B668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F58-FD2D-4A53-B0E5-CEDE1388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53A-30D4-45D5-BEC1-844804C2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CBA-A056-49C7-92CF-B0EBEF79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1B7-70A7-41E8-8F82-F249E4B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245-D226-4EBA-AA49-8FF0B70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9B5-A640-429B-B9A6-C7AE2F04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EEE-E511-4635-B0F5-9D812724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DBC2-C275-4E7C-BE08-16F13843A90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8AFE-F81B-49AB-9816-BA103DD2719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a/Lspn_comet_halley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EL SISTEMA SOL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INTURÓN DE ASTEROI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2403360"/>
            <a:ext cx="4038480" cy="2922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asteroides son cuerpos rocosos que vagan por el Sistema So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momento se conocen más de 40.000 asteroides con un diámetro de más de 800 metr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ólo los más grandes tienen una forma esférica; la gran mayoría son mucho más pequeños e irregu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orman un anillo alrededor del Sol entre Marte y Júpi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s órbitas tienen una gran excentricidad y una fuerte inclinación sobre la eclíptic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ngún asteroide de los conocidos tiene movimiento retrógrad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asa de todos no supera la masa de nuestro satélite natural, la Lu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E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2,77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79,819 d (4,6 añ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,587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32 K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,3781 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-106 º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3524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JÚPI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,203 U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a 315d 1,1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,3053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3 conoci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984 k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h 55,5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,12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121,15 º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27640" y="1768320"/>
            <a:ext cx="471636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GALILE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34920" y="4653000"/>
            <a:ext cx="801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4370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372360" y="1844640"/>
            <a:ext cx="2454120" cy="245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796000" y="4668840"/>
            <a:ext cx="2174760" cy="2189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68360" y="1916280"/>
            <a:ext cx="223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7280" y="2997360"/>
            <a:ext cx="2448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NÍM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149720"/>
            <a:ext cx="223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LI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GALILE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146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METRO (K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 (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ORBITAL MEDIO (K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O ORBITAL (día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4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1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NÍME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8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S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2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UR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7345440" cy="3755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395928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9,54 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9a 167d 6,7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,48446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6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,20536·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0h 13m 59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6,73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130 ºC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ANILLOS DE SATUR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extienden en el plano ecuatorial del planeta desde los 6630 km a los 120700 km por encima del ecuador de Satu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án compuestos de partículas con abundante agua helada. El tamaño de cada una de las partículas varía desde partículas microscópicas de polvo hasta rocas de unos pocos metros de tamañ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TITÁ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yor satélite de Saturno y el segundo satélite más grande del Sistema So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e descubierto el 25 de marzo de 1655 por  Christiaan Huyge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ámetro de 5150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la única luna del Sistema Solar que cuenta con una atmósfera significativ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6000" y="1681200"/>
            <a:ext cx="50403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5076720" cy="5049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URA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19,19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84a 3d 15,66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,76986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51.118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17h 14m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movimiento retrógrad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97,86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205 ºC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DE URA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228600" y="2276640"/>
            <a:ext cx="9372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24360" y="1916280"/>
            <a:ext cx="5508720" cy="4130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L S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86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ámetro: 1.392.00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olumen: 1,41 × 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2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sa: 1,9891 × 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nsidad: 1411 kg/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ravedad en la superficie: 274 m/s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27,9 g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de la superficie: 5780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iodo de rotación en el ecuador: 27d6h36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iodo orbital alrededor del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ntro galáctico: 2,2 × 108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NEPTU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30,0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64a 288d 13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,76917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9.572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6h 6,5m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9,58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220 º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467240" y="1989000"/>
            <a:ext cx="46767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324320" y="1557360"/>
            <a:ext cx="4819680" cy="3056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PLUT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9,44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48a 197d 5,5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7,14175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302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6d 9h 17,6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19,61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229 º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DE PLUT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RONTE es el satélite más grande en comparación con su planeta huésped. Se les considera como un planeta doble, pues el centro de masas queda fuera de Plut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IDRA Y NIX son más pequeños. Sus órbitas son muy exteriores, por lo que son satélites del sistema Plutón-Caron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ME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erpos celestes constituidos por hielo y rocas que orbitan el Sol siguiendo órbitas muy elípticas. Forman parte del Sistema So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ayoría de estos cuerpos celestes describen órbitas elípticas de gran excentricidad, lo que produce su acercamiento al Sol con un período considera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cometas están compuestos de agua, hielo seco, amoníaco, metano, hierro, magnesio y silicatos. Debido a las bajas temperaturas de los lugares donde se hallan, estas sustancias que componen al cometa se encuentran congelad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egan a tener diámetros de algunas decenas de kilómetr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2508120"/>
            <a:ext cx="4038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ME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gran distancia (a partir de 5-10 UA) desarrollan una atmósfera que envuelve al núcleo, llamada </a:t>
            </a:r>
            <a:r>
              <a:rPr b="0" i="1" lang="es-ES" sz="2000" spc="-1" strike="noStrike">
                <a:solidFill>
                  <a:srgbClr val="ffcc66"/>
                </a:solidFill>
                <a:latin typeface="Arial"/>
              </a:rPr>
              <a:t>co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 Esta coma está formada por gas y pol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fotones que provienen del Sol (viento solar) hacen que las sustancias que forman al cometa se empiecen a calentar y se sublimen, pasando directamente de hielo a g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gases del cometa se proyectan hacia atrás, lo que motiva la formación de la 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col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punta en dirección opuesta al Sol y extendiéndose millones de kilóme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4920" y="2546280"/>
            <a:ext cx="39052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META HALLE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cometa grande y brillante que orbita alrededor del Sol cada 76 años en promedio, aunque su período orbital puede oscilar entre 74 y 79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o de los mejor conocidos y más brillantes de los cometas de "periodo corto" del cinturón de Kuip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le observó por última vez en el año 1986 en las cercanías de la órbita de la tierra, se calcula que la siguiente visita sea en el año 2061; la anterior ocurrió en el año 19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unque existen otros cometas más brillantes, el Halley es el único cometa de ciclo corto que es visible a simple vista, por lo que del mismo existen muchas referencias de sus apariciones, y es el mejor documen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Imagen:Lspn comet halley.jpg">
            <a:hlinkClick r:id="rId1"/>
          </p:cNvPr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716360" y="1989000"/>
            <a:ext cx="44276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MERCUR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,387 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87d 23,23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,004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.879,4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8d 15,5088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179º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59160" y="1844640"/>
            <a:ext cx="48848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3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,72 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24,701 d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,39471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2.103,6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243,0187 d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,64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464º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7640" y="1893960"/>
            <a:ext cx="4716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40360" y="1389240"/>
            <a:ext cx="5003640" cy="5003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TIER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65,2564 dí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(Lu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2756,28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3,9345 hor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3,45 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10º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TIERRA - LU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8803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LU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84720" y="138924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adio orbital medio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84.40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7d 7h 43,7m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,1454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 de la Tier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.474,8 k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7d 7h 43,7m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,5424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-153º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MAR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27.936.640 km (1,5 U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86,98 dí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,85061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 (Fobos y Deim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.794,4 k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4,6229 hor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5,19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-46 º 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84644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FOBOS Y DEIM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OB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de 27 x 21 x 19 k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ravita a 6.100 km de altitu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iodo orbital 7 h 39 min 14 s. Al ser su revolución mucho más rápida que la rotación del planeta sobre sí mismo, el satélite parece como si describiera un movimiento retrógrado: se le ve amanecer por el Oeste y ponerse por el Es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I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de 15 x 12 x 11 k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ravita a 20.000 km de altitu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iodo orbital 30 h 17 min 55 s. Su revolución es un poco más duradera que la rotación del planeta, lo cual hace que el satélite se mueva lentamente en el cielo: tarda 64 horas entre su salida, por el Este y su puesta, por el Oes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2803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6:16:17Z</dcterms:created>
  <dc:creator>Dani</dc:creator>
  <dc:description/>
  <dc:language>en-US</dc:language>
  <cp:lastModifiedBy>Dani</cp:lastModifiedBy>
  <dcterms:modified xsi:type="dcterms:W3CDTF">2008-11-18T15:21:21Z</dcterms:modified>
  <cp:revision>13</cp:revision>
  <dc:subject/>
  <dc:title>EL S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