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4.jpeg" ContentType="image/jpeg"/>
  <Override PartName="/ppt/media/image25.jpeg" ContentType="image/jpeg"/>
  <Override PartName="/ppt/media/image3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61EB-B92A-4626-AAB5-E7302C168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EF57-3CBA-4224-BB14-3B88FA8EF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966A-010B-4AA2-AD2F-B8D41D74D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6129-24D1-46CA-8DB5-D02853858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99D25-1C9D-443F-B7B9-1D1A7C951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9BFA8-37D8-4BB7-8CF0-6CA871C6D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9E94C-E978-4B91-82C1-7A1FEE80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E4157-033F-40FE-8413-598F51C98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1DF7D-E75B-4696-B210-C6B17BD2A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53F3F-2456-4185-A1BE-55B9439CB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99146-E240-464B-AB37-29BED343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48E7-0102-42D6-A54F-C433DE504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E4531-C852-48B4-B879-58DB55E0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FCD9B-7ADD-4B88-97D0-1E42E1FC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5639B-5E60-4901-B2D8-1FD5B8C23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4EC69-75B8-4EC3-8CCC-7726B6378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FFE3E-0C7F-41B2-A5CA-62A9127A6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D693-CF22-48F9-89AD-25D9384A4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F9F1-AFF0-44A5-88A4-32CA9165E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96CD-5A4B-4693-91D5-B67CA36FE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8D21-1F83-4032-A5B4-8EA2B2F19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74A7-6E79-4A46-975B-E182E531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9908-293B-41B4-BA0B-B8711BEC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5521-A7C2-4462-8D8B-DA648371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71171-3987-4B8C-BAF4-99063FA2D76F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05D5A-9724-4BD7-8057-4B1A4F4BA86E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0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2/2a/Lspn_comet_halley.jpg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b2b2b2"/>
                </a:solidFill>
                <a:latin typeface="Arial"/>
              </a:rPr>
              <a:t>EL SISTEMA SOLAR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CINTURÓN DE ASTEROID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648320" y="2403360"/>
            <a:ext cx="4038480" cy="29228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69116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os asteroides son cuerpos rocosos que vagan por el Sistema Sola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 momento se conocen más de 40.000 asteroides con un diámetro de más de 800 metro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ólo los más grandes tienen una forma esférica; la gran mayoría son mucho más pequeños e irregula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orman un anillo alrededor del Sol entre Marte y Júpite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us órbitas tienen una gran excentricidad y una fuerte inclinación sobre la eclíptic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ingún asteroide de los conocidos tiene movimiento retrógrad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masa de todos no supera la masa de nuestro satélite natural, la Lun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CE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ist. media del Sol: 2,77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U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eríodo orbital (sideral)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.679,819 d (4,6 año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Inclinación orbital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0,587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Satélites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iámetro ecuatorial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932 Km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eríodo de rotación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0,3781 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Inclinación axial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4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emperatura superficial media: -106 º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292720" y="2421000"/>
            <a:ext cx="352440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JÚPITE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ist. media del Sol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5,203 U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eríodo orbital (sideral)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1a 315d 1,1h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Inclinación orbital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,3053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Satélites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63 conocido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iámetro ecuatorial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42.984 k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eríodo de rotación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9h 55,5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Inclinación axial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3,12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emperatura superficial media: 121,15 º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427640" y="1768320"/>
            <a:ext cx="471636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SATÉLITES GALILEANO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634920" y="4653000"/>
            <a:ext cx="80172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547640" y="4437000"/>
            <a:ext cx="2189160" cy="21891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2189160" cy="21891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6372360" y="1844640"/>
            <a:ext cx="2454120" cy="24544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5796000" y="4668840"/>
            <a:ext cx="2174760" cy="21891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268360" y="1916280"/>
            <a:ext cx="22323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UROP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067280" y="2997360"/>
            <a:ext cx="2448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GANÍME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716360" y="4149720"/>
            <a:ext cx="2232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LI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SATÉLITES GALILEANO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57200" y="1600200"/>
          <a:ext cx="8229600" cy="414648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B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AMETRO (Km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A (Kg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DIO ORBITAL MEDIO (Km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IODO ORBITAL (día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90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43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94X10</a:t>
                      </a:r>
                      <a:r>
                        <a:rPr b="0" lang="es-E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16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89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UROP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8X10</a:t>
                      </a:r>
                      <a:r>
                        <a:rPr b="0" lang="es-E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11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90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NÍMED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6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8X10</a:t>
                      </a:r>
                      <a:r>
                        <a:rPr b="0" lang="es-E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04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90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LIST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X10</a:t>
                      </a:r>
                      <a:r>
                        <a:rPr b="0" lang="es-E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27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6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SATURN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7345440" cy="37558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3959280" cy="52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ist. media del Sol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9,54 U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eríodo orbital (sideral)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9a 167d 6,7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nclinación orbital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,48446°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atélites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6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iámetro ecuatorial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1,20536·10</a:t>
            </a:r>
            <a:r>
              <a:rPr b="0" lang="es-ES" sz="24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eríodo de rotación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10h 13m 59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nclinación axial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6,73°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emperatura superficial media: -130 ºC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ANILLOS DE SATURN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extienden en el plano ecuatorial del planeta desde los 6630 km a los 120700 km por encima del ecuador de Satur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stán compuestos de partículas con abundante agua helada. El tamaño de cada una de las partículas varía desde partículas microscópicas de polvo hasta rocas de unos pocos metros de tamañ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57200" y="1995480"/>
            <a:ext cx="822960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TITÁ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ayor satélite de Saturno y el segundo satélite más grande del Sistema Sola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Fue descubierto el 25 de marzo de 1655 por  Christiaan Huyge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iámetro de 5150 k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 la única luna del Sistema Solar que cuenta con una atmósfera significativ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356000" y="1681200"/>
            <a:ext cx="5040360" cy="48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067280" y="1557360"/>
            <a:ext cx="5076720" cy="50497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URAN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403848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ist. media del Sol: 19,19 U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eríodo orbital (sideral)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84a 3d 15,66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nclinación orbital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0,76986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atélites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7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iámetro ecuatorial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51.118 k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eríodo de rotación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-17h 14m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(movimiento retrógrado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nclinación axial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97,86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emperatura superficial media: -205 ºC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SATÉLITES DE URAN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-228600" y="2276640"/>
            <a:ext cx="93726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924360" y="1916280"/>
            <a:ext cx="5508720" cy="41306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EL SO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1860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iámetro: 1.392.000 k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Volumen: 1,41 × 10</a:t>
            </a:r>
            <a:r>
              <a:rPr b="0" lang="es-ES" sz="2400" spc="-1" strike="noStrike" baseline="30000">
                <a:solidFill>
                  <a:srgbClr val="ffffff"/>
                </a:solidFill>
                <a:latin typeface="Arial"/>
              </a:rPr>
              <a:t>27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m</a:t>
            </a:r>
            <a:r>
              <a:rPr b="0" lang="es-E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asa: 1,9891 × 10</a:t>
            </a:r>
            <a:r>
              <a:rPr b="0" lang="es-ES" sz="2400" spc="-1" strike="noStrike" baseline="30000">
                <a:solidFill>
                  <a:srgbClr val="ffffff"/>
                </a:solidFill>
                <a:latin typeface="Arial"/>
              </a:rPr>
              <a:t>30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k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nsidad: 1411 kg/m</a:t>
            </a:r>
            <a:r>
              <a:rPr b="0" lang="es-E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Gravedad en la superficie: 274 m/s</a:t>
            </a:r>
            <a:r>
              <a:rPr b="0" lang="es-E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(27,9 g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emperatura de la superficie: 5780 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eriodo de rotación en el ecuador: 27d6h36m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eriodo orbital alrededor del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entro galáctico: 2,2 × 108 añ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NEPTUN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ist. media del Sol: 30,07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U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eríodo orbital (sideral)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164a 288d 13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nclinación orbital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1,76917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atélites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13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iámetro ecuatorial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49.572 k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eríodo de rotación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16h 6,5m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nclinación axial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9,58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emperatura superficial media: -220 º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467240" y="1989000"/>
            <a:ext cx="467676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324320" y="1557360"/>
            <a:ext cx="4819680" cy="30560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PLUTÓ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ist. media del Sol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39,44 U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eríodo orbital (sideral)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48a 197d 5,5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nclinación orbital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17,14175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atélites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3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iámetro ecuatorial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302 k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eríodo de rotación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6d 9h 17,6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nclinación axial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119,61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emperatura superficial media: -229 º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SATÉLITES DE PLUTÓ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ARONTE es el satélite más grande en comparación con su planeta huésped. Se les considera como un planeta doble, pues el centro de masas queda fuera de Plutó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HIDRA Y NIX son más pequeños. Sus órbitas son muy exteriores, por lo que son satélites del sistema Plutón-Caront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COMETA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uerpos celestes constituidos por hielo y rocas que orbitan el Sol siguiendo órbitas muy elípticas. Forman parte del Sistema Sola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mayoría de estos cuerpos celestes describen órbitas elípticas de gran excentricidad, lo que produce su acercamiento al Sol con un período considerabl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os cometas están compuestos de agua, hielo seco, amoníaco, metano, hierro, magnesio y silicatos. Debido a las bajas temperaturas de los lugares donde se hallan, estas sustancias que componen al cometa se encuentran congelada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legan a tener diámetros de algunas decenas de kilómetro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648320" y="2508120"/>
            <a:ext cx="40384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COMETA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330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 gran distancia (a partir de 5-10 UA) desarrollan una atmósfera que envuelve al núcleo, llamada </a:t>
            </a:r>
            <a:r>
              <a:rPr b="0" i="1" lang="es-ES" sz="2000" spc="-1" strike="noStrike">
                <a:solidFill>
                  <a:srgbClr val="ffcc66"/>
                </a:solidFill>
                <a:latin typeface="Arial"/>
              </a:rPr>
              <a:t>com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. Esta coma está formada por gas y polv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os fotones que provienen del Sol (viento solar) hacen que las sustancias que forman al cometa se empiecen a calentar y se sublimen, pasando directamente de hielo a ga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os gases del cometa se proyectan hacia atrás, lo que motiva la formación de la </a:t>
            </a:r>
            <a:r>
              <a:rPr b="0" lang="es-ES" sz="2000" spc="-1" strike="noStrike">
                <a:solidFill>
                  <a:srgbClr val="ffcc66"/>
                </a:solidFill>
                <a:latin typeface="Arial"/>
              </a:rPr>
              <a:t>col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apunta en dirección opuesta al Sol y extendiéndose millones de kilómetr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714920" y="2546280"/>
            <a:ext cx="390528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COMETA HALLE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s un cometa grande y brillante que orbita alrededor del Sol cada 76 años en promedio, aunque su período orbital puede oscilar entre 74 y 79 añ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s uno de los mejor conocidos y más brillantes de los cometas de "periodo corto" del cinturón de Kuipe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e le observó por última vez en el año 1986 en las cercanías de la órbita de la tierra, se calcula que la siguiente visita sea en el año 2061; la anterior ocurrió en el año 1910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unque existen otros cometas más brillantes, el Halley es el único cometa de ciclo corto que es visible a simple vista, por lo que del mismo existen muchas referencias de sus apariciones, y es el mejor documenta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Imagen:Lspn comet halley.jpg">
            <a:hlinkClick r:id="rId1"/>
          </p:cNvPr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4716360" y="1989000"/>
            <a:ext cx="4427640" cy="35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MERCURI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ist. media del Sol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0,387 U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eríodo orbital (sideral)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87d 23,23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Inclinación orbital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7,004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Satélites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iámetro ecuatorial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4.879,4 k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eríodo de rotación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58d 15,5088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Inclinación axial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0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emperatura superficial media: 179º 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259160" y="1844640"/>
            <a:ext cx="488484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VENU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4032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ist. media del Sol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0,72 U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eríodo orbital (sideral)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24,701 dí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nclinación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3,39471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atélites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iámetro ecuatorial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12.103,6 k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eríodo de rotación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-243,0187 dí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nclinación axial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,64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emperatura superficial media: 464º 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27640" y="1893960"/>
            <a:ext cx="471636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140360" y="1389240"/>
            <a:ext cx="5003640" cy="500364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TIERR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ist. media del Sol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1 U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eríodo orbital (sideral)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365,2564 dí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nclinación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0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atélites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1 (Lun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iámetro ecuatorial: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12756,28 k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eríodo de rotación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3,9345 hor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nclinación axial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3,45 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emperatura superficial media: 10º 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TIERRA - LUN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403280" y="1557360"/>
            <a:ext cx="688032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LUN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284720" y="1389240"/>
            <a:ext cx="4859280" cy="48592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Radio orbital medio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384.400 k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eríodo orbital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27d 7h 43,7mi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Inclinación orbital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5,1454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Satélite de la Tier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iámetro ecuatorial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3.474,8 k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eríodo de rotación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27d 7h 43,7mi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Inclinación axial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,5424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emperatura superficial media: -153º 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MART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ist. media del Sol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227.936.640 km (1,5 U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eríodo orbital (sideral)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686,98 dí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Inclinación orbital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,85061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Satélites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2 (Fobos y Deimo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iámetro ecuatorial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6.794,4 k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eríodo de rotación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24,6229 hor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Inclinación axial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25,19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emperatura superficial media: -46 º 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648320" y="1846440"/>
            <a:ext cx="4495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FOBOS Y DEIMO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978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OB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ide 27 x 21 x 19 km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Gravita a 6.100 km de altitud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eriodo orbital 7 h 39 min 14 s. Al ser su revolución mucho más rápida que la rotación del planeta sobre sí mismo, el satélite parece como si describiera un movimiento retrógrado: se le ve amanecer por el Oeste y ponerse por el Est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IM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ide 15 x 12 x 11 km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Gravita a 20.000 km de altitu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eriodo orbital 30 h 17 min 55 s. Su revolución es un poco más duradera que la rotación del planeta, lo cual hace que el satélite se mueva lentamente en el cielo: tarda 64 horas entre su salida, por el Este y su puesta, por el Oest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651640" y="1844640"/>
            <a:ext cx="28033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16:16:17Z</dcterms:created>
  <dc:creator>Dani</dc:creator>
  <dc:description/>
  <dc:language>en-US</dc:language>
  <cp:lastModifiedBy>Dani</cp:lastModifiedBy>
  <dcterms:modified xsi:type="dcterms:W3CDTF">2008-11-18T15:21:21Z</dcterms:modified>
  <cp:revision>13</cp:revision>
  <dc:subject/>
  <dc:title>EL SO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